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CAEB-F936-4897-8F58-6925F5CA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C3BE-29D6-4E26-BBD2-5F8D38B9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30A4-427B-464D-A7C4-C6EAA8B5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8349-209A-46FD-805A-D86EB1C3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D2B9-7C24-4A98-948F-16A0BFF5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CFAD-2C1E-4BC2-B025-B0EDD8B1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5EC9-72C8-4DC2-B105-39390A74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131C-E9F0-4E1B-B560-E44709C7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3D13-2425-4FBF-B3FF-EEA9718F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F2FE-C8DB-4DEB-A62D-131DD604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8F63-AE25-4648-8D9C-7B119664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894A-EA3F-4AA5-9228-223EB93E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53D8-7573-41A2-AD87-04B5E19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6516-19D3-4231-A68F-4E9DADD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D9E1-6E0E-406A-A523-5DA3C99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013F-6639-40C7-9072-2EDCF68C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B71E-4D9D-4D84-A890-65082892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BEF0-6924-4483-AD56-FCE62F44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6C7D-D5A0-4AA7-853C-94963EDD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470D-AAB2-4160-A442-5A9E6B9B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2398-1EBF-4474-A0A9-184AC310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3F1F-2265-447B-B5AA-C559927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7C8C-93EF-4774-B0A5-0A0F6D42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D813-D8AE-448B-880C-06E2790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ACA4-C915-4658-AFDA-9B0BF096BE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DBCD-DB5B-4EA4-A1B7-DA2219B95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Problems and Solutions in Resear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elf-Fulfilling Prophe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lf-Fulfilling Prophec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er’s expectations influence his/her own behavior, and thereby influence the participant’s behavior (e.g. thinking a subject will respond in a certain way, and unassumingly acting in a manner that will cause the subject to then do s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voiding a Self-Fulfilling Prophe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ingle-Blind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nts are unaware of which participants received the treatment (e.g. participants do not know which participants received “Red Bull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ouble-Blind Experi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nts and experimenter(s) are unaware of which participants received the treatment (e.g. participants and experimenter(s) do not know which participants received “Red Bull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voiding a Self-Fulfilling Prophe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In what way do single-blind an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double-blind experiments help avoi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self-fulfilling prophecies on behalf of the </a:t>
            </a:r>
            <a:r>
              <a:rPr b="1" i="1" lang="en-US" sz="4400" spc="-1" strike="noStrike">
                <a:solidFill>
                  <a:srgbClr val="ff9900"/>
                </a:solidFill>
                <a:latin typeface="Garamond"/>
              </a:rPr>
              <a:t>experimenter</a:t>
            </a:r>
            <a:r>
              <a:rPr b="1" i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4400" spc="-1" strike="noStrike">
                <a:solidFill>
                  <a:srgbClr val="ff9900"/>
                </a:solidFill>
                <a:latin typeface="Garamond"/>
              </a:rPr>
              <a:t>participants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acebo Ef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lacebo Effec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hange in a participant’s behavior that results from 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elie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at the treatment will have an effect, rather than the actual treatment (e.g. participant thinks he is receiving “Red Bull,” but instead receives non-caffeinated soda, and still “feels energized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524560" y="2143080"/>
            <a:ext cx="30099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acebo Ef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14176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lacebo effect is not deception, fluke, experimenter bias, or statistical anomaly, but a product of expec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t is believed to be the product of chemical changes in the bra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umerous studies have supported the conclusion that endorphins in the brain produce the placebo effe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t one time, researchers viewed the placebo effect as an impediment--a statistical annoyance that got in the way of objectively evaluating the efficacy of potentially legitimate therapies.  This IS NOT the currently accepted vie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it Tick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a self-fulfilling prophecy in psychological research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two ways in which researchers can avoid a self-fulfilling prophecy on behalf of the researcher(s) and participant(s)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a placebo effec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the placebo effect a problem for psychological research?  Expl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09-24T10:47:10Z</dcterms:modified>
  <cp:revision>102</cp:revision>
  <dc:subject/>
  <dc:title>Chapter 8: Sensation and Perception</dc:title>
</cp:coreProperties>
</file>