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4A05-35AE-4F05-BA2A-9119DC63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80C1-1150-4A4E-825B-56DF5D0B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66A3-B3F7-4ED9-BACA-9F6FFEF6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FBDC-F029-494F-9A7C-BA632553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AD2E-CA1B-4ABA-A876-17EB15F1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630D-80B5-44E0-86AD-2EEE5D76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33E0-2067-4318-ADB6-140F134E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A107-A0C4-4E2A-9826-5FAEA4B6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5AE8-91F4-49D3-80FC-B7AC4068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F09B-C6F2-42D1-AEC8-84FB2B5D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7333-7D4A-4B99-9B08-BF79DEBE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8AF1-2CC9-4253-94FF-626C8F22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033C-6521-4FAF-A5B2-7B68B262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88AE-AF46-44B2-A87E-BEDCF84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689B-A6BE-4153-B36A-7A70741C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2CF0-4D6A-4B2C-90A3-67A14BA5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01BA-166E-4EF0-B477-28845CA2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C2A5-2F59-4633-B5A2-91531101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467D-F699-4C28-A67B-1BC5F3D8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2B77-9C89-4A7A-9A8B-FF831B76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DD5B9-277B-4738-9480-FD89ED23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345E-4F88-4CDB-A022-35CA8E83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95EB-2FFD-401A-90B5-8843A58F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D33E-A001-47E9-B9E1-1E07733C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3E53-1C19-4A2D-AC8F-92E4CF8F8C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BB5F-A7E5-42E8-ADB2-A6DD8DEC3C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Problems and Solutions in Researc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elf-Fulfilling Prophe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lf-Fulfilling Prophec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archer’s expectations influence his/her own behavior, and thereby influence the participant’s behavior (e.g. thinking a subject will respond in a certain way, and unassumingly acting in a manner that will cause the subject to then do s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voiding a Self-Fulfilling Prophe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ingle-Blind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nts are unaware of which participants received the treatment (e.g. participants do not know which participants received “Red Bull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ouble-Blind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nts and experimenter(s) are unaware of which participants received the treatment (e.g. participants and experimenter(s) do not know which participants received “Red Bull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voiding a Self-Fulfilling Prophe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In what way do single-blind and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double-blind experiments help avoid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self-fulfilling prophecies on behalf of the </a:t>
            </a:r>
            <a:r>
              <a:rPr b="1" i="1" lang="en-US" sz="4400" spc="-1" strike="noStrike">
                <a:solidFill>
                  <a:srgbClr val="ff9900"/>
                </a:solidFill>
                <a:latin typeface="Garamond"/>
              </a:rPr>
              <a:t>experimenter</a:t>
            </a:r>
            <a:r>
              <a:rPr b="1" i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i="1" lang="en-US" sz="4400" spc="-1" strike="noStrike">
                <a:solidFill>
                  <a:srgbClr val="ff9900"/>
                </a:solidFill>
                <a:latin typeface="Garamond"/>
              </a:rPr>
              <a:t>participants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lacebo Ef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lacebo Effec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hange in a participant’s behavior that results from 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elie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at the treatment will have an effect, rather than the actual treatment (e.g. participant thinks he is receiving “Red Bull,” but instead receives non-caffeinated soda, and still “feels energized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524560" y="2143080"/>
            <a:ext cx="30099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lacebo Ef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14176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lacebo effect is not deception, fluke, experimenter bias, or statistical anomaly, but a product of expec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t is believed to be the product of chemical changes in the bra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umerous studies have supported the conclusion that endorphins in the brain produce the placebo effe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t one time, researchers viewed the placebo effect as an impediment--a statistical annoyance that got in the way of objectively evaluating the efficacy of potentially legitimate therapies.  This IS NOT the currently accepted vie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it Tick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a self-fulfilling prophecy in psychological research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two ways in which researchers can avoid a self-fulfilling prophecy on behalf of the researcher(s) and participant(s)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a placebo effec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the placebo effect a problem for psychological research?  Expl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09-24T10:47:10Z</dcterms:modified>
  <cp:revision>102</cp:revision>
  <dc:subject/>
  <dc:title>Chapter 8: Sensation and Perception</dc:title>
</cp:coreProperties>
</file>