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5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8A79-717A-4965-A07D-49E90ADAA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AE60-6D96-4AEA-B8DB-F88A53211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449-B6A1-4292-B702-1940583F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ADA-D023-45C0-A8A3-445B8BBF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774-2736-49B2-833B-662029D2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CF5-494D-45C8-973E-64274428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201-5CFF-492F-9797-9640908E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918-CF34-44C8-87EA-E893CA2D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17A-93EE-4F2E-AD20-4068674F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B1E-6AD5-4EF2-BED7-564D050C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50A-F49B-4E71-BF36-8207A013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00C-2DDC-4709-B296-61118E9A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AEA-BC27-4664-9CBF-4399E1B2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5A7-D411-4005-B94F-37A0A82A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aa38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6AB2-FB0B-46B6-84E5-F4981AE3C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7.xml"/><Relationship Id="rId3" Type="http://schemas.openxmlformats.org/officeDocument/2006/relationships/slide" Target="slide69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01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y’s 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67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eaction time experiment (demonstrated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is a difference between actual perception &amp; one’s awareness of one’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wn perception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eaction time experiment (demonstrated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is a difference between actual perception &amp; one’s awareness of one’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wn perception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experiment designed                      specifically to measure mental            processes; led to Wundt being                             called the “father of experimental         psychology.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eaction time experiment (demonstrated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is a difference between actual perception &amp; one’s awareness of one’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wn perception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experiment designed                      specifically to measure mental            processes; led to Wundt being                             called the “father of experimental         psychology.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of his students, G. Stanley Hall,           established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U.S. Psychology            laboratory, at Johns Hopkins                       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0" y="114300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31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tent Placeholder 2"/>
          <p:cNvSpPr/>
          <p:nvPr/>
        </p:nvSpPr>
        <p:spPr>
          <a:xfrm>
            <a:off x="0" y="114300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 as a science in the lat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ear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entury would soon become organized into varied schools of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0" y="114300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 as a science in the lat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ear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entury would soon become organized into varied schools of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early schools w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1" action="ppaction://hlinksldjump"/>
              </a:rPr>
              <a:t>Struc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2" action="ppaction://hlinksldjump"/>
              </a:rPr>
              <a:t>Func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3" action="ppaction://hlinksldjump"/>
              </a:rPr>
              <a:t>Behavio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the the mind by breaking it down into component parts (or 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the the mind by breaking it down into component parts (or 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ations and thoughts were                       structures of the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4400" y="717480"/>
            <a:ext cx="91440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the the mind by breaking it down into component parts (or 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ations and thoughts were                       structures of the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alism was strictly based on intro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alism was strictly based on intro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y strict experimental                                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alism was strictly based on intro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y strict experimental                                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fter Titchener’s death,                                 structuralism fad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09680"/>
            <a:ext cx="357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11480"/>
            <a:ext cx="3573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mind help                         the individual adapt to                          his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11480"/>
            <a:ext cx="3573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mind help                         the individual adapt to                          his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ased on Darwin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09680"/>
            <a:ext cx="357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escientific Psycholog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cient Greek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ology has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oo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ncient Greek Philosophy (600-400 B.C.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rates/Plato-mind is separate from the body &amp; knowledge is born withi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stotle-believed careful observation was the key; knowledge NOT in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267080" y="175248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rates, Plato and Aristo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mind help                         the individual adapt to                          his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ased on Darwin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09680"/>
            <a:ext cx="357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ration of behavior &amp; thinking through scientific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ration of behavior &amp; thinking through scientific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y Calkins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complete doctoral coursework; also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be president of the APA (American Psychologica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KKorek\Documents\ABCFiles\2013 Myers AP 2e\Images\Total Images\MyAP2e_1UN06.jpg"/>
          <p:cNvPicPr/>
          <p:nvPr/>
        </p:nvPicPr>
        <p:blipFill>
          <a:blip r:embed="rId1"/>
          <a:stretch/>
        </p:blipFill>
        <p:spPr>
          <a:xfrm>
            <a:off x="1000080" y="5105520"/>
            <a:ext cx="2157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ration of behavior &amp; thinking through scientific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y Calkins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complete doctoral coursework; also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be president of the APA (American Psychologica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garet Floy Washburn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be granted a PhD in psyc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KKorek\Documents\ABCFiles\2013 Myers AP 2e\Images\Total Images\MyAP2e_1UN06.jpg"/>
          <p:cNvPicPr/>
          <p:nvPr/>
        </p:nvPicPr>
        <p:blipFill>
          <a:blip r:embed="rId1"/>
          <a:stretch/>
        </p:blipFill>
        <p:spPr>
          <a:xfrm>
            <a:off x="1000080" y="5105520"/>
            <a:ext cx="2157480" cy="1752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KKorek\Documents\ABCFiles\2013 Myers AP 2e\Images\Total Images\MyAP2e_1UN07.jpg"/>
          <p:cNvPicPr/>
          <p:nvPr/>
        </p:nvPicPr>
        <p:blipFill>
          <a:blip r:embed="rId2"/>
          <a:stretch/>
        </p:blipFill>
        <p:spPr>
          <a:xfrm>
            <a:off x="6095880" y="5105520"/>
            <a:ext cx="221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logy was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ce of mental                         li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escientific Psycholog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76320" y="1371600"/>
            <a:ext cx="90676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ne Descar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rancis Bac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ohn Loc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1" action="ppaction://hlinksldjump"/>
              </a:rPr>
              <a:t>Empiric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457200" y="1523880"/>
            <a:ext cx="115063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agreed with &amp; built on the idea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rates &amp; Plato that the mind &amp; body were 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a founder of modern science, 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uence can still be seen in modern psychological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Tabula Rasa (blank slate); we are bo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ing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logy was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ce of mental                         li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definition of psychology would                        persist until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logy was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ce of mental                         li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definition of psychology would                        persist until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eud’s influence on psychology would                        continue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eudian psycholog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ould                                 be a major force in psychology until the 1960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hn B. 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Users\KKorek\Documents\ABCFiles\2013 Myers AP 2e\Images\Total Images\MyAP2e_1UN08.jpg"/>
          <p:cNvPicPr/>
          <p:nvPr/>
        </p:nvPicPr>
        <p:blipFill>
          <a:blip r:embed="rId1"/>
          <a:stretch/>
        </p:blipFill>
        <p:spPr>
          <a:xfrm>
            <a:off x="6553080" y="838080"/>
            <a:ext cx="22100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hn B. 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salie Ray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KKorek\Documents\ABCFiles\2013 Myers AP 2e\Images\Total Images\MyAP2e_1UN08.jpg"/>
          <p:cNvPicPr/>
          <p:nvPr/>
        </p:nvPicPr>
        <p:blipFill>
          <a:blip r:embed="rId1"/>
          <a:stretch/>
        </p:blipFill>
        <p:spPr>
          <a:xfrm>
            <a:off x="6553080" y="838080"/>
            <a:ext cx="2210040" cy="2813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Users\KKorek\Documents\ABCFiles\2013 Myers AP 2e\Images\Total Images\MyAP2e_1UN09.jpg"/>
          <p:cNvPicPr/>
          <p:nvPr/>
        </p:nvPicPr>
        <p:blipFill>
          <a:blip r:embed="rId2"/>
          <a:stretch/>
        </p:blipFill>
        <p:spPr>
          <a:xfrm>
            <a:off x="6553080" y="3827520"/>
            <a:ext cx="22100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hn B. 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salie Ray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ttle Albert”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KKorek\Documents\ABCFiles\2013 Myers AP 2e\Images\Total Images\MyAP2e_1UN08.jpg"/>
          <p:cNvPicPr/>
          <p:nvPr/>
        </p:nvPicPr>
        <p:blipFill>
          <a:blip r:embed="rId1"/>
          <a:stretch/>
        </p:blipFill>
        <p:spPr>
          <a:xfrm>
            <a:off x="6553080" y="838080"/>
            <a:ext cx="2210040" cy="2813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KKorek\Documents\ABCFiles\2013 Myers AP 2e\Images\Total Images\MyAP2e_1UN09.jpg"/>
          <p:cNvPicPr/>
          <p:nvPr/>
        </p:nvPicPr>
        <p:blipFill>
          <a:blip r:embed="rId2"/>
          <a:stretch/>
        </p:blipFill>
        <p:spPr>
          <a:xfrm>
            <a:off x="6553080" y="3827520"/>
            <a:ext cx="2210040" cy="2828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Users\KKorek\Documents\ABCFiles\2013 Myers AP 2e\Images\Total Images\MyAP2e_26UN06.jpg"/>
          <p:cNvPicPr/>
          <p:nvPr/>
        </p:nvPicPr>
        <p:blipFill>
          <a:blip r:embed="rId3"/>
          <a:stretch/>
        </p:blipFill>
        <p:spPr>
          <a:xfrm>
            <a:off x="304920" y="5181480"/>
            <a:ext cx="6095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62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of observable behavi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of observable behavi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inforcement-if actions lead                        to positive outcomes, those                    outcomes are more likely to                               be repeated, and vice 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of observable behavi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inforcement-if actions lead                        to positive outcomes, those                    outcomes are more likely to                               be repeated, and vice 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nt conditioning: use of                reinforcement to cause the                   repetition of desired                           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helm Wun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oration of human’s perception, processing, &amp; memory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oration of human’s perception, processing, &amp; memory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Phrenology                                          -Brai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1600200"/>
            <a:ext cx="914400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Briefly </a:t>
            </a:r>
            <a:r>
              <a:rPr b="0" i="1" lang="en-US" sz="3600" spc="-1" strike="noStrike">
                <a:solidFill>
                  <a:srgbClr val="262626"/>
                </a:solidFill>
                <a:latin typeface="Arial"/>
              </a:rPr>
              <a:t>describe</a:t>
            </a: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 (2-4 sentences) one of these </a:t>
            </a: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Historical Approaches </a:t>
            </a: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to Psycholog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Struc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Func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Behavio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Freudian Psych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Humanistic Psych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ognitive Neuro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d9aa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Definition Slides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ction Button: Custom 2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mpiri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view that knowledge originates in experience and that science should, therefore, rely on observation and experim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ction Button: Back or Previous 4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ructur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early school of psychological thought that used introspection to reveal the structure of the human m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unction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school of psychological thought that explored how mental and behavioral processes function – how they enable the organism to adapt, survive, and flour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behavior and thinking using the experimental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view that psychology (1) should be an objective science that (2) studies behavior without reference to mental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research psychologists today agree with (1) but not with (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helm Wun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sychological laboratory-                      University of Leipzig (187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historically significant perspective that emphasized the growth potential of healthy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interdisciplinary study of the brain activity linked with cognition (including perception, thinking, memory, and languag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ce of behavior and mental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ture-Nurture 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longstanding controversy over the relative contributions that genes and experience make to the development of psychological traits and behavi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day’s science sees traits and behaviors arising from the interaction of nature and nur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principle that, among the range of inherited trait variations, those contributing to reproduction and survival will most likely be passed on to succeeding gen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ls of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differing complementary views, from biological to psychological to social-cultural, for analyzing any given phenomen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iopsychosocial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n integrated approach that incorporates biological, psychological, and social-cultural levels of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observable behavior, and its explanation by principles of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iologic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the links between biological (genetic, neural, hormonal) and psychological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biological psychologists call themsel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neuroscientis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uropsychologis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 geneticis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siological psychologists,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psychologi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Action Button: Back or Previous 3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gnitive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all the mental activities associated with thinking, knowing, remembering, and communic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helm Wun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sychological laboratory-                      University of Leipzig (187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the self-examinat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nscious experience by                   objective observation of one's     consciou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volutionary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the evolution of behavior and mind, using principles of natural sel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odynamic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 how unconscious drives and conflicts influence behavior, and uses that information to treat people with psychological disor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cial-Cultur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how situations and cultures affect our behavior and thin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o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the measurement of human abilities, attitudes, and tra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sic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pure science that aims to increase the scientific knowledge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velopment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 physical, cognitive, and social change throughout the life sp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ducation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how psychological processes affect and can enhance teaching and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ersonality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an individual’s characteristic pattern of thinking, feeling, and ac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ci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how we think about, influence, and relate to one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pplie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cientific study that aims to solve practical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dustrial-Organizational (I/O) Psycholog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application of psychological concepts and methods to optimizing human behavior in workpl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uman Factors Psycholog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n I/O subfield that explores how people and machines interact and how machines and physical environments can be made safe and easy to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unseling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assists people with problems in living (often related to school, work, and marriage) and in achieving greater well-be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inic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, assesses, and treat people with psychological disor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ia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medicine dealing with psychological disorders; practiced by physicians who often provide medical (for example, drug) treatments as well as psychological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sitive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human functioning, with the goals of discovering and promoting strengths and virtues that help individuals and communities to thr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unity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 how people interact with their social environments and how social institutions affect individuals and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ing Ef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enhanced memory after retrieving, rather than simply rereading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sometimes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trieval practice 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-enhanced l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Q3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study method incorporating five steps; Survey, Question, Read, Rehearse, Re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5-09-03T10:45:53Z</dcterms:modified>
  <cp:revision>278</cp:revision>
  <dc:subject/>
  <dc:title>Slide 1</dc:title>
</cp:coreProperties>
</file>