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ADD-23F4-45E9-9D79-44F32681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186-0E0D-4D5E-9ED3-8DEE365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082-76D3-4AA1-A6D1-477FB566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DFF-8BAD-4C4D-887F-6BB7E290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606-C712-4B18-9ACB-D3533C48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5C77-2871-41F5-900D-C8191595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8A9-632C-4D7B-9D63-17D17077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E44F-419F-44F0-B06D-408AA17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9D4-D9D8-491D-9D06-6F6ED01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739-682C-4B5A-BFD3-4A7A96D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8BA-DE75-4ED2-923F-D82ED20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D46-45A0-43D7-9CA6-843A2B7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A983-8053-49C9-B0B6-1DA4DA2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4933-3CA3-4D5B-AFF3-BC7970F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275-484C-4B56-B509-9FDE1AD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2B79-3E45-4CDB-8793-6792C45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2AE-F58E-403D-8D45-BA352111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95CF-0352-448A-B28D-B31889A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B6EC-7FB3-4482-A2DC-8F82C25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DA25-E89B-4BE6-B743-5D65641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1A06-D5C4-4824-AA00-90EA23E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D926-5C7E-4F65-A9A1-EC5A3AA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6AC-00EB-4C3B-9AD3-3737654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7C4A-2812-43CD-ACB5-A6411C8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CDD0-6D40-4124-9B7E-6F5B483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1F1A-CF6A-4AC9-9B1D-5019D34E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D17A-2B3F-44D3-A379-F5D2BBC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7BFD-DBBC-4F8D-AE95-94B5E3A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3D5E-2789-46E9-9185-0B90FE0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1A98-D418-4F41-A7A5-9113C551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6A7E-E5EC-452C-99AD-75039234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9499-1D24-4267-9282-D790F00B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0608-4382-4F55-B919-D63B93F9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75A-1AD4-4DB6-8D0D-60403CB7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5D37-8633-4742-B8B5-ACF2644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2399-88BB-49F1-9C14-C970797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CF88-B789-4E0E-9A6D-854E3FF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EA47-B4ED-43E6-92CF-4A5BAB7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A664-7FBB-4CF7-A0A4-CC9DA26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70B6-D395-4544-8FB2-95C0747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5207-CF2A-486C-830A-8D7A109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B5C5-956D-4D0D-9FC7-F91BF9CF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B788-60DC-43DE-86C7-16B97803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A07-82F9-4291-ADDE-C9E79E6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202-D1A3-4E92-B8D1-0DEA80B1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B9F-5E59-4A00-8750-47D34AE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909-2B47-4365-9B4C-DD9A4FA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75F-68ED-4584-9A44-6294B07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BC5-50C7-4197-ACEA-CCAE8E440DA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8326-9C26-4679-AAEE-1B54834FCFB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A0F1-CD54-4A51-9F92-A88E8F8C7E8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DCE-088C-4F73-B4A2-139F14D76E1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3.xml"/><Relationship Id="rId2" Type="http://schemas.openxmlformats.org/officeDocument/2006/relationships/slide" Target="slide154.xml"/><Relationship Id="rId3" Type="http://schemas.openxmlformats.org/officeDocument/2006/relationships/slide" Target="slide155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6.xml"/><Relationship Id="rId2" Type="http://schemas.openxmlformats.org/officeDocument/2006/relationships/slide" Target="slide157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8.xml"/><Relationship Id="rId2" Type="http://schemas.openxmlformats.org/officeDocument/2006/relationships/slide" Target="slide139.xml"/><Relationship Id="rId3" Type="http://schemas.openxmlformats.org/officeDocument/2006/relationships/slide" Target="slide140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3.xml"/><Relationship Id="rId2" Type="http://schemas.openxmlformats.org/officeDocument/2006/relationships/slide" Target="slide144.xml"/><Relationship Id="rId3" Type="http://schemas.openxmlformats.org/officeDocument/2006/relationships/slide" Target="slide14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48.xml"/><Relationship Id="rId3" Type="http://schemas.openxmlformats.org/officeDocument/2006/relationships/slide" Target="slide149.xml"/><Relationship Id="rId4" Type="http://schemas.openxmlformats.org/officeDocument/2006/relationships/slide" Target="slide150.xml"/><Relationship Id="rId5" Type="http://schemas.openxmlformats.org/officeDocument/2006/relationships/slide" Target="slide151.xm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90c226"/>
                </a:solidFill>
                <a:latin typeface="Arial"/>
                <a:ea typeface="Arial"/>
              </a:rPr>
              <a:t>Unit 13 </a:t>
            </a:r>
            <a:br>
              <a:rPr sz="5400"/>
            </a:br>
            <a:r>
              <a:rPr b="1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Meghan Lewis &amp; Zyaeja Warr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Cognitive-                                              behavioral                                               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KKorek\Documents\ABCFiles\2013 Myers AP 2e\Images\ImageJPGs_Module71\ImageJPGs_Module71\MyAP2e_71UN04.jpg"/>
          <p:cNvPicPr/>
          <p:nvPr/>
        </p:nvPicPr>
        <p:blipFill>
          <a:blip r:embed="rId4"/>
          <a:stretch/>
        </p:blipFill>
        <p:spPr>
          <a:xfrm>
            <a:off x="3962520" y="3216240"/>
            <a:ext cx="4486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End of Day 1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Describe the promotions of humanistic therapies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a goal of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is psychodynamic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7f7f7f"/>
                </a:solidFill>
                <a:latin typeface="Trebuchet MS"/>
              </a:rPr>
              <a:t>t Ticket: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Rational Emotive Behavior 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0" y="22557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ational Emotive 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bert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llenge people’s                              way of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KKorek\Documents\ABCFiles\2013 Myers AP 2e\Images\ImageJPGs_Module71\ImageJPGs_Module71\MyAP2e_71UN05.jpg"/>
          <p:cNvPicPr/>
          <p:nvPr/>
        </p:nvPicPr>
        <p:blipFill>
          <a:blip r:embed="rId2"/>
          <a:stretch/>
        </p:blipFill>
        <p:spPr>
          <a:xfrm>
            <a:off x="4876920" y="3298680"/>
            <a:ext cx="41148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aron Beck’s Therapy for Depression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0" y="225576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aron Beck’s therapy for    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strophizing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eals irrational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tler than                              rational-emo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KKorek\Documents\ABCFiles\2013 Myers AP 2e\Images\Total Images\MyAP2e_70UN04.jpg"/>
          <p:cNvPicPr/>
          <p:nvPr/>
        </p:nvPicPr>
        <p:blipFill>
          <a:blip r:embed="rId1"/>
          <a:stretch/>
        </p:blipFill>
        <p:spPr>
          <a:xfrm>
            <a:off x="6324480" y="2133720"/>
            <a:ext cx="2819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-Behavioral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152280" y="225576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gnitive-behavioral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ines cognitive and behavioral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to change the person’s thinking and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9139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00" y="423720"/>
            <a:ext cx="91440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Group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Family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lf-help                                              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KKorek\Documents\ABCFiles\2013 Myers AP 2e\Images\ImageJPGs_Module71\ImageJPGs_Module71\MyAP2e_71UN06.jpg"/>
          <p:cNvPicPr/>
          <p:nvPr/>
        </p:nvPicPr>
        <p:blipFill>
          <a:blip r:embed="rId3"/>
          <a:stretch/>
        </p:blipFill>
        <p:spPr>
          <a:xfrm>
            <a:off x="3581280" y="3192480"/>
            <a:ext cx="5257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valuating Alternative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ye movement desensitization and reprocessing (EMD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ght exposur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asonal affective                                disorder (S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KKorek\Documents\ABCFiles\2013 Myers AP 2e\Images\ImageJPGs_Module72\ImageJPGs_Module72\MyAP2e_72UN03.jpg"/>
          <p:cNvPicPr/>
          <p:nvPr/>
        </p:nvPicPr>
        <p:blipFill>
          <a:blip r:embed="rId1"/>
          <a:stretch/>
        </p:blipFill>
        <p:spPr>
          <a:xfrm>
            <a:off x="6305400" y="3505320"/>
            <a:ext cx="2381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Picture 2" descr="C:\Users\KKorek\Documents\ABCFiles\2013 Myers AP 2e\Images\ImageJPGs_Module70\ImageJPGs_Module70\MyAP2e_70UN03.jpg"/>
          <p:cNvPicPr/>
          <p:nvPr/>
        </p:nvPicPr>
        <p:blipFill>
          <a:blip r:embed="rId1"/>
          <a:stretch/>
        </p:blipFill>
        <p:spPr>
          <a:xfrm>
            <a:off x="2797200" y="3200400"/>
            <a:ext cx="6041880" cy="3417840"/>
          </a:xfrm>
          <a:prstGeom prst="rect">
            <a:avLst/>
          </a:prstGeom>
          <a:ln w="0">
            <a:noFill/>
          </a:ln>
        </p:spPr>
      </p:pic>
      <p:sp>
        <p:nvSpPr>
          <p:cNvPr id="215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als of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ommonalities Among Psycho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pe for demoralized          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new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 empathic, trusting,                   caring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Users\KKorek\Documents\ABCFiles\2013 Myers AP 2e\Images\ImageJPGs_Module72\ImageJPGs_Module72\MyAP2e_72UN04.jpg"/>
          <p:cNvPicPr/>
          <p:nvPr/>
        </p:nvPicPr>
        <p:blipFill>
          <a:blip r:embed="rId1"/>
          <a:stretch/>
        </p:blipFill>
        <p:spPr>
          <a:xfrm>
            <a:off x="6019920" y="2209680"/>
            <a:ext cx="2971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Evaluating Psychotherapies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Culture, Gender, and Values in Psychotherapy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2286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milarities between 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             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KKorek\Documents\ABCFiles\2013 Myers AP 2e\Images\Total Images\MyAP2e_72UN01.jpg"/>
          <p:cNvPicPr/>
          <p:nvPr/>
        </p:nvPicPr>
        <p:blipFill>
          <a:blip r:embed="rId1"/>
          <a:stretch/>
        </p:blipFill>
        <p:spPr>
          <a:xfrm>
            <a:off x="5280120" y="2590920"/>
            <a:ext cx="36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760" y="456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pharma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actors to consider with drug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 recovery rate of untreated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cebo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uble blind                                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KKorek\Documents\ABCFiles\2013 Myers AP 2e\Images\ImageJPGs_Module73\ImageJPGs_Module73\MyAP2e_73UN01.jpg"/>
          <p:cNvPicPr/>
          <p:nvPr/>
        </p:nvPicPr>
        <p:blipFill>
          <a:blip r:embed="rId1"/>
          <a:stretch/>
        </p:blipFill>
        <p:spPr>
          <a:xfrm>
            <a:off x="5086440" y="4019400"/>
            <a:ext cx="3752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psychotic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psycho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sych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lorpromazine                    (Thoraz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p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rdive dysk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isperidone and olanza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KKorek\Documents\ABCFiles\2013 Myers AP 2e\Images\Total Images\MyAP2e_9UN03.jpg"/>
          <p:cNvPicPr/>
          <p:nvPr/>
        </p:nvPicPr>
        <p:blipFill>
          <a:blip r:embed="rId1"/>
          <a:stretch/>
        </p:blipFill>
        <p:spPr>
          <a:xfrm>
            <a:off x="4648320" y="2317680"/>
            <a:ext cx="43434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Antidepressant Drug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depressant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 with mood and anxiety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uoxetine (Prozac), Pax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ive-serotonin-reuptak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ur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de effects of                   antidepress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C:\Users\KKorek\Documents\ABCFiles\2013 Myers AP 2e\Images\ImageJPGs_Module73\ImageJPGs_Module73\MyAP2e_73UN02.jpg"/>
          <p:cNvPicPr/>
          <p:nvPr/>
        </p:nvPicPr>
        <p:blipFill>
          <a:blip r:embed="rId1"/>
          <a:stretch/>
        </p:blipFill>
        <p:spPr>
          <a:xfrm>
            <a:off x="4800600" y="4343400"/>
            <a:ext cx="3914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Drug Therapies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Mood Stabilizing Me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od-stabilizing med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h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ak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KKorek\Documents\ABCFiles\2013 Myers AP 2e\Images\ImageJPGs_Module73\ImageJPGs_Module73\MyAP2e_73UN05.jpg"/>
          <p:cNvPicPr/>
          <p:nvPr/>
        </p:nvPicPr>
        <p:blipFill>
          <a:blip r:embed="rId1"/>
          <a:stretch/>
        </p:blipFill>
        <p:spPr>
          <a:xfrm>
            <a:off x="3429000" y="3049560"/>
            <a:ext cx="54864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Electroconvulsive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vere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blems/side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6400800" y="2392200"/>
            <a:ext cx="25336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90c226"/>
                </a:solidFill>
                <a:latin typeface="Arial"/>
                <a:ea typeface="Arial"/>
              </a:rPr>
              <a:t>Brain Stimulation</a:t>
            </a:r>
            <a:br>
              <a:rPr sz="4300"/>
            </a:br>
            <a:r>
              <a:rPr b="0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Alternative Neurostimulation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gnetic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titive transcranial magnetic stimulations                                 (rT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p-Brain                        St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4572000" y="3446640"/>
            <a:ext cx="3782880" cy="31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4567320" y="6397560"/>
            <a:ext cx="10094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00" y="504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surger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bo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KKorek\Documents\ABCFiles\2013 Myers AP 2e\Images\ImageJPGs_Module73\ImageJPGs_Module73\MyAP2e_73UN06.jpg"/>
          <p:cNvPicPr/>
          <p:nvPr/>
        </p:nvPicPr>
        <p:blipFill>
          <a:blip r:embed="rId1"/>
          <a:stretch/>
        </p:blipFill>
        <p:spPr>
          <a:xfrm>
            <a:off x="5029200" y="1039680"/>
            <a:ext cx="38289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Therapeutic Lifestyle Change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22860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grated biopsychosoci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rapeutic life-styl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erobic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equate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ght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ti-r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tritional supp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KKorek\Documents\ABCFiles\2013 Myers AP 2e\Images\ImageJPGs_Module73\ImageJPGs_Module73\MyAP2e_73UN07.jpg"/>
          <p:cNvPicPr/>
          <p:nvPr/>
        </p:nvPicPr>
        <p:blipFill>
          <a:blip r:embed="rId1"/>
          <a:stretch/>
        </p:blipFill>
        <p:spPr>
          <a:xfrm>
            <a:off x="4343400" y="2630520"/>
            <a:ext cx="4533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 Techniqu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eam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Trans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KKorek\Documents\ABCFiles\2013 Myers AP 2e\Images\Total Images\MyAP2e_1UN11.jpg"/>
          <p:cNvPicPr/>
          <p:nvPr/>
        </p:nvPicPr>
        <p:blipFill>
          <a:blip r:embed="rId4"/>
          <a:stretch/>
        </p:blipFill>
        <p:spPr>
          <a:xfrm>
            <a:off x="4876920" y="1563840"/>
            <a:ext cx="41241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Comparing Biomedical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0" y="2239920"/>
            <a:ext cx="9134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58258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90c226"/>
                </a:solidFill>
                <a:latin typeface="Arial"/>
                <a:ea typeface="Arial"/>
              </a:rPr>
              <a:t>The End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Exit Ticket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What are some factors to consider with drug therap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Give an example of an antipsychotic drug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Is psychosurgery used today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Psychoanalysis and Psychodynamic Therapy</a:t>
            </a:r>
            <a:br>
              <a:rPr sz="4800"/>
            </a:br>
            <a:r>
              <a:rPr b="0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Psychodynamic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ms of psychodynamic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milarities with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fferences with              psycho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KKorek\Documents\ABCFiles\2013 Myers AP 2e\Images\Total Images\MyAP2e_22UN03.jpg"/>
          <p:cNvPicPr/>
          <p:nvPr/>
        </p:nvPicPr>
        <p:blipFill>
          <a:blip r:embed="rId2"/>
          <a:stretch/>
        </p:blipFill>
        <p:spPr>
          <a:xfrm>
            <a:off x="4673520" y="3862440"/>
            <a:ext cx="44704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00" y="7632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Insight therap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manistic therapies promo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ost people’s self-fulfill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moting growth instead of c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ing immediate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7632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lient-centered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ndirective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uineness, acceptance, and em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Active lis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ite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lect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Unconditional positive re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KKorek\Documents\ABCFiles\2013 Myers AP 2e\Images\ImageJPGs_Module70\ImageJPGs_Module70\MyAP2e_70UN05.jpg"/>
          <p:cNvPicPr/>
          <p:nvPr/>
        </p:nvPicPr>
        <p:blipFill>
          <a:blip r:embed="rId4"/>
          <a:stretch/>
        </p:blipFill>
        <p:spPr>
          <a:xfrm>
            <a:off x="4597560" y="3398760"/>
            <a:ext cx="4292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Module 71:</a:t>
            </a:r>
            <a:br>
              <a:rPr sz="4300"/>
            </a:br>
            <a:r>
              <a:rPr b="1" lang="en-US" sz="4300" spc="-1" strike="noStrike">
                <a:solidFill>
                  <a:srgbClr val="90c226"/>
                </a:solidFill>
                <a:latin typeface="Arial"/>
                <a:ea typeface="Arial"/>
              </a:rPr>
              <a:t>Behavior, Cognitive, and Group Therapies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209600" y="2374920"/>
            <a:ext cx="67914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00" y="3805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Behavior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ical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KKorek\Documents\ABCFiles\2013 Myers AP 2e\Images\ImageJPGs_Module71\ImageJPGs_Module71\MyAP2e_71UN01.jpg"/>
          <p:cNvPicPr/>
          <p:nvPr/>
        </p:nvPicPr>
        <p:blipFill>
          <a:blip r:embed="rId2"/>
          <a:stretch/>
        </p:blipFill>
        <p:spPr>
          <a:xfrm>
            <a:off x="2286000" y="3610080"/>
            <a:ext cx="4724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br>
              <a:rPr sz="4800"/>
            </a:br>
            <a:r>
              <a:rPr b="0" lang="en-US" sz="4600" spc="-1" strike="noStrike">
                <a:solidFill>
                  <a:srgbClr val="90c226"/>
                </a:solidFill>
                <a:latin typeface="Arial"/>
                <a:ea typeface="Arial"/>
              </a:rPr>
              <a:t>Classical Conditioning Techniques</a:t>
            </a:r>
            <a:endParaRPr b="0" lang="en-US" sz="4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76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 action="ppaction://hlinksldjump"/>
              </a:rPr>
              <a:t>Counter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 action="ppaction://hlinksldjump"/>
              </a:rPr>
              <a:t>Exposure thera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 action="ppaction://hlinksldjump"/>
              </a:rPr>
              <a:t>Systematic desens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4" action="ppaction://hlinksldjump"/>
              </a:rPr>
              <a:t>Virtual reality exposur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a3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5" action="ppaction://hlinksldjump"/>
              </a:rPr>
              <a:t>Aversive cond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KKorek\Documents\ABCFiles\2013 Myers AP 2e\Images\ImageJPGs_Module71\ImageJPGs_Module71\MyAP2e_71UN03.jpg"/>
          <p:cNvPicPr/>
          <p:nvPr/>
        </p:nvPicPr>
        <p:blipFill>
          <a:blip r:embed="rId6"/>
          <a:stretch/>
        </p:blipFill>
        <p:spPr>
          <a:xfrm>
            <a:off x="5486400" y="4041720"/>
            <a:ext cx="3379680" cy="254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KKorek\Documents\ABCFiles\2013 Myers AP 2e\Images\ImageJPGs_Module71\ImageJPGs_Module71\MyAP2e_71UN02.jpg"/>
          <p:cNvPicPr/>
          <p:nvPr/>
        </p:nvPicPr>
        <p:blipFill>
          <a:blip r:embed="rId7"/>
          <a:stretch/>
        </p:blipFill>
        <p:spPr>
          <a:xfrm>
            <a:off x="6905520" y="1447920"/>
            <a:ext cx="196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6-03-15T10:29:54Z</dcterms:modified>
  <cp:revision>249</cp:revision>
  <dc:subject/>
  <dc:title>Slide 1</dc:title>
</cp:coreProperties>
</file>