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10.png" ContentType="image/png"/>
  <Override PartName="/ppt/media/image4.jpeg" ContentType="image/jpeg"/>
  <Override PartName="/ppt/media/image25.jpeg" ContentType="image/jpeg"/>
  <Override PartName="/ppt/media/image3.jpeg" ContentType="image/jpeg"/>
  <Override PartName="/ppt/media/image2.jpeg" ContentType="image/jpeg"/>
  <Override PartName="/ppt/media/image1.jpeg" ContentType="image/jpeg"/>
  <Override PartName="/ppt/media/image27.png" ContentType="image/png"/>
  <Override PartName="/ppt/media/image26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77CB-7A8D-4FAD-B7EA-C23EB5C50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D2BE-43FC-4A76-9EE5-92966728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446D-A680-469F-969C-CD7CBBF22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2FF1-F70D-49D9-9874-F1F4039B8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9465-1EA9-42B7-9FBE-89987C6AD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BF1A-6EFA-494B-869F-697F7766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28BB-8C61-4996-88FA-913F1CD9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4A525-0058-411D-9E9C-8BEE61B8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A817-2468-4F9C-A6BC-523ED46D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AA85-F74B-4B92-AECD-F1A90DB5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9116-5D1F-45B4-8A29-E86471FE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A050-E51C-4391-B8FE-D4C29C82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D625-747F-4598-BD38-CB205FD3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83C28-7758-4E25-9432-44336DAC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BD6F-8E87-44FE-89DA-191A43F1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C14D-078E-4FF6-8DED-78B72A546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F65E-B0CE-4554-9EBD-B8C7F05CC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3754A-2DD9-4E16-9F7A-1488E7C13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BFFB1-4F81-48E2-99B6-C3AAA079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74828-11A7-4E60-A103-4AFE4F06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DC685-34C1-4463-A691-1E24CE1D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FE43C-9E29-43D2-95B0-D32806FD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7B3A-4094-4D03-86ED-CCEA95B3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10D89-3A67-40CF-A72F-4016561F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5C34D-4191-4141-BA74-7B9B05B6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16A29-5B51-4BA6-9878-3C734ED9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46C1B-4AC9-41FE-97E7-E1D58F57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F45E8-8C19-4B7B-B76F-E2A99298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4D270-5D5F-4617-A10F-1895CEA10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FFA55-5B5C-4265-A565-22FC6F05E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595E8-BB51-461F-A4B3-A03881AE1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0CBDA-06E2-46D3-B2DB-0487AD32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824E5-494D-47DD-B9D1-28BA785B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AEB3-0FC4-4539-A67C-40C89339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CD822-54AB-4DAD-9252-E84FA15C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5A1FD-C202-45D0-ACA6-02E1F3FA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C025D-D9F7-45CA-97E0-4624FA75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EF1DC-1143-4522-A603-FFB3D082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4CA1B-5FA3-45D9-81F1-E19A0CF7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67D49-94A4-406D-91D6-06934A5E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E318D-A5A3-4636-A568-DA58FF28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62D8C-6EA1-4878-AFE3-665D94285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1DBE1-5AD9-498E-9530-1FA0AC467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2A5D-0867-495A-8C2D-E68AA6DE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F12C-DFA8-406D-BAFD-8A2B94CA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A152-8437-4865-8DF1-ADCD69FE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883F-C61B-420A-88CE-825D0EFD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164E-90B1-4E17-B08D-3CB9307B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F202-592F-469C-87CD-61CD54350FA4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A4D6-50D2-4205-86A2-F821EED63B76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7B55-7BCD-4028-BDE1-C960E84B8251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2FF0-1694-4B87-AA3A-2DC262D0A5BE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53.xml"/><Relationship Id="rId2" Type="http://schemas.openxmlformats.org/officeDocument/2006/relationships/slide" Target="slide154.xml"/><Relationship Id="rId3" Type="http://schemas.openxmlformats.org/officeDocument/2006/relationships/slide" Target="slide155.xm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4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55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56.xml"/><Relationship Id="rId2" Type="http://schemas.openxmlformats.org/officeDocument/2006/relationships/slide" Target="slide157.xm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7.xm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38.xml"/><Relationship Id="rId2" Type="http://schemas.openxmlformats.org/officeDocument/2006/relationships/slide" Target="slide139.xml"/><Relationship Id="rId3" Type="http://schemas.openxmlformats.org/officeDocument/2006/relationships/slide" Target="slide140.xm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4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4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43.xml"/><Relationship Id="rId2" Type="http://schemas.openxmlformats.org/officeDocument/2006/relationships/slide" Target="slide144.xml"/><Relationship Id="rId3" Type="http://schemas.openxmlformats.org/officeDocument/2006/relationships/slide" Target="slide145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4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47.xml"/><Relationship Id="rId2" Type="http://schemas.openxmlformats.org/officeDocument/2006/relationships/slide" Target="slide148.xml"/><Relationship Id="rId3" Type="http://schemas.openxmlformats.org/officeDocument/2006/relationships/slide" Target="slide149.xml"/><Relationship Id="rId4" Type="http://schemas.openxmlformats.org/officeDocument/2006/relationships/slide" Target="slide150.xml"/><Relationship Id="rId5" Type="http://schemas.openxmlformats.org/officeDocument/2006/relationships/slide" Target="slide151.xml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762120" y="2437920"/>
            <a:ext cx="9144000" cy="20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90c226"/>
                </a:solidFill>
                <a:latin typeface="Arial"/>
                <a:ea typeface="Arial"/>
              </a:rPr>
              <a:t>Unit 13 </a:t>
            </a:r>
            <a:br>
              <a:rPr sz="5400"/>
            </a:br>
            <a:r>
              <a:rPr b="1" lang="en-US" sz="3200" spc="-1" strike="noStrike">
                <a:solidFill>
                  <a:srgbClr val="90c226"/>
                </a:solidFill>
                <a:latin typeface="Arial"/>
                <a:ea typeface="Arial"/>
              </a:rPr>
              <a:t>Meghan Lewis &amp; Zyaeja Warren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320" y="30492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90c226"/>
                </a:solidFill>
                <a:latin typeface="Arial"/>
                <a:ea typeface="Arial"/>
              </a:rPr>
              <a:t>Cognitive Therapies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888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17316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90c226"/>
                </a:solidFill>
                <a:latin typeface="Arial"/>
                <a:ea typeface="Arial"/>
              </a:rPr>
              <a:t>Cognitive Therapies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Content Placeholder 2"/>
          <p:cNvSpPr/>
          <p:nvPr/>
        </p:nvSpPr>
        <p:spPr>
          <a:xfrm>
            <a:off x="1522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ca3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1" action="ppaction://hlinksldjump"/>
              </a:rPr>
              <a:t>Cognitive thera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99ca3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2" action="ppaction://hlinksldjump"/>
              </a:rPr>
              <a:t>Rational-emotive thera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aron Beck’s therapy for depr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99ca3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3" action="ppaction://hlinksldjump"/>
              </a:rPr>
              <a:t>Cognitive-                                              behavioral                                                thera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C:\Users\KKorek\Documents\ABCFiles\2013 Myers AP 2e\Images\ImageJPGs_Module71\ImageJPGs_Module71\MyAP2e_71UN04.jpg"/>
          <p:cNvPicPr/>
          <p:nvPr/>
        </p:nvPicPr>
        <p:blipFill>
          <a:blip r:embed="rId4"/>
          <a:stretch/>
        </p:blipFill>
        <p:spPr>
          <a:xfrm>
            <a:off x="3962520" y="3216240"/>
            <a:ext cx="448632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56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90c226"/>
                </a:solidFill>
                <a:latin typeface="Arial"/>
                <a:ea typeface="Arial"/>
              </a:rPr>
              <a:t>Cognitive Therapies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1085760" y="990720"/>
            <a:ext cx="69724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582624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90c226"/>
                </a:solidFill>
                <a:latin typeface="Trebuchet MS"/>
              </a:rPr>
              <a:t>End of Day 1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85800" y="2666520"/>
            <a:ext cx="582624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7f7f7f"/>
                </a:solidFill>
                <a:latin typeface="Trebuchet MS"/>
              </a:rPr>
              <a:t>Exit Ticket: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7f7f7f"/>
                </a:solidFill>
                <a:latin typeface="Trebuchet MS"/>
              </a:rPr>
              <a:t>Describe the promotions of humanistic therapies?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7f7f7f"/>
                </a:solidFill>
                <a:latin typeface="Trebuchet MS"/>
              </a:rPr>
              <a:t>What is a goal of therapy?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7f7f7f"/>
                </a:solidFill>
                <a:latin typeface="Trebuchet MS"/>
              </a:rPr>
              <a:t>What is psychodynamic therapy?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" spc="-1" strike="noStrike">
                <a:solidFill>
                  <a:srgbClr val="7f7f7f"/>
                </a:solidFill>
                <a:latin typeface="Trebuchet MS"/>
              </a:rPr>
              <a:t>t Ticket: </a:t>
            </a:r>
            <a:endParaRPr b="0" lang="en-US" sz="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3510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90c226"/>
                </a:solidFill>
                <a:latin typeface="Arial"/>
                <a:ea typeface="Arial"/>
              </a:rPr>
              <a:t>Cognitive Therapies</a:t>
            </a:r>
            <a:br>
              <a:rPr sz="4300"/>
            </a:br>
            <a:r>
              <a:rPr b="0" lang="en-US" sz="4300" spc="-1" strike="noStrike">
                <a:solidFill>
                  <a:srgbClr val="90c226"/>
                </a:solidFill>
                <a:latin typeface="Arial"/>
                <a:ea typeface="Arial"/>
              </a:rPr>
              <a:t>Rational Emotive Behavior Therapy</a:t>
            </a:r>
            <a:endParaRPr b="0" lang="en-US" sz="4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Content Placeholder 2"/>
          <p:cNvSpPr/>
          <p:nvPr/>
        </p:nvSpPr>
        <p:spPr>
          <a:xfrm>
            <a:off x="0" y="225576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ca3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1" action="ppaction://hlinksldjump"/>
              </a:rPr>
              <a:t>Rational Emotive Behavior Thera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lbert El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rrational thin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hallenge people’s                              way of thin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C:\Users\KKorek\Documents\ABCFiles\2013 Myers AP 2e\Images\ImageJPGs_Module71\ImageJPGs_Module71\MyAP2e_71UN05.jpg"/>
          <p:cNvPicPr/>
          <p:nvPr/>
        </p:nvPicPr>
        <p:blipFill>
          <a:blip r:embed="rId2"/>
          <a:stretch/>
        </p:blipFill>
        <p:spPr>
          <a:xfrm>
            <a:off x="4876920" y="3298680"/>
            <a:ext cx="411480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3510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90c226"/>
                </a:solidFill>
                <a:latin typeface="Arial"/>
                <a:ea typeface="Arial"/>
              </a:rPr>
              <a:t>Cognitive Therapies</a:t>
            </a:r>
            <a:br>
              <a:rPr sz="4300"/>
            </a:br>
            <a:r>
              <a:rPr b="0" lang="en-US" sz="4300" spc="-1" strike="noStrike">
                <a:solidFill>
                  <a:srgbClr val="90c226"/>
                </a:solidFill>
                <a:latin typeface="Arial"/>
                <a:ea typeface="Arial"/>
              </a:rPr>
              <a:t>Aaron Beck’s Therapy for Depression</a:t>
            </a:r>
            <a:endParaRPr b="0" lang="en-US" sz="4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Content Placeholder 2"/>
          <p:cNvSpPr/>
          <p:nvPr/>
        </p:nvSpPr>
        <p:spPr>
          <a:xfrm>
            <a:off x="0" y="2255760"/>
            <a:ext cx="883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aron Beck’s therapy for    depre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atastrophizing beli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eveals irrational thin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Gentler than                              rational-emotive thera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C:\Users\KKorek\Documents\ABCFiles\2013 Myers AP 2e\Images\Total Images\MyAP2e_70UN04.jpg"/>
          <p:cNvPicPr/>
          <p:nvPr/>
        </p:nvPicPr>
        <p:blipFill>
          <a:blip r:embed="rId1"/>
          <a:stretch/>
        </p:blipFill>
        <p:spPr>
          <a:xfrm>
            <a:off x="6324480" y="2133720"/>
            <a:ext cx="28195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060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0c226"/>
                </a:solidFill>
                <a:latin typeface="Arial"/>
                <a:ea typeface="Arial"/>
              </a:rPr>
              <a:t>Cognitive Therapies</a:t>
            </a:r>
            <a:br>
              <a:rPr sz="4800"/>
            </a:br>
            <a:r>
              <a:rPr b="0" lang="en-US" sz="4800" spc="-1" strike="noStrike">
                <a:solidFill>
                  <a:srgbClr val="90c226"/>
                </a:solidFill>
                <a:latin typeface="Arial"/>
                <a:ea typeface="Arial"/>
              </a:rPr>
              <a:t>Cognitive-Behavioral Therapy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2" name="Content Placeholder 2"/>
          <p:cNvSpPr/>
          <p:nvPr/>
        </p:nvSpPr>
        <p:spPr>
          <a:xfrm>
            <a:off x="152280" y="2255760"/>
            <a:ext cx="8839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ca3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1" action="ppaction://hlinksldjump"/>
              </a:rPr>
              <a:t>Cognitive-behavioral thera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mbines cognitive and behavioral therap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ims to change the person’s thinking and behavi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360" y="22824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90c226"/>
                </a:solidFill>
                <a:latin typeface="Arial"/>
                <a:ea typeface="Arial"/>
              </a:rPr>
              <a:t>Cognitive Therapies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4" name="Picture 3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913932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400" y="423720"/>
            <a:ext cx="9144000" cy="16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90c226"/>
                </a:solidFill>
                <a:latin typeface="Arial"/>
                <a:ea typeface="Arial"/>
              </a:rPr>
              <a:t>Group and Family Therapies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6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ca3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1" action="ppaction://hlinksldjump"/>
              </a:rPr>
              <a:t>Group thera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ca3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2" action="ppaction://hlinksldjump"/>
              </a:rPr>
              <a:t>Family thera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elf-help                                              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C:\Users\KKorek\Documents\ABCFiles\2013 Myers AP 2e\Images\ImageJPGs_Module71\ImageJPGs_Module71\MyAP2e_71UN06.jpg"/>
          <p:cNvPicPr/>
          <p:nvPr/>
        </p:nvPicPr>
        <p:blipFill>
          <a:blip r:embed="rId3"/>
          <a:stretch/>
        </p:blipFill>
        <p:spPr>
          <a:xfrm>
            <a:off x="3581280" y="3192480"/>
            <a:ext cx="525780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0c226"/>
                </a:solidFill>
                <a:latin typeface="Arial"/>
                <a:ea typeface="Arial"/>
              </a:rPr>
              <a:t>Evaluating Psychotherapies</a:t>
            </a:r>
            <a:br>
              <a:rPr sz="4800"/>
            </a:br>
            <a:r>
              <a:rPr b="0" lang="en-US" sz="4800" spc="-1" strike="noStrike">
                <a:solidFill>
                  <a:srgbClr val="90c226"/>
                </a:solidFill>
                <a:latin typeface="Arial"/>
                <a:ea typeface="Arial"/>
              </a:rPr>
              <a:t>Evaluating Alternative Therapies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9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ye movement desensitization and reprocessing (EMD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Light exposure thera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easonal affective                                disorder (SA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" descr="C:\Users\KKorek\Documents\ABCFiles\2013 Myers AP 2e\Images\ImageJPGs_Module72\ImageJPGs_Module72\MyAP2e_72UN03.jpg"/>
          <p:cNvPicPr/>
          <p:nvPr/>
        </p:nvPicPr>
        <p:blipFill>
          <a:blip r:embed="rId1"/>
          <a:stretch/>
        </p:blipFill>
        <p:spPr>
          <a:xfrm>
            <a:off x="6305400" y="3505320"/>
            <a:ext cx="23814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90c226"/>
                </a:solidFill>
                <a:latin typeface="Arial"/>
                <a:ea typeface="Arial"/>
              </a:rPr>
              <a:t>Psychoanalysis and Psychodynamic Therapy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4" name="Picture 2" descr="C:\Users\KKorek\Documents\ABCFiles\2013 Myers AP 2e\Images\ImageJPGs_Module70\ImageJPGs_Module70\MyAP2e_70UN03.jpg"/>
          <p:cNvPicPr/>
          <p:nvPr/>
        </p:nvPicPr>
        <p:blipFill>
          <a:blip r:embed="rId1"/>
          <a:stretch/>
        </p:blipFill>
        <p:spPr>
          <a:xfrm>
            <a:off x="2797200" y="3200400"/>
            <a:ext cx="6041880" cy="3417840"/>
          </a:xfrm>
          <a:prstGeom prst="rect">
            <a:avLst/>
          </a:prstGeom>
          <a:ln w="0">
            <a:noFill/>
          </a:ln>
        </p:spPr>
      </p:pic>
      <p:sp>
        <p:nvSpPr>
          <p:cNvPr id="215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ca3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2" action="ppaction://hlinksldjump"/>
              </a:rPr>
              <a:t>Psycho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Goals of thera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s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90c226"/>
                </a:solidFill>
                <a:latin typeface="Arial"/>
                <a:ea typeface="Arial"/>
              </a:rPr>
              <a:t>Evaluating Psychotherapies</a:t>
            </a:r>
            <a:br>
              <a:rPr sz="4300"/>
            </a:br>
            <a:r>
              <a:rPr b="0" lang="en-US" sz="4300" spc="-1" strike="noStrike">
                <a:solidFill>
                  <a:srgbClr val="90c226"/>
                </a:solidFill>
                <a:latin typeface="Arial"/>
                <a:ea typeface="Arial"/>
              </a:rPr>
              <a:t>Commonalities Among Psychotherapies</a:t>
            </a:r>
            <a:endParaRPr b="0" lang="en-US" sz="4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2" name="Content Placeholder 2"/>
          <p:cNvSpPr/>
          <p:nvPr/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Hope for demoralized           peo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 new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n empathic, trusting,                   caring relationsh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rapeutic alli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5" descr="C:\Users\KKorek\Documents\ABCFiles\2013 Myers AP 2e\Images\ImageJPGs_Module72\ImageJPGs_Module72\MyAP2e_72UN04.jpg"/>
          <p:cNvPicPr/>
          <p:nvPr/>
        </p:nvPicPr>
        <p:blipFill>
          <a:blip r:embed="rId1"/>
          <a:stretch/>
        </p:blipFill>
        <p:spPr>
          <a:xfrm>
            <a:off x="6019920" y="2209680"/>
            <a:ext cx="297180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90c226"/>
                </a:solidFill>
                <a:latin typeface="Arial"/>
                <a:ea typeface="Arial"/>
              </a:rPr>
              <a:t>Evaluating Psychotherapies</a:t>
            </a:r>
            <a:br>
              <a:rPr sz="4300"/>
            </a:br>
            <a:r>
              <a:rPr b="0" lang="en-US" sz="4300" spc="-1" strike="noStrike">
                <a:solidFill>
                  <a:srgbClr val="90c226"/>
                </a:solidFill>
                <a:latin typeface="Arial"/>
                <a:ea typeface="Arial"/>
              </a:rPr>
              <a:t>Culture, Gender, and Values in Psychotherapy</a:t>
            </a:r>
            <a:endParaRPr b="0" lang="en-US" sz="4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Content Placeholder 2"/>
          <p:cNvSpPr/>
          <p:nvPr/>
        </p:nvSpPr>
        <p:spPr>
          <a:xfrm>
            <a:off x="228600" y="2286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imilarities between                cul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ifferences between               cul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C:\Users\KKorek\Documents\ABCFiles\2013 Myers AP 2e\Images\Total Images\MyAP2e_72UN01.jpg"/>
          <p:cNvPicPr/>
          <p:nvPr/>
        </p:nvPicPr>
        <p:blipFill>
          <a:blip r:embed="rId1"/>
          <a:stretch/>
        </p:blipFill>
        <p:spPr>
          <a:xfrm>
            <a:off x="5280120" y="2590920"/>
            <a:ext cx="3635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760" y="45684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90c226"/>
                </a:solidFill>
                <a:latin typeface="Arial"/>
                <a:ea typeface="Arial"/>
              </a:rPr>
              <a:t>Drug Therapies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8" name="Content Placeholder 2"/>
          <p:cNvSpPr/>
          <p:nvPr/>
        </p:nvSpPr>
        <p:spPr>
          <a:xfrm>
            <a:off x="2286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sychopharmac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Factors to consider with drug thera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ormal recovery rate of untreated pati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cebo ef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ouble blind                                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" descr="C:\Users\KKorek\Documents\ABCFiles\2013 Myers AP 2e\Images\ImageJPGs_Module73\ImageJPGs_Module73\MyAP2e_73UN01.jpg"/>
          <p:cNvPicPr/>
          <p:nvPr/>
        </p:nvPicPr>
        <p:blipFill>
          <a:blip r:embed="rId1"/>
          <a:stretch/>
        </p:blipFill>
        <p:spPr>
          <a:xfrm>
            <a:off x="5086440" y="4019400"/>
            <a:ext cx="375264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0c226"/>
                </a:solidFill>
                <a:latin typeface="Arial"/>
                <a:ea typeface="Arial"/>
              </a:rPr>
              <a:t>Drug Therapies</a:t>
            </a:r>
            <a:br>
              <a:rPr sz="4800"/>
            </a:br>
            <a:r>
              <a:rPr b="0" lang="en-US" sz="4800" spc="-1" strike="noStrike">
                <a:solidFill>
                  <a:srgbClr val="90c226"/>
                </a:solidFill>
                <a:latin typeface="Arial"/>
                <a:ea typeface="Arial"/>
              </a:rPr>
              <a:t>Antipsychotic Drugs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ntipsychotic dru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sycho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hlorpromazine                    (Thoraz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opami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rdive dyskine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isperidone and olanzap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" descr="C:\Users\KKorek\Documents\ABCFiles\2013 Myers AP 2e\Images\Total Images\MyAP2e_9UN03.jpg"/>
          <p:cNvPicPr/>
          <p:nvPr/>
        </p:nvPicPr>
        <p:blipFill>
          <a:blip r:embed="rId1"/>
          <a:stretch/>
        </p:blipFill>
        <p:spPr>
          <a:xfrm>
            <a:off x="4648320" y="2317680"/>
            <a:ext cx="4343400" cy="25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0c226"/>
                </a:solidFill>
                <a:latin typeface="Arial"/>
                <a:ea typeface="Arial"/>
              </a:rPr>
              <a:t>Drug Therapies</a:t>
            </a:r>
            <a:br>
              <a:rPr sz="4800"/>
            </a:br>
            <a:r>
              <a:rPr b="0" lang="en-US" sz="4800" spc="-1" strike="noStrike">
                <a:solidFill>
                  <a:srgbClr val="90c226"/>
                </a:solidFill>
                <a:latin typeface="Arial"/>
                <a:ea typeface="Arial"/>
              </a:rPr>
              <a:t>Antidepressant Drugs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4" name="Content Placeholder 2"/>
          <p:cNvSpPr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ntidepressant dru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Use with mood and anxiety disor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luoxetine (Prozac), Pax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lective-serotonin-reuptake inhib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ur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ide effects of                   antidepress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2" descr="C:\Users\KKorek\Documents\ABCFiles\2013 Myers AP 2e\Images\ImageJPGs_Module73\ImageJPGs_Module73\MyAP2e_73UN02.jpg"/>
          <p:cNvPicPr/>
          <p:nvPr/>
        </p:nvPicPr>
        <p:blipFill>
          <a:blip r:embed="rId1"/>
          <a:stretch/>
        </p:blipFill>
        <p:spPr>
          <a:xfrm>
            <a:off x="4800600" y="4343400"/>
            <a:ext cx="391464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0c226"/>
                </a:solidFill>
                <a:latin typeface="Arial"/>
                <a:ea typeface="Arial"/>
              </a:rPr>
              <a:t>Drug Therapies</a:t>
            </a:r>
            <a:br>
              <a:rPr sz="4800"/>
            </a:br>
            <a:r>
              <a:rPr b="0" lang="en-US" sz="4800" spc="-1" strike="noStrike">
                <a:solidFill>
                  <a:srgbClr val="90c226"/>
                </a:solidFill>
                <a:latin typeface="Arial"/>
                <a:ea typeface="Arial"/>
              </a:rPr>
              <a:t>Mood Stabilizing Medications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7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ood-stabilizing med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ith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pak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C:\Users\KKorek\Documents\ABCFiles\2013 Myers AP 2e\Images\ImageJPGs_Module73\ImageJPGs_Module73\MyAP2e_73UN05.jpg"/>
          <p:cNvPicPr/>
          <p:nvPr/>
        </p:nvPicPr>
        <p:blipFill>
          <a:blip r:embed="rId1"/>
          <a:stretch/>
        </p:blipFill>
        <p:spPr>
          <a:xfrm>
            <a:off x="3429000" y="3049560"/>
            <a:ext cx="548640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0c226"/>
                </a:solidFill>
                <a:latin typeface="Arial"/>
                <a:ea typeface="Arial"/>
              </a:rPr>
              <a:t>Brain Stimulation</a:t>
            </a:r>
            <a:br>
              <a:rPr sz="4800"/>
            </a:br>
            <a:r>
              <a:rPr b="0" lang="en-US" sz="4800" spc="-1" strike="noStrike">
                <a:solidFill>
                  <a:srgbClr val="90c226"/>
                </a:solidFill>
                <a:latin typeface="Arial"/>
                <a:ea typeface="Arial"/>
              </a:rPr>
              <a:t>Electroconvulsive Therapy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0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lectroconvulsive thera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evere depr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blems/side eff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4" descr=""/>
          <p:cNvPicPr/>
          <p:nvPr/>
        </p:nvPicPr>
        <p:blipFill>
          <a:blip r:embed="rId1"/>
          <a:stretch/>
        </p:blipFill>
        <p:spPr>
          <a:xfrm>
            <a:off x="6400800" y="2392200"/>
            <a:ext cx="253368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90c226"/>
                </a:solidFill>
                <a:latin typeface="Arial"/>
                <a:ea typeface="Arial"/>
              </a:rPr>
              <a:t>Brain Stimulation</a:t>
            </a:r>
            <a:br>
              <a:rPr sz="4300"/>
            </a:br>
            <a:r>
              <a:rPr b="0" lang="en-US" sz="4300" spc="-1" strike="noStrike">
                <a:solidFill>
                  <a:srgbClr val="90c226"/>
                </a:solidFill>
                <a:latin typeface="Arial"/>
                <a:ea typeface="Arial"/>
              </a:rPr>
              <a:t>Alternative Neurostimulation Therapies</a:t>
            </a:r>
            <a:endParaRPr b="0" lang="en-US" sz="4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Content Placeholder 2"/>
          <p:cNvSpPr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agnetic Stim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epetitive transcranial magnetic stimulations                                 (rTM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eep-Brain                        Stim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4572000" y="3446640"/>
            <a:ext cx="3782880" cy="31827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"/>
          <p:cNvPicPr/>
          <p:nvPr/>
        </p:nvPicPr>
        <p:blipFill>
          <a:blip r:embed="rId2"/>
          <a:stretch/>
        </p:blipFill>
        <p:spPr>
          <a:xfrm>
            <a:off x="4567320" y="6397560"/>
            <a:ext cx="1009440" cy="2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400" y="504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90c226"/>
                </a:solidFill>
                <a:latin typeface="Arial"/>
                <a:ea typeface="Arial"/>
              </a:rPr>
              <a:t>Psychosurgery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7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sychosurg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obot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d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C:\Users\KKorek\Documents\ABCFiles\2013 Myers AP 2e\Images\ImageJPGs_Module73\ImageJPGs_Module73\MyAP2e_73UN06.jpg"/>
          <p:cNvPicPr/>
          <p:nvPr/>
        </p:nvPicPr>
        <p:blipFill>
          <a:blip r:embed="rId1"/>
          <a:stretch/>
        </p:blipFill>
        <p:spPr>
          <a:xfrm>
            <a:off x="5029200" y="1039680"/>
            <a:ext cx="3828960" cy="54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40284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90c226"/>
                </a:solidFill>
                <a:latin typeface="Arial"/>
                <a:ea typeface="Arial"/>
              </a:rPr>
              <a:t>Therapeutic Lifestyle Change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Content Placeholder 2"/>
          <p:cNvSpPr/>
          <p:nvPr/>
        </p:nvSpPr>
        <p:spPr>
          <a:xfrm>
            <a:off x="22860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tegrated biopsychosocial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rapeutic life-style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erobic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equate sl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ght exp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cial 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ti-ru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utritional supp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2" descr="C:\Users\KKorek\Documents\ABCFiles\2013 Myers AP 2e\Images\ImageJPGs_Module73\ImageJPGs_Module73\MyAP2e_73UN07.jpg"/>
          <p:cNvPicPr/>
          <p:nvPr/>
        </p:nvPicPr>
        <p:blipFill>
          <a:blip r:embed="rId1"/>
          <a:stretch/>
        </p:blipFill>
        <p:spPr>
          <a:xfrm>
            <a:off x="4343400" y="2630520"/>
            <a:ext cx="453384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Arial"/>
                <a:ea typeface="Arial"/>
              </a:rPr>
              <a:t>Psychoanalysis and Psychodynamic Therapy Techniqu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Free assoc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ca3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1" action="ppaction://hlinksldjump"/>
              </a:rPr>
              <a:t>Resist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ca3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2" action="ppaction://hlinksldjump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ream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ca3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3" action="ppaction://hlinksldjump"/>
              </a:rPr>
              <a:t>Trans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C:\Users\KKorek\Documents\ABCFiles\2013 Myers AP 2e\Images\Total Images\MyAP2e_1UN11.jpg"/>
          <p:cNvPicPr/>
          <p:nvPr/>
        </p:nvPicPr>
        <p:blipFill>
          <a:blip r:embed="rId4"/>
          <a:stretch/>
        </p:blipFill>
        <p:spPr>
          <a:xfrm>
            <a:off x="4876920" y="1563840"/>
            <a:ext cx="412416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1062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90c226"/>
                </a:solidFill>
                <a:latin typeface="Arial"/>
                <a:ea typeface="Arial"/>
              </a:rPr>
              <a:t>Comparing Biomedical Therapies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93" name="Picture 4" descr=""/>
          <p:cNvPicPr/>
          <p:nvPr/>
        </p:nvPicPr>
        <p:blipFill>
          <a:blip r:embed="rId1"/>
          <a:stretch/>
        </p:blipFill>
        <p:spPr>
          <a:xfrm>
            <a:off x="0" y="2239920"/>
            <a:ext cx="913464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58258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600" spc="-1" strike="noStrike">
                <a:solidFill>
                  <a:srgbClr val="90c226"/>
                </a:solidFill>
                <a:latin typeface="Arial"/>
                <a:ea typeface="Arial"/>
              </a:rPr>
              <a:t>The End</a:t>
            </a:r>
            <a:endParaRPr b="0" lang="en-US" sz="9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582624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7f7f7f"/>
                </a:solidFill>
                <a:latin typeface="Trebuchet MS"/>
              </a:rPr>
              <a:t> </a:t>
            </a:r>
            <a:r>
              <a:rPr b="0" lang="en-US" sz="3000" spc="-1" strike="noStrike">
                <a:solidFill>
                  <a:srgbClr val="7f7f7f"/>
                </a:solidFill>
                <a:latin typeface="Trebuchet MS"/>
              </a:rPr>
              <a:t>Exit Ticket: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7f7f7f"/>
                </a:solidFill>
                <a:latin typeface="Trebuchet MS"/>
              </a:rPr>
              <a:t>What are some factors to consider with drug therapy?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7f7f7f"/>
                </a:solidFill>
                <a:latin typeface="Trebuchet MS"/>
              </a:rPr>
              <a:t>Give an example of an antipsychotic drug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7f7f7f"/>
                </a:solidFill>
                <a:latin typeface="Trebuchet MS"/>
              </a:rPr>
              <a:t>Is psychosurgery used today?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7f7f7f"/>
                </a:solidFill>
                <a:latin typeface="Trebuchet MS"/>
              </a:rPr>
              <a:t>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0c226"/>
                </a:solidFill>
                <a:latin typeface="Arial"/>
                <a:ea typeface="Arial"/>
              </a:rPr>
              <a:t>Psychoanalysis and Psychodynamic Therapy</a:t>
            </a:r>
            <a:br>
              <a:rPr sz="4800"/>
            </a:br>
            <a:r>
              <a:rPr b="0" lang="en-US" sz="4800" spc="-1" strike="noStrike">
                <a:solidFill>
                  <a:srgbClr val="90c226"/>
                </a:solidFill>
                <a:latin typeface="Arial"/>
                <a:ea typeface="Arial"/>
              </a:rPr>
              <a:t>Psychodynamic Therapy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ca3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1" action="ppaction://hlinksldjump"/>
              </a:rPr>
              <a:t>Psychodynamic thera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ims of psychodynamic thera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imilarities with psycho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ifferences with              psycho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" descr="C:\Users\KKorek\Documents\ABCFiles\2013 Myers AP 2e\Images\Total Images\MyAP2e_22UN03.jpg"/>
          <p:cNvPicPr/>
          <p:nvPr/>
        </p:nvPicPr>
        <p:blipFill>
          <a:blip r:embed="rId2"/>
          <a:stretch/>
        </p:blipFill>
        <p:spPr>
          <a:xfrm>
            <a:off x="4673520" y="3862440"/>
            <a:ext cx="447048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400" y="7632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90c226"/>
                </a:solidFill>
                <a:latin typeface="Arial"/>
                <a:ea typeface="Arial"/>
              </a:rPr>
              <a:t>Humanistic Therapies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Content Placeholder 2"/>
          <p:cNvSpPr/>
          <p:nvPr/>
        </p:nvSpPr>
        <p:spPr>
          <a:xfrm>
            <a:off x="152280" y="838080"/>
            <a:ext cx="8839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1001"/>
              </a:spcBef>
              <a:buClr>
                <a:srgbClr val="99ca3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1" action="ppaction://hlinksldjump"/>
              </a:rPr>
              <a:t>Insight therap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Humanistic therapies promot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oost people’s self-fulfill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moting growth instead of cur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king immediate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nscious rather than the unconscious thou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 present and future rather than the p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55512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90c226"/>
                </a:solidFill>
                <a:latin typeface="Arial"/>
                <a:ea typeface="Arial"/>
              </a:rPr>
              <a:t>Humanistic Therapies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Content Placeholder 2"/>
          <p:cNvSpPr/>
          <p:nvPr/>
        </p:nvSpPr>
        <p:spPr>
          <a:xfrm>
            <a:off x="76320" y="13716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99ca3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1" action="ppaction://hlinksldjump"/>
              </a:rPr>
              <a:t>Client-centered thera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ondirective thera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Genuineness, acceptance, and empat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901"/>
              </a:spcBef>
              <a:buClr>
                <a:srgbClr val="99ca3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2" action="ppaction://hlinksldjump"/>
              </a:rPr>
              <a:t>Active liste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raph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vite clar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flect fee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901"/>
              </a:spcBef>
              <a:buClr>
                <a:srgbClr val="99ca3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3" action="ppaction://hlinksldjump"/>
              </a:rPr>
              <a:t>Unconditional positive reg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C:\Users\KKorek\Documents\ABCFiles\2013 Myers AP 2e\Images\ImageJPGs_Module70\ImageJPGs_Module70\MyAP2e_70UN05.jpg"/>
          <p:cNvPicPr/>
          <p:nvPr/>
        </p:nvPicPr>
        <p:blipFill>
          <a:blip r:embed="rId4"/>
          <a:stretch/>
        </p:blipFill>
        <p:spPr>
          <a:xfrm>
            <a:off x="4597560" y="3398760"/>
            <a:ext cx="429228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300" spc="-1" strike="noStrike">
                <a:solidFill>
                  <a:srgbClr val="90c226"/>
                </a:solidFill>
                <a:latin typeface="Arial"/>
                <a:ea typeface="Arial"/>
              </a:rPr>
              <a:t>Module 71:</a:t>
            </a:r>
            <a:br>
              <a:rPr sz="4300"/>
            </a:br>
            <a:r>
              <a:rPr b="1" lang="en-US" sz="4300" spc="-1" strike="noStrike">
                <a:solidFill>
                  <a:srgbClr val="90c226"/>
                </a:solidFill>
                <a:latin typeface="Arial"/>
                <a:ea typeface="Arial"/>
              </a:rPr>
              <a:t>Behavior, Cognitive, and Group Therapies</a:t>
            </a:r>
            <a:endParaRPr b="0" lang="en-US" sz="43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1209600" y="2374920"/>
            <a:ext cx="679140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00" y="38052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90c226"/>
                </a:solidFill>
                <a:latin typeface="Arial"/>
                <a:ea typeface="Arial"/>
              </a:rPr>
              <a:t>Behavior Therapies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ca3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1" action="ppaction://hlinksldjump"/>
              </a:rPr>
              <a:t>Behavior Thera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lassical conditioning techn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perant conditioning techn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C:\Users\KKorek\Documents\ABCFiles\2013 Myers AP 2e\Images\ImageJPGs_Module71\ImageJPGs_Module71\MyAP2e_71UN01.jpg"/>
          <p:cNvPicPr/>
          <p:nvPr/>
        </p:nvPicPr>
        <p:blipFill>
          <a:blip r:embed="rId2"/>
          <a:stretch/>
        </p:blipFill>
        <p:spPr>
          <a:xfrm>
            <a:off x="2286000" y="3610080"/>
            <a:ext cx="47242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0c226"/>
                </a:solidFill>
                <a:latin typeface="Arial"/>
                <a:ea typeface="Arial"/>
              </a:rPr>
              <a:t>Behavior Therapies</a:t>
            </a:r>
            <a:br>
              <a:rPr sz="4800"/>
            </a:br>
            <a:r>
              <a:rPr b="0" lang="en-US" sz="4600" spc="-1" strike="noStrike">
                <a:solidFill>
                  <a:srgbClr val="90c226"/>
                </a:solidFill>
                <a:latin typeface="Arial"/>
                <a:ea typeface="Arial"/>
              </a:rPr>
              <a:t>Classical Conditioning Techniques</a:t>
            </a:r>
            <a:endParaRPr b="0" lang="en-US" sz="4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Content Placeholder 2"/>
          <p:cNvSpPr/>
          <p:nvPr/>
        </p:nvSpPr>
        <p:spPr>
          <a:xfrm>
            <a:off x="763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ca3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1" action="ppaction://hlinksldjump"/>
              </a:rPr>
              <a:t>Counterconditi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99ca3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2" action="ppaction://hlinksldjump"/>
              </a:rPr>
              <a:t>Exposure therap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99ca3c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3" action="ppaction://hlinksldjump"/>
              </a:rPr>
              <a:t>Systematic desensit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99ca3c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4" action="ppaction://hlinksldjump"/>
              </a:rPr>
              <a:t>Virtual reality exposure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99ca3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5" action="ppaction://hlinksldjump"/>
              </a:rPr>
              <a:t>Aversive conditi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C:\Users\KKorek\Documents\ABCFiles\2013 Myers AP 2e\Images\ImageJPGs_Module71\ImageJPGs_Module71\MyAP2e_71UN03.jpg"/>
          <p:cNvPicPr/>
          <p:nvPr/>
        </p:nvPicPr>
        <p:blipFill>
          <a:blip r:embed="rId6"/>
          <a:stretch/>
        </p:blipFill>
        <p:spPr>
          <a:xfrm>
            <a:off x="5486400" y="4041720"/>
            <a:ext cx="3379680" cy="25416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C:\Users\KKorek\Documents\ABCFiles\2013 Myers AP 2e\Images\ImageJPGs_Module71\ImageJPGs_Module71\MyAP2e_71UN02.jpg"/>
          <p:cNvPicPr/>
          <p:nvPr/>
        </p:nvPicPr>
        <p:blipFill>
          <a:blip r:embed="rId7"/>
          <a:stretch/>
        </p:blipFill>
        <p:spPr>
          <a:xfrm>
            <a:off x="6905520" y="1447920"/>
            <a:ext cx="19605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3:22:39Z</dcterms:created>
  <dc:creator>GSD</dc:creator>
  <dc:description/>
  <dc:language>en-US</dc:language>
  <cp:lastModifiedBy>Debes John</cp:lastModifiedBy>
  <dcterms:modified xsi:type="dcterms:W3CDTF">2016-03-15T10:29:54Z</dcterms:modified>
  <cp:revision>249</cp:revision>
  <dc:subject/>
  <dc:title>Slide 1</dc:title>
</cp:coreProperties>
</file>