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92E-DE30-4DE0-A2E9-59ADBAA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9DB-EEC3-430A-B33B-BC501EB3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024-FE9C-41A0-9C77-0AF47F07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B09-2901-4187-9D09-4EAD499E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38D-B180-4220-908B-1DB3AA60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D48-F126-4281-AD78-5DC7570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6C5-7808-489C-A50C-D3C2173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0807-7D58-48C5-B5DD-A66CDC98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7EA-907E-4FA2-9C14-18102940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E0F-166C-4AF3-8CAA-E668E1C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1C85-5690-47E0-8C40-25DD1BC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A2A-B15A-4FA4-BB56-B0616A0C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1FE-B4D3-4DE6-BD15-E9A1DBB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078-2A33-4DF1-8129-1A13892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815-22AB-4273-85D2-8A7C8EF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BC57-47FE-4F84-9D78-A2A76153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7D72-D27A-49F9-A6EF-8E5D3D9D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B0E4-7A8D-4307-93CD-906243DB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8454-580E-42AD-822A-96FB3EA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FCB2-5A0C-49D3-A35E-65D9E0D9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8980-6A99-493F-BAB5-405545C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12D8-9572-4483-952F-B9CF325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21A-9467-4CCF-B76A-F8F5C6A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41E8-2393-4C9D-93D4-7EE3716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EA4C-A117-4B85-9BAE-E281F518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62F3-F88D-4504-93F4-AE49EF0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BA3E-28CE-4A21-9236-0BE38B1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0B81-9456-460E-9BFE-97FD37B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37E9-C7B3-407A-A294-339B68FA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994F-B12D-4685-B94B-A08332C9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0E09-A6D4-4298-85E0-7A5C6F83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C3DD-8FDA-4B51-9176-FF41328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8296-E1E6-4594-B10E-F3EC4FE2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70E-319C-47EC-8C24-9A77BF5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B1CA-1AC3-4BC7-8C73-FE6B1AF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B428-C685-45BA-BEAA-63154AC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5E9A-93F1-4DDF-AB0F-EBE3A930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CA9C-9F97-4666-99A6-2B0CCDD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8E27-B401-4FE1-B6C3-15320F9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E699-B2E9-44D2-AD4D-F855E94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494F-EB86-464F-B226-ECAD7A1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B0E5-A108-4632-B4DD-E4EBD378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99D6-D3B4-45AE-B7DC-E5936B9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141-6F86-48C4-91A0-0FB83A5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B9A-129B-42D5-A510-F4CDE98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FBA-F72A-4487-9E06-73317F9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09D-226E-4318-80E8-CAF1544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AD5-1EDF-4D65-BDCD-66EBD11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ACE-EEA9-4510-A757-38A94D63BC9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2403-86E6-4DC7-8702-A6D4B089CDD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1E8-957E-4113-875C-F1E90E8DA83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B13E-A01B-4ACB-B744-4D21BFEE6D9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62120" y="24379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90c226"/>
                </a:solidFill>
                <a:latin typeface="Arial"/>
                <a:ea typeface="Arial"/>
              </a:rPr>
              <a:t>Unit 13: Treatment of Abnormal Behaviors </a:t>
            </a:r>
            <a:br>
              <a:rPr sz="4900"/>
            </a:b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analyt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3240" y="685800"/>
            <a:ext cx="914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is-goal of therapy is to identify the unconscious conflicts that are causing abnorm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nosis-altered state of consciousness; less likely to repress troubling thou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ree association-patient says whatever comes to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ream analysis-patients describe their dreams, since the ego’s defense are relaxed while slee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3 of these rely heavily on the interpretation of the psychologist/therap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ifest content-what the patient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t (hidden content)-what the therapist interp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-Patients disagreement with therapist’s thoughts; seen as a sign that therapist is “on the right tr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erence-Patient begins to develop strong feelings for the therapist; used to try to identify the source of the proble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Psychodynamic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le many psychologists are/have been influenced by Freud; much of his original theory has been rejected.  Psychologists who have based their work on modified versions of Freud’s work are known as Psychodynamic theorists/psycholog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 emphasis on hypnosis, dream analysis, &amp; Freud’s psychosexual the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emphasis on bringing awareness to a person of their cognition (the way &amp; why they think), importance of their unconscious, &amp; the important role of childhood development on adul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Humanis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helping people understand &amp; accept themselves AND to reach their highest potential (self-actual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are innately go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ople control their own destinies (free wil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 (Client/person-centered thera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rapist provides client with blanket acceptance/support, regardless of what they say/do (unconditional positive regar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on-directive (active listen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scious rather than the unconscious thou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 present and future rather than the pa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alt therapy-emphasizes the importance of getting in touch with the patients’ whole self; integrating all actions, feelings, &amp; thoughts into a harmonious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ential therapies-Help clients to formulate a vision of their lives as worth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Behavior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0" y="593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Therapy-since all behavior is learned, classical conditioning, operant conditioning, and modeling can help “un-learn”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erconditioning-replaces unpleasant CR with a pleas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ystematic desensitization-teaches patient to replace feelings of anxiety (unpleasant CR) with relaxation (pleasant 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ersive conditioning-pairing a habit the patient wants to be rid of with an unpleasant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-use of reinforcement/punishment to modif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ken economy-desired behaviors are rewarded with tokens that can be exchanged for objects/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-learning by observing &amp; then imitating the behavior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Cognitive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therapy-locate the cause of psychological problems &amp; try to change those unhealthy cognitiv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gnitive triad-Person’s belief about him/herself, the world, and their futu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Aaron Be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suffering from depression often have irrationally negative beliefs corresponding to the tr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-Behavioral therapies (CB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bine ideas/techniques of cognitive &amp; behavioral psyc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Group and Family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-Therapy sessions that are not 1 patient for 1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 therapy-group therapy involving a family unit; can be used to treat either family issues or individual issues that are related to family dynam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therapy can involve a group of people who have no relationship with each other, but who suffer from simila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-help groups-group therapy that doesn’t involve a traditional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Somatic Therap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11160" y="609480"/>
            <a:ext cx="915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apies that produce bodil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rug therapy/psychopharma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re severe a disorder, the more likely it is that drugs will be used to tre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hizophrenia, anxiety disorders, &amp; mood disorders are some of the disorders commonly treated with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convulsive therapy (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lectroshock therap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unning current through 1/both hemispheres of the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ness is uncertain and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rposeful destruction of part of the brain to alter a person’s behavio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otom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Eclectic Therapies/Kinds of Therap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0" y="69516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therapists will not exclusively use just one therapy; the combination of different types of therapies is referred to as an eclectic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Kinds of Therap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iatrists-medical doctors; permitted to prescribe m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ists-earn Ph.D.s &amp; usually deal with people who are suffering from problems more severe than normal everyday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seling therapists-graduate degree in psychology; typically deal with less severe problems than a clinical psychologist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ychoanalysts-usually trained in Freudian methods; may not hold a medical degree (depending on geographic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7-03-09T16:01:30Z</dcterms:modified>
  <cp:revision>260</cp:revision>
  <dc:subject/>
  <dc:title>Slide 1</dc:title>
</cp:coreProperties>
</file>