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1B2F-B348-45D2-8DF1-1CD6FC1D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94C-3F2B-4058-9715-4995D34D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00D-5A20-4EA9-9D9D-E7193A5E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1887-1678-41DD-AEF5-145B1830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7788-CA5B-44D7-9686-3FAE48D3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94C9-56FB-4373-93AC-BEADECB8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7D29-EDA7-4BEC-A082-58E197AF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CC47-46A9-4D21-82E1-781824C0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E7D0-9BE4-423B-9B54-756BB0A7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E787-6E49-4870-B6CE-0B76D329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8518-455E-408A-AB0E-578D01E6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4D92-3F72-4E53-B41A-8577A6F6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5EBF-998F-42D6-9578-CC84C48F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6226-18FB-432F-8441-09C98635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68CA-EAC9-48B6-AE97-601AFD78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93CA-592A-4EFA-AD73-F60E2DA9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50D5-8BE2-4E50-85F4-897ADD2D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1A4A0-863C-40EF-8FB5-5D46E94A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8E3F5-0610-4B38-A502-9FDB3875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2C576-DA4D-4C4B-8620-E2D06EA7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3E9C3-2C2F-44D3-AF42-A0DFD67D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6DCB3-A51B-4941-933C-1AF2CCC5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7E7D-534F-42B8-B9E5-704FE783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2DE28-3560-4723-838D-2001E7FA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9AEEA-7BF4-4D01-AC5F-CCDCB1F9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5A0CB-3190-4FC4-AB7B-BF2B1496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4A171-DF47-47CE-A3B0-A56E2221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86DD2-F949-4376-85C6-6AAD3D50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FB5A8-658D-40D3-AF5D-50D2091E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E16CD-2E86-4505-AED5-63F9FD74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9435C-032C-47A0-8231-F131A29E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5226A-C3C6-485B-A597-230E84F3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0C318-C715-44CA-A901-E1C1507E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BF11-B969-4AC9-88CC-61BE6903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01947-FCC3-485F-A345-698E7DFB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E40B9-A5D1-4AAD-B440-971D05B9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5E9CB-089A-49CD-87BB-51C1A1FF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55F08-6FBD-4B0C-92A9-69135EFB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E382F-C9AA-4F7E-A7C6-F0C323CC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A1E65-FDE5-46A9-AFBD-7739F9ED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DE9A3-D141-49CF-9576-2FF5EAE4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1C114-BAB6-477C-8B9C-D81AA933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0AE68-D14A-4E7F-A3D8-A3968390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AFA-2F36-4BBF-9EF3-DAD94D09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5F2-2F1E-4C2A-8D01-92598511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B7D-A096-4E27-BB66-37ABD94E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792-A362-4EEC-ADAE-D286E527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4D4-7CBD-4393-A7B9-7AA8638D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410E-9CC2-4E37-AA9E-798A6760234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37AD-F06C-4744-878A-B558D0FC5B4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9CBA-54AF-4116-A9E6-CA32116B5D6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98E1-89F2-4525-8A11-2E48AEA73EBC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762120" y="2437920"/>
            <a:ext cx="91440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900" spc="-1" strike="noStrike">
                <a:solidFill>
                  <a:srgbClr val="90c226"/>
                </a:solidFill>
                <a:latin typeface="Arial"/>
                <a:ea typeface="Arial"/>
              </a:rPr>
              <a:t>Unit 13: Treatment of Abnormal Behaviors </a:t>
            </a:r>
            <a:br>
              <a:rPr sz="4900"/>
            </a:br>
            <a:endParaRPr b="0" lang="en-US" sz="49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Psychoanalytic Therap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3240" y="685800"/>
            <a:ext cx="9140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sychoanalysis-goal of therapy is to identify the unconscious conflicts that are causing abnorm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pnosis-altered state of consciousness; less likely to repress troubling though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ree association-patient says whatever comes to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ream analysis-patients describe their dreams, since the ego’s defense are relaxed while slee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3 of these rely heavily on the interpretation of the psychologist/therap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ifest content-what the patient rev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nt (hidden content)-what the therapist interpr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-Patients disagreement with therapist’s thoughts; seen as a sign that therapist is “on the right tra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ference-Patient begins to develop strong feelings for the therapist; used to try to identify the source of the problem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Psychodynamic Therap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Content Placeholder 2"/>
          <p:cNvSpPr/>
          <p:nvPr/>
        </p:nvSpPr>
        <p:spPr>
          <a:xfrm>
            <a:off x="0" y="6858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ile many psychologists are/have been influenced by Freud; much of his original theory has been rejected.  Psychologists who have based their work on modified versions of Freud’s work are known as Psychodynamic theorists/psychologi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ess emphasis on hypnosis, dream analysis, &amp; Freud’s psychosexual theor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emphasis on bringing awareness to a person of their cognition (the way &amp; why they think), importance of their unconscious, &amp; the important role of childhood development on adult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Humanistic Therapi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Content Placeholder 2"/>
          <p:cNvSpPr/>
          <p:nvPr/>
        </p:nvSpPr>
        <p:spPr>
          <a:xfrm>
            <a:off x="0" y="6858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on helping people understand &amp; accept themselves AND to reach their highest potential (self-actuali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People are innately goo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People control their own destinies (free will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 Rogers (Client/person-centered thera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Therapist provides client with blanket acceptance/support, regardless of what they say/do (unconditional positive regar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Non-directive (active listen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onscious rather than the unconscious though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the present and future rather than the pa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stalt therapy-emphasizes the importance of getting in touch with the patients’ whole self; integrating all actions, feelings, &amp; thoughts into a harmonious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ential therapies-Help clients to formulate a vision of their lives as worth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0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Behavior Therapi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Content Placeholder 2"/>
          <p:cNvSpPr/>
          <p:nvPr/>
        </p:nvSpPr>
        <p:spPr>
          <a:xfrm>
            <a:off x="0" y="59364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havior Therapy-since all behavior is learned, classical conditioning, operant conditioning, and modeling can help “un-learn”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nterconditioning-replaces unpleasant CR with a pleasan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ystematic desensitization-teaches patient to replace feelings of anxiety (unpleasant CR) with relaxation (pleasant C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versive conditioning-pairing a habit the patient wants to be rid of with an unpleasant stimu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nt conditioning-use of reinforcement/punishment to modif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oken economy-desired behaviors are rewarded with tokens that can be exchanged for objects/privile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ing-learning by observing &amp; then imitating the behavior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gnitive therapy-locate the cause of psychological problems &amp; try to change those unhealthy cognitiv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gnitive triad-Person’s belief about him/herself, the world, and their futur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Aaron Bec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 suffering from depression often have irrationally negative beliefs corresponding to the tri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gnitive-Behavioral therapies (CB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bine ideas/techniques of cognitive &amp; behavioral psych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Group and Family Therapi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Content Placeholder 2"/>
          <p:cNvSpPr/>
          <p:nvPr/>
        </p:nvSpPr>
        <p:spPr>
          <a:xfrm>
            <a:off x="-11160" y="609480"/>
            <a:ext cx="9155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oup therapy-Therapy sessions that are not 1 patient for 1 therap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mily therapy-group therapy involving a family unit; can be used to treat either family issues or individual issues that are related to family dynamic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oup therapy can involve a group of people who have no relationship with each other, but who suffer from similar probl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lf-help groups-group therapy that doesn’t involve a traditional therap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Somatic Therapi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Content Placeholder 2"/>
          <p:cNvSpPr/>
          <p:nvPr/>
        </p:nvSpPr>
        <p:spPr>
          <a:xfrm>
            <a:off x="-11160" y="609480"/>
            <a:ext cx="9155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rapies that produce bodily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rug therapy/psychopharmac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re severe a disorder, the more likely it is that drugs will be used to tre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chizophrenia, anxiety disorders, &amp; mood disorders are some of the disorders commonly treated with dru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ctroconvulsive therapy (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lectroshock therap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unning current through 1/both hemispheres of the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ness is uncertain and controvers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ycho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urposeful destruction of part of the brain to alter a person’s behavior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botom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Eclectic Therapies/Kinds of Therapis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Content Placeholder 2"/>
          <p:cNvSpPr/>
          <p:nvPr/>
        </p:nvSpPr>
        <p:spPr>
          <a:xfrm>
            <a:off x="0" y="69516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therapists will not exclusively use just one therapy; the combination of different types of therapies is referred to as an eclectic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Kinds of Therap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sychiatrists-medical doctors; permitted to prescribe med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nical psychologists-earn Ph.D.s &amp; usually deal with people who are suffering from problems more severe than normal everyday 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nseling therapists-graduate degree in psychology; typically deal with less severe problems than a clinical psychologist w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sychoanalysts-usually trained in Freudian methods; may not hold a medical degree (depending on geographic lo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7-03-09T16:01:30Z</dcterms:modified>
  <cp:revision>260</cp:revision>
  <dc:subject/>
  <dc:title>Slide 1</dc:title>
</cp:coreProperties>
</file>