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28B-ADCC-4860-9662-93AEF527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697-98DB-43CF-9AD8-2C013DDB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65-85A3-4A94-98CC-046B3DD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BE4-B1D8-4DC3-963E-BFA18733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DC7-A9F6-4CC6-8005-54E8081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F93-1098-4DE7-907A-299B1C1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296-DDD7-4E9B-AA65-CC0C278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34D-860B-476E-BD36-253C92C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CCF-770A-4721-8526-71F82435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A59-7916-4308-932E-E7C8BC9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615-C789-434B-BE20-028FDF2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370-75D9-44EC-8115-B94C99B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cd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6C65-46C0-4D75-8A19-BE9EB17A2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Unit 12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bnormal Behavi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an extremely traumatic event is thoroughly repressed, causing a split in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who have experienced traumatic events find that not thinking about it is rewarding, which can lead to amnesia or (in extreme cases)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Dissociativ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these disorders experience extreme or inappropriat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depressive disorder (unipolar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wo weeks of low mood that is present across most situations; often accompanied by low self-esteem, loss of interest in normally enjoyable activities, low energy, and pain without a clear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polar disorder (manic depress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s in which people feel overly happy &amp; energized and other periods of feeling very sad, hopeless, &amp; sluggish. In between those periods, they usually feel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: may be the production of anger directed inward, loss during the early psychosexual stages, or an overly punitive super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: may be caused by the “cognitive triad,” unreasonably negative ideas that people have about themselves, their world, &amp; their futures.  They could, alternatively, be caused by pessimistic cognitive 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learn the behaviors associated with these disorders (learned helplessness); they don’t think they can’t control some/all aspects of their life &amp; become de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evidence suggests that low levels of serotonin and/or norepinephrine may cause/increase depression; people with bipolar disorder have more acetylcholine (ACh) receptors in their brain &amp; sk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M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with schizophrenia tend to suffer from disordered, distorted thinking, often characterized by delusions, hallucinations &amp; disorganized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izophrenic symptoms are usually divided into 2 types: positive symptoms &amp; negative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ve symptoms-excesses in behavior, thought, or mo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extra” stu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symptoms-deficits like severed reduction in emotional expression (flat affect), and catatonia (immobility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“missing” stuff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tent Placeholder 2"/>
          <p:cNvSpPr/>
          <p:nvPr/>
        </p:nvSpPr>
        <p:spPr>
          <a:xfrm>
            <a:off x="1908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: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pamine hypothesi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levels of dopamine may cause/are associated with schizophrenia; enlarged brain vessels &amp; brain asymmetries are associated with schizophrenia,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: people have learned distorted ways of thinking through the constant presence of contradictory messages/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double blind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chizophrenic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-established, maladaptive ways of behaving that negatively affect a person’s ability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social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tle regard for other people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ychopath (displays abnormal or violent social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opath (extreme antisocial attitudes and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t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y too much on the attention/help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4766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0" y="7207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sessive-compuls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ersistent, unwanted thoughts cause someone to feel the need to engage in a particula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ssions (thou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lsions (needs/behavi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ttraumatic Stress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-traumatic stress disorder (PT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s flashbacks/nightmares following a person’s involvement in or observation of an extremely troubl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hock” or “battle fatig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just due to a wa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KKorek\Documents\ABCFiles\2013 Myers AP 2e\Images\ImageJPGs_Module66\ImageJPGs_Module66\MyAP2e_66UN04.jpg"/>
          <p:cNvPicPr/>
          <p:nvPr/>
        </p:nvPicPr>
        <p:blipFill>
          <a:blip r:embed="rId1"/>
          <a:stretch/>
        </p:blipFill>
        <p:spPr>
          <a:xfrm>
            <a:off x="5867280" y="4313160"/>
            <a:ext cx="2971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Psychological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philia/psychosexu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ual attraction to an object, person, or activity not usually seen as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ting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, bulimia, binge-eating disorder, obe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ance abuse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ubstance(s) that negatively affect a pers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development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deal with deviations from typical soc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ism spectrum disorder (A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tion-deficit/hyperactivity disorder (AD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fining Psychological Disorder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adaptive (harmful) for the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ain criteria for defining a behavior as disord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urbing to the individual and/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733920" y="3100320"/>
            <a:ext cx="3276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and Statistical Manual of Mental Disorders (D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SM-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ublished 2013; first revision in 2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gnostic labels of the disorders, not their causes or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logic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od/affect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izophre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ity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ontent Placeholder 2"/>
          <p:cNvSpPr/>
          <p:nvPr/>
        </p:nvSpPr>
        <p:spPr>
          <a:xfrm>
            <a:off x="-648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ized anxiet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, low-level anxiety; no single specific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n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ute episodes of intense anxiety (no apparent cause) *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nic attacks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e, unwarranted fear of a                                situation/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2"/>
          <p:cNvSpPr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analytic Psychology-caused by unresolved,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anxiety disorders are learned (as are all behavi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-disorders are the result of dysfunctional ways of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56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ccur when a person manifests a psychological problem through a physiological sy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conversion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SM-5 renamed these disorders as Somatic symptom and related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ntent Placeholder 2"/>
          <p:cNvSpPr/>
          <p:nvPr/>
        </p:nvSpPr>
        <p:spPr>
          <a:xfrm>
            <a:off x="14400" y="145080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psychological perspectives believe they are caused in different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-these disorders are merely outward manifestations of unresolved unconscious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-The symptoms of these disorders are being reinforced, thus perpetuating thos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es about the Cause of Somatofor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tent Placeholder 2"/>
          <p:cNvSpPr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olve a disruption in conscious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erson experiences a physical problem in the absent of an identifiable physical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amnesia: a person can’t remember things, but there is no physiological basis for the memory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-dissociative identity disorder (DID): when a person has several personalities, rather than j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erly called multiple personality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sociative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7:36:05Z</dcterms:modified>
  <cp:revision>271</cp:revision>
  <dc:subject/>
  <dc:title>Slide 1</dc:title>
</cp:coreProperties>
</file>