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17BAE-ADC6-403E-84E3-DDB49EE63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00B1A-791F-4EEF-A4F9-9BA8CBD02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BE95A-9774-4307-B691-65686CB5F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4595A-1AE8-4006-9B33-436767B4B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19E5B-BDB1-4FB2-84E6-D127097D4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C912F-0AF0-445C-9A39-0B73FD097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7E849-44DB-4998-996F-33864469C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E2204-4F9B-4D0F-B456-F37442B82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EEEDE-E6B1-49EE-BC1A-5D375BC98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1D729-F231-4DB3-8D55-3D56401F2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3DF01-580C-4311-AAA9-966626210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4CC32-DEA9-4E76-AECF-EE0041F87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878cd"/>
            </a:gs>
            <a:gs pos="100000">
              <a:srgbClr val="f3f6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9B718-0A75-4619-A2DC-C5E56D5362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15840" y="-36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  <a:ea typeface="Arial"/>
              </a:rPr>
              <a:t>Unit 12: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Arial"/>
                <a:ea typeface="Arial"/>
              </a:rPr>
              <a:t>Abnormal Behavior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Content Placeholder 2"/>
          <p:cNvSpPr/>
          <p:nvPr/>
        </p:nvSpPr>
        <p:spPr>
          <a:xfrm>
            <a:off x="19080" y="91440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sychoanalytic Psychology: an extremely traumatic event is thoroughly repressed, causing a split in conscious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ehavioral Psychology: people who have experienced traumatic events find that not thinking about it is rewarding, which can lead to amnesia or (in extreme cases) D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-152280"/>
            <a:ext cx="9144000" cy="163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heories about the Cause of Dissociative Disord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Content Placeholder 2"/>
          <p:cNvSpPr/>
          <p:nvPr/>
        </p:nvSpPr>
        <p:spPr>
          <a:xfrm>
            <a:off x="0" y="91440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eople with these disorders experience extreme or inappropriate emo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jor depressive disorder (unipolar depression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 least two weeks of low mood that is present across most situations; often accompanied by low self-esteem, loss of interest in normally enjoyable activities, low energy, and pain without a clear ca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ipolar disorder (manic depression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eriods in which people feel overly happy &amp; energized and other periods of feeling very sad, hopeless, &amp; sluggish. In between those periods, they usually feel norm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-380880"/>
            <a:ext cx="9144000" cy="163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Mood/Affective Disorder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Content Placeholder 2"/>
          <p:cNvSpPr/>
          <p:nvPr/>
        </p:nvSpPr>
        <p:spPr>
          <a:xfrm>
            <a:off x="19080" y="91440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 lvl="1" marL="616680" indent="-2372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sychoanalytic Psychology: may be the production of anger directed inward, loss during the early psychosexual stages, or an overly punitive supere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gnitive Psychology: may be caused by the “cognitive triad,” unreasonably negative ideas that people have about themselves, their world, &amp; their futures.  They could, alternatively, be caused by pessimistic cognitive attrib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ehavioral Psychology: people learn the behaviors associated with these disorders (learned helplessness); they don’t think they can’t control some/all aspects of their life &amp; become depress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iological Psychology: evidence suggests that low levels of serotonin and/or norepinephrine may cause/increase depression; people with bipolar disorder have more acetylcholine (ACh) receptors in their brain &amp; skin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-30528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heories about the Cause of Mood Disord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Content Placeholder 2"/>
          <p:cNvSpPr/>
          <p:nvPr/>
        </p:nvSpPr>
        <p:spPr>
          <a:xfrm>
            <a:off x="0" y="91440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eople with schizophrenia tend to suffer from disordered, distorted thinking, often characterized by delusions, hallucinations &amp; disorganized languag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chizophrenic symptoms are usually divided into 2 types: positive symptoms &amp; negative sympto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ositive symptoms-excesses in behavior, thought, or mo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“extra” stuf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egative symptoms-deficits like severed reduction in emotional expression (flat affect), and catatonia (immobility)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“missing” stuff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-380880"/>
            <a:ext cx="9144000" cy="163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chizophrenic Disorder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Content Placeholder 2"/>
          <p:cNvSpPr/>
          <p:nvPr/>
        </p:nvSpPr>
        <p:spPr>
          <a:xfrm>
            <a:off x="19080" y="91440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lvl="1" marL="698400" indent="-2685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iological Psychology: 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opamine hypothesis”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igh levels of dopamine may cause/are associated with schizophrenia; enlarged brain vessels &amp; brain asymmetries are associated with schizophrenia, as w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ehavioral Psychology: people have learned distorted ways of thinking through the constant presence of contradictory messages/inform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“double blinds”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-152280"/>
            <a:ext cx="9144000" cy="163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heories about the Cause of Schizophrenic Disord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Content Placeholder 2"/>
          <p:cNvSpPr/>
          <p:nvPr/>
        </p:nvSpPr>
        <p:spPr>
          <a:xfrm>
            <a:off x="0" y="91440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Well-established, maladaptive ways of behaving that negatively affect a person’s ability to fun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ntisocial personality dis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ittle regard for other people’s feel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sychopath (displays abnormal or violent social behavio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ociopath (extreme antisocial attitudes and behavio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pendent personality dis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ly too much on the attention/help of ot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380880"/>
            <a:ext cx="9144000" cy="163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Personality Disorder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-47664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Obsessive-Compulsive Disorde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Content Placeholder 2"/>
          <p:cNvSpPr/>
          <p:nvPr/>
        </p:nvSpPr>
        <p:spPr>
          <a:xfrm>
            <a:off x="0" y="72072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Obsessive-compulsive disor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hen persistent, unwanted thoughts cause someone to feel the need to engage in a particular 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bsessions (though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mpulsions (needs/behavio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-334800"/>
            <a:ext cx="9144000" cy="163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Posttraumatic Stress Disorde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Content Placeholder 2"/>
          <p:cNvSpPr/>
          <p:nvPr/>
        </p:nvSpPr>
        <p:spPr>
          <a:xfrm>
            <a:off x="0" y="106668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ost-traumatic stress disorder (PTS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volves flashbacks/nightmares following a person’s involvement in or observation of an extremely troubling ev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hellshock” or “battle fatigue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ot just due to a war sit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2" descr="C:\Users\KKorek\Documents\ABCFiles\2013 Myers AP 2e\Images\ImageJPGs_Module66\ImageJPGs_Module66\MyAP2e_66UN04.jpg"/>
          <p:cNvPicPr/>
          <p:nvPr/>
        </p:nvPicPr>
        <p:blipFill>
          <a:blip r:embed="rId1"/>
          <a:stretch/>
        </p:blipFill>
        <p:spPr>
          <a:xfrm>
            <a:off x="5867280" y="4313160"/>
            <a:ext cx="2971800" cy="231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-334800"/>
            <a:ext cx="9144000" cy="163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Other Psychological Disord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Content Placeholder 2"/>
          <p:cNvSpPr/>
          <p:nvPr/>
        </p:nvSpPr>
        <p:spPr>
          <a:xfrm>
            <a:off x="0" y="76212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araphilia/psychosexual Disor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xual attraction to an object, person, or activity not usually seen as sex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ating disor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orexia, bulimia, binge-eating disorder, obes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ubstance abuse disor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sing substance(s) that negatively affect a person’s li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eurodevelopmental disor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ten deal with deviations from typical soci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utism spectrum disorder (AS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ttention-deficit/hyperactivity disorder (ADH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-380880"/>
            <a:ext cx="9144000" cy="163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  <a:ea typeface="Arial"/>
              </a:rPr>
              <a:t>Defining Psychological Disorders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Content Placeholder 2"/>
          <p:cNvSpPr/>
          <p:nvPr/>
        </p:nvSpPr>
        <p:spPr>
          <a:xfrm>
            <a:off x="0" y="83808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Psychological disorders ar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aladaptive (harmful) for the individual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main criteria for defining a behavior as disorder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isturbing to the individual and/or 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Unus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rrat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3733920" y="3100320"/>
            <a:ext cx="3276360" cy="32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Classifying Psychological Disorder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Content Placeholder 2"/>
          <p:cNvSpPr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iagnostic and Statistical Manual of Mental Disorders (DS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SM-5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published 2013; first revision in 20 yea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iagnostic labels of the disorders, not their causes or treat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-380880"/>
            <a:ext cx="9144000" cy="163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Psychological Disorder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Content Placeholder 2"/>
          <p:cNvSpPr/>
          <p:nvPr/>
        </p:nvSpPr>
        <p:spPr>
          <a:xfrm>
            <a:off x="0" y="990720"/>
            <a:ext cx="86868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nxiety disor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matoform disor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issociative disor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ood/affective disor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chizophrenic disor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ersonality disor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Content Placeholder 2"/>
          <p:cNvSpPr/>
          <p:nvPr/>
        </p:nvSpPr>
        <p:spPr>
          <a:xfrm>
            <a:off x="-6480" y="76212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Generalized anxiety disor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stant, low-level anxiety; no single specific ca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anic disor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ute episodes of intense anxiety (no apparent cause) **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anic attacks*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hob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tense, unwarranted fear of a                                situation/ob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80880"/>
            <a:ext cx="9144000" cy="163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Anxiety Disorder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Content Placeholder 2"/>
          <p:cNvSpPr/>
          <p:nvPr/>
        </p:nvSpPr>
        <p:spPr>
          <a:xfrm>
            <a:off x="0" y="137160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ifferent psychological perspectives believe they are caused in different way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sychoanalytic Psychology-caused by unresolved, unconscious confli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ehavioral Psychology-anxiety disorders are learned (as are all behavio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gnitive Psychology-disorders are the result of dysfunctional ways of thi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-25560" y="-152280"/>
            <a:ext cx="9144000" cy="163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heories about the Cause of Anxiety Disorder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Content Placeholder 2"/>
          <p:cNvSpPr/>
          <p:nvPr/>
        </p:nvSpPr>
        <p:spPr>
          <a:xfrm>
            <a:off x="0" y="91440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Occur when a person manifests a psychological problem through a physiological sympt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 person experiences a physical problem in the absent of an identifiable physical ca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.e.-conversion disord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 DSM-5 renamed these disorders as Somatic symptom and related disor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-380880"/>
            <a:ext cx="9144000" cy="163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omatoform Disorder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Content Placeholder 2"/>
          <p:cNvSpPr/>
          <p:nvPr/>
        </p:nvSpPr>
        <p:spPr>
          <a:xfrm>
            <a:off x="14400" y="1450800"/>
            <a:ext cx="9144000" cy="45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ifferent psychological perspectives believe they are caused in different way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sychodynamic Psychology-these disorders are merely outward manifestations of unresolved unconscious confli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ehavioral Psychology-The symptoms of these disorders are being reinforced, thus perpetuating those behavi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-152280"/>
            <a:ext cx="9144000" cy="163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heories about the Cause of Somatoform Disorder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Content Placeholder 2"/>
          <p:cNvSpPr/>
          <p:nvPr/>
        </p:nvSpPr>
        <p:spPr>
          <a:xfrm>
            <a:off x="0" y="91440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nvolve a disruption in conscious proc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 person experiences a physical problem in the absent of an identifiable physical ca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.e.-dissociative amnesia: a person can’t remember things, but there is no physiological basis for the memory impair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.e.-dissociative identity disorder (DID): when a person has several personalities, rather than just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erly called multiple personality disor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-380880"/>
            <a:ext cx="9144000" cy="163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Dissociative Disorder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1T13:22:39Z</dcterms:created>
  <dc:creator>GSD</dc:creator>
  <dc:description/>
  <dc:language>en-US</dc:language>
  <cp:lastModifiedBy>Debes John</cp:lastModifiedBy>
  <dcterms:modified xsi:type="dcterms:W3CDTF">2017-03-09T17:36:05Z</dcterms:modified>
  <cp:revision>271</cp:revision>
  <dc:subject/>
  <dc:title>Slide 1</dc:title>
</cp:coreProperties>
</file>