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0110-7FB3-4506-BB1E-7B7DBAC6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7645-AC9C-4607-AEFC-42AFF79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BDCE-3BED-43AC-B643-BA91BBE2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E200-C32B-44AB-A604-A2576902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7296-C919-4159-BBAB-9565D4EB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238C-FFBF-4A82-96B8-FD998A5D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D22-95D7-49B9-93DD-21871F4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2A4-5A59-4E4E-BB16-F4748F3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ED9-39F0-4565-A774-E03D879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6AB-43AE-4311-BCFA-9710E51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C2C0-5AFB-4CA5-B5A6-8CFBD71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BF70-D29E-43CC-8616-8FBEB90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A034-C8E2-4559-B79A-93A76FA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DED-EDF1-4C22-8C66-65F2191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167-C67A-438E-9580-AB4DE1F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366-5D9F-44B2-9C72-431ACA47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8C5C-D87C-44BF-B21D-81DC0C42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23B6-1361-49DE-892E-23C495D8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5B6D-416C-420D-AD29-1B84237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AC10-A6D8-4AE8-B20C-92C7639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D51E-95FC-41E5-BB1E-1E9D49D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7B5E-24A6-44E4-BFBF-C5E42D7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C1E2-5E4B-45CE-AEF8-DB9B2FE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E4E9-F02F-4C30-A0F3-A69A84E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6B3-7C06-44E7-934E-B2F924399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A23-5674-4FC7-9103-2796F3BBA7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Problems and Solutions in Resear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lf-Fulfilling Prophe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lf-Fulfilling Prophec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er’s expectations influence his/her own behavior, and thereby influence the participant’s behavior (e.g. thinking a subject will respond in a certain way, and unassumingly acting in a manner that will cause the subject to then do 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ing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re unaware of which participants received the treatment (e.g. participants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oub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nd experimenter(s) are unaware of which participants received the treatment (e.g. participants and experimenter(s)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In what way do single-blind a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double-blind experiments help avoi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elf-fulfilling prophecies on behalf of the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experimenter</a:t>
            </a:r>
            <a:r>
              <a:rPr b="1" i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participants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cebo Effec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hange in a participant’s behavior that results from 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lie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the treatment will have an effect, rather than the actual treatment (e.g. participant thinks he is receiving “Red Bull,” but instead receives non-caffeinated soda, and still “feels energiz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24560" y="2143080"/>
            <a:ext cx="30099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14176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lacebo effect is not deception, fluke, experimenter bias, or statistical anomaly, but a product of expec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is believed to be the product of chemical changes in the br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merous studies have supported the conclusion that endorphins in the brain produce the placeb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t one time, researchers viewed the placebo effect as an impediment--a statistical annoyance that got in the way of objectively evaluating the efficacy of potentially legitimate therapies.  This IS NOT the currently accepted vie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it Tick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self-fulfilling prophecy in psychological research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two ways in which researchers can avoid a self-fulfilling prophecy on behalf of the researcher(s) and participant(s)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placebo eff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placebo effect a problem for psychological research?  Expl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09-24T10:47:10Z</dcterms:modified>
  <cp:revision>102</cp:revision>
  <dc:subject/>
  <dc:title>Chapter 8: Sensation and Perception</dc:title>
</cp:coreProperties>
</file>