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5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5F86-581F-4E7B-A2B2-5AC1BBF6A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44A-F82E-4A4A-AA12-CF3E57FD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47C-2BC1-41EB-97C3-8A75BB55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617-EDF6-4693-87E5-6470E47C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795-BC7B-47A5-B7E5-CC53C028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DAC-5F67-4B90-87DD-0B561A6F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3D2-7027-4671-92EA-DA2B35D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A4E-66FD-468B-AA39-A3881369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C41-381A-411F-BAAC-92B3735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78A-B8E7-4F75-A23C-BFE951AC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68A-31F1-4428-89EC-45AFAB17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41-9362-41E3-94E8-38964AD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902-CEC2-4AA0-99B2-45CCAC5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C0E-43FA-4828-9653-6639C0A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aa38"/>
            </a:gs>
            <a:gs pos="100000">
              <a:srgbClr val="f3f6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EC4-5D49-41FD-B645-E2D72DCA1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7.xml"/><Relationship Id="rId3" Type="http://schemas.openxmlformats.org/officeDocument/2006/relationships/slide" Target="slide69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dule 0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y’s 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eaction time experiment (demonstrated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s a difference between actual perception &amp; one’s awareness of one’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wn perception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experiment designed                      specifically to measure mental            processes; led to Wundt being                             called the “father of experimental         psychology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of his students, G. Stanley Hall,           establishe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.S. Psychology            laboratory, at Johns Hopkins                       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0" y="114300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 as a science in the lat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ear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y would soon become organized into varied schools of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early schools w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2" action="ppaction://hlinksldjump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3" action="ppaction://hlinksldjump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4400" y="717480"/>
            <a:ext cx="91440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ward Titche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tudent of Wun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the mind by breaking it down into component parts (or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s and thoughts were                       structures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alism was strictly based on 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strict experimental                                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fter Titchener’s death,                                 structuralism fad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KKorek\Documents\ABCFiles\2013 Myers AP 2e\Images\Total Images\MyAP2e_1UN04.jpg"/>
          <p:cNvPicPr/>
          <p:nvPr/>
        </p:nvPicPr>
        <p:blipFill>
          <a:blip r:embed="rId1"/>
          <a:stretch/>
        </p:blipFill>
        <p:spPr>
          <a:xfrm>
            <a:off x="6172200" y="2514600"/>
            <a:ext cx="297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11480"/>
            <a:ext cx="3573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cient Greek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y has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o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cient Greek Philosophy (600-400 B.C.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rates/Plato-mind is separate from the body &amp; knowledge is born with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tle-believed careful observation was the key; knowledge NOT in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267080" y="17524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, Plato and Aristo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lliam 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urpose (function)                    does the mind serv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mind help                         the individual adapt to                          his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ased on Darwi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KKorek\Documents\ABCFiles\2013 Myers AP 2e\Images\Total Images\MyAP2e_1UN05 - Copy.jpg"/>
          <p:cNvPicPr/>
          <p:nvPr/>
        </p:nvPicPr>
        <p:blipFill>
          <a:blip r:embed="rId1"/>
          <a:stretch/>
        </p:blipFill>
        <p:spPr>
          <a:xfrm>
            <a:off x="5570640" y="2209680"/>
            <a:ext cx="357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king About the Mind’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0" y="137160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ion of behavior &amp; thinking through scientific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y Calkins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complete doctoral coursework; als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president of the APA (American Psychologica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garet Floy Washburn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oman to be granted a PhD in psyc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KKorek\Documents\ABCFiles\2013 Myers AP 2e\Images\Total Images\MyAP2e_1UN06.jpg"/>
          <p:cNvPicPr/>
          <p:nvPr/>
        </p:nvPicPr>
        <p:blipFill>
          <a:blip r:embed="rId1"/>
          <a:stretch/>
        </p:blipFill>
        <p:spPr>
          <a:xfrm>
            <a:off x="1000080" y="5105520"/>
            <a:ext cx="215748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KKorek\Documents\ABCFiles\2013 Myers AP 2e\Images\Total Images\MyAP2e_1UN07.jpg"/>
          <p:cNvPicPr/>
          <p:nvPr/>
        </p:nvPicPr>
        <p:blipFill>
          <a:blip r:embed="rId2"/>
          <a:stretch/>
        </p:blipFill>
        <p:spPr>
          <a:xfrm>
            <a:off x="6095880" y="5105520"/>
            <a:ext cx="221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escientific Psycholo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76320" y="1371600"/>
            <a:ext cx="9067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ne Descar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ancis Bac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Loc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  <a:ea typeface="Arial"/>
                <a:hlinkClick r:id="rId1" action="ppaction://hlinksldjump"/>
              </a:rPr>
              <a:t>Empir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57200" y="1523880"/>
            <a:ext cx="115063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greed with &amp; built on the idea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rates &amp; Plato that the mind &amp; body were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 founder of modern science,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uence can still be seen in modern psychologic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Tabula Rasa (blank slate); we are bo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ing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mund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d emotional responses to childhood experiences and our unconscious                      thoughts affected ou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logy was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ce of mental                         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of psychology would                        persist until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’s influence on psychology would                        continue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eudian psycholog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ould                                 be a major force in psychology until the 1960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KKorek\Documents\ABCFiles\2013 Myers AP 2e\Images\Total Images\MyAP2e_1UN11.jpg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behavior is influenced by learning                              &amp; behavior can (unlike feelings/thoughts)                               be observed by scient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alie Ray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ttle Albert”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KKorek\Documents\ABCFiles\2013 Myers AP 2e\Images\Total Images\MyAP2e_1UN08.jpg"/>
          <p:cNvPicPr/>
          <p:nvPr/>
        </p:nvPicPr>
        <p:blipFill>
          <a:blip r:embed="rId1"/>
          <a:stretch/>
        </p:blipFill>
        <p:spPr>
          <a:xfrm>
            <a:off x="6553080" y="838080"/>
            <a:ext cx="2210040" cy="2813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KKorek\Documents\ABCFiles\2013 Myers AP 2e\Images\Total Images\MyAP2e_1UN09.jpg"/>
          <p:cNvPicPr/>
          <p:nvPr/>
        </p:nvPicPr>
        <p:blipFill>
          <a:blip r:embed="rId2"/>
          <a:stretch/>
        </p:blipFill>
        <p:spPr>
          <a:xfrm>
            <a:off x="6553080" y="3827520"/>
            <a:ext cx="2210040" cy="28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KKorek\Documents\ABCFiles\2013 Myers AP 2e\Images\Total Images\MyAP2e_26UN06.jpg"/>
          <p:cNvPicPr/>
          <p:nvPr/>
        </p:nvPicPr>
        <p:blipFill>
          <a:blip r:embed="rId3"/>
          <a:stretch/>
        </p:blipFill>
        <p:spPr>
          <a:xfrm>
            <a:off x="304920" y="5181480"/>
            <a:ext cx="6095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6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0" y="1600200"/>
            <a:ext cx="9220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.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of observable behavi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inforcement-if actions lead                        to positive outcomes, those                    outcomes are more likely to                               be repeated,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nt conditioning: use of                reinforcement to cause the                   repetition of desired                           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KKorek\Documents\ABCFiles\2013 Myers AP 2e\Images\Total Images\MyAP2e_1UN10.jpg"/>
          <p:cNvPicPr/>
          <p:nvPr/>
        </p:nvPicPr>
        <p:blipFill>
          <a:blip r:embed="rId1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Devel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-76320" y="1371600"/>
            <a:ext cx="9296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limiting than behaviorism &amp; Freudian psychology; focused on how our environment can nurture/limit our growth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braham Ma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of human’s perception, processing, &amp; memor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Phrenology                                          -Brai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KKorek\Documents\ABCFiles\2013 Myers AP 2e\Images\Total Images\MyAP2e_57UN01.jpg"/>
          <p:cNvPicPr/>
          <p:nvPr/>
        </p:nvPicPr>
        <p:blipFill>
          <a:blip r:embed="rId1"/>
          <a:stretch/>
        </p:blipFill>
        <p:spPr>
          <a:xfrm>
            <a:off x="5105520" y="3230640"/>
            <a:ext cx="1450800" cy="16034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771560" cy="16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6556320" y="323064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1600200"/>
            <a:ext cx="91440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riefly </a:t>
            </a:r>
            <a:r>
              <a:rPr b="0" i="1" lang="en-US" sz="3600" spc="-1" strike="noStrike">
                <a:solidFill>
                  <a:srgbClr val="262626"/>
                </a:solidFill>
                <a:latin typeface="Arial"/>
              </a:rPr>
              <a:t>describe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 (2-4 sentences) one of these </a:t>
            </a: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Historical Approaches 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to Psych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Struc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unc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Freudian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Humanistic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ognitive Neuro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d9aa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Definition Slide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ction Button: Custom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mpir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knowledge originates in experience and that science should, therefore, rely on observation and experim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ction Button: Back or Previous 4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ructur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arly school of psychological thought that used introspection to reveal the structure of the human m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chool of psychological thought that explored how mental and behavioral processes function – how they enable the organism to adapt, survive, and flour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peri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behavior and thinking using the experimental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view that psychology (1) should be an objective science that (2) studies behavior without reference to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research psychologists today agree with (1) but not with (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ist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historically significant perspective that emphasized the growth potential of health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Neuro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interdisciplinary study of the brain activity linked with cognition (including perception, thinking, memory, and languag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ce of behavior and ment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e-Nurture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longstanding controversy over the relative contributions that genes and experience make to the development of psychological traits and behavi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’s science sees traits and behaviors arising from the interaction of nature and nur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principle that, among the range of inherited trait variations, those contributing to reproduction and survival will most likely be passed on to succeeding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differing complementary views, from biological to psychological to social-cultural, for analyzing any given phenomen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psychosocial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ntegrated approach that incorporates biological, psychological, and social-cultural levels of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havio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observable behavior, and its explanation by principles of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iolog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links between biological (genetic, neural, hormonal) and psychological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biological psychologists call them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 neuroscient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uropsycholog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 geneticis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siological psychologists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psycholog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Action Button: Back or Previous 3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gn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all the mental activities associated with thinking, knowing, remembering, and communic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12600" y="1477800"/>
            <a:ext cx="92156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helm Wun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sychological laboratory-                      University of Leipzig (18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the self-examinat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nscious experience by                   objective observation of one's     consci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olutionar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the evolution of behavior and mind, using principles of natural se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dynamic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unconscious drives and conflicts influence behavior, and uses that information to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-Cultur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situations and cultures affect our behavior and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the measurement of human abilities, attitudes, and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ic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ure science that aims to increase the scientific knowledge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velopment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physical, cognitive, and social change throughout the life sp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ducation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how psychological processes affect and can enhance teaching and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sonal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tudy of an individual’s characteristic pattern of thinking, feeling, and ac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ci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ow we think about, influence, and relate to one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e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cientific study that aims to solve practic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’s Ro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sychological Science is Bo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-76320" y="1143000"/>
            <a:ext cx="9296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KKorek\Documents\ABCFiles\2013 Myers AP 2e\Images\Total Images\MyAP2e_1UN03.jpg"/>
          <p:cNvPicPr/>
          <p:nvPr/>
        </p:nvPicPr>
        <p:blipFill>
          <a:blip r:embed="rId1"/>
          <a:stretch/>
        </p:blipFill>
        <p:spPr>
          <a:xfrm>
            <a:off x="6715080" y="2438280"/>
            <a:ext cx="2428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dustrial-Organizational (I/O)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application of psychological concepts and methods to optimizing human behavior in work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uman Factors Psycholog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n I/O subfield that explores how people and machines interact and how machines and physical environments can be made safe and easy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unseling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assists people with problems in living (often related to school, work, and marriage) and in achieving greater well-be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nical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, assesses, and treat people with psychological dis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ia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medicine dealing with psychological disorders; practiced by physicians who often provide medical (for example, drug) treatments as well as psychological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itive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the scientific study of human functioning, with the goals of discovering and promoting strengths and virtues that help individuals and communities to thr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unity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branch of psychology that studies how people interact with their social environments and how social institutions affect individuals and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ing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enhanced memory after retrieving, rather than simply rerea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sometime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rieval practic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-enhanced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Q3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a study method incorporating five steps; Survey, Question, Read, Rehearse, Re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ction Button: Back or Previous 5">
            <a:hlinkClick r:id="" action="ppaction://hlinkshowjump?jump=previousslide"/>
          </p:cNvPr>
          <p:cNvSpPr/>
          <p:nvPr/>
        </p:nvSpPr>
        <p:spPr>
          <a:xfrm>
            <a:off x="152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22:39Z</dcterms:created>
  <dc:creator>GSD</dc:creator>
  <dc:description/>
  <dc:language>en-US</dc:language>
  <cp:lastModifiedBy>Debes John</cp:lastModifiedBy>
  <dcterms:modified xsi:type="dcterms:W3CDTF">2015-09-03T10:45:53Z</dcterms:modified>
  <cp:revision>278</cp:revision>
  <dc:subject/>
  <dc:title>Slide 1</dc:title>
</cp:coreProperties>
</file>