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3.jpeg" ContentType="image/jpeg"/>
  <Override PartName="/ppt/media/image2.jpeg" ContentType="image/jpeg"/>
  <Override PartName="/ppt/media/image1.jpeg" ContentType="image/jpeg"/>
  <Override PartName="/ppt/media/image27.png" ContentType="image/png"/>
  <Override PartName="/ppt/media/image26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4FCA-DFB7-4EBD-A06F-0B07D652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368-8CFF-4A84-88C6-D12C440E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6F5D-0467-4BB8-BE5B-4DAE094B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9207-86C2-4579-BAF7-3255777E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DB0C-35D0-4F83-8B70-FA218045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763F-59C8-46E4-AA05-4E6B67E5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19F7-D72E-4FF9-A594-C023E70F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121E-DE59-444F-83A5-ED616D1F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27DC-9B77-4263-BF3D-FD6FF2FF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DE64-9E32-4CFF-A62E-D3BD5919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FACC-9306-443C-8BB9-23BAD693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6CF8-05CC-4EC6-B0D9-CB80652C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981D-2F7C-4DD8-99BE-562C5BC6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2850-94F8-4F73-BDEA-2EAE3F52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A28E-EB0D-4FF5-BEB4-B3FCF2F8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E59A-88C4-413B-B5CB-9A880DD8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793E-CF40-4795-A363-BC502234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8E7FD-207F-4D2A-AB18-B126AC7A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D5FFC-9D37-4DE7-9B2E-B3E90965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F5305-D52E-4866-8B1A-48A2B15E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E778B-CB7D-476B-A244-17EC307C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7766D-0B44-4308-B88E-084DD97B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0708-8E68-4763-A5BF-FFE6014D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80550-5136-4A5E-8202-EBB8AA41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65193-362A-464D-B449-2CEE2D56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C9FE3-A982-42C2-B640-1C169CD7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D46FE-A075-4FF6-8A94-B1675966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78D2E-E99B-412F-A238-CDFD38AD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BC5DA-3979-436D-8475-EB248C7C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8A0D2-DDCB-4D61-BBC2-B1E4CD5B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B94FE-F2AC-4212-8D73-F1FB4185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E4538-CE62-4389-9534-F67AFA5E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8BDD2-895F-428C-B965-0EC22891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933-292C-4D71-AAE3-38CFEFCA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BE405-9937-49E6-B65E-0A1A4649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521B2-8AF9-482D-B954-F4BB9CE2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5548C-044D-40C2-9E2E-4E736E33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4713E-84AB-45C6-B2EB-7DE22A02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59368-0371-4B1E-BC76-59680216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0935A-094C-4000-AF16-0E0D3326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16729-EBD2-443D-975D-15146F4A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8813E-E2E6-47CB-BEED-BC1DDE79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B0530-B439-4971-BB58-3BA4832B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9F8F-0D2D-4673-9C41-33D6DED8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569-E9BF-4183-9B66-F4D0B41F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4DF8-B969-45DD-A821-F72D97C2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45D-36D0-4991-8391-3A3A6087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A2E-11A5-4730-9D50-66E43D7C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9D15-A089-4E4F-8B6A-6D1587BF862A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00FD-B5FE-48D0-AA11-CA6B99A1E8F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5E4A-D85F-4DA6-B38B-F9F3B3440EEC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E7F0-1F6C-4ACC-B7D4-800DA4275A4F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3.xml"/><Relationship Id="rId2" Type="http://schemas.openxmlformats.org/officeDocument/2006/relationships/slide" Target="slide154.xml"/><Relationship Id="rId3" Type="http://schemas.openxmlformats.org/officeDocument/2006/relationships/slide" Target="slide155.xm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56.xml"/><Relationship Id="rId2" Type="http://schemas.openxmlformats.org/officeDocument/2006/relationships/slide" Target="slide157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7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38.xml"/><Relationship Id="rId2" Type="http://schemas.openxmlformats.org/officeDocument/2006/relationships/slide" Target="slide139.xml"/><Relationship Id="rId3" Type="http://schemas.openxmlformats.org/officeDocument/2006/relationships/slide" Target="slide140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4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3.xml"/><Relationship Id="rId2" Type="http://schemas.openxmlformats.org/officeDocument/2006/relationships/slide" Target="slide144.xml"/><Relationship Id="rId3" Type="http://schemas.openxmlformats.org/officeDocument/2006/relationships/slide" Target="slide145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7.xml"/><Relationship Id="rId2" Type="http://schemas.openxmlformats.org/officeDocument/2006/relationships/slide" Target="slide148.xml"/><Relationship Id="rId3" Type="http://schemas.openxmlformats.org/officeDocument/2006/relationships/slide" Target="slide149.xml"/><Relationship Id="rId4" Type="http://schemas.openxmlformats.org/officeDocument/2006/relationships/slide" Target="slide150.xml"/><Relationship Id="rId5" Type="http://schemas.openxmlformats.org/officeDocument/2006/relationships/slide" Target="slide151.xml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762120" y="2437920"/>
            <a:ext cx="91440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90c226"/>
                </a:solidFill>
                <a:latin typeface="Arial"/>
                <a:ea typeface="Arial"/>
              </a:rPr>
              <a:t>Unit 13 </a:t>
            </a:r>
            <a:br>
              <a:rPr sz="5400"/>
            </a:br>
            <a:r>
              <a:rPr b="1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Meghan Lewis &amp; Zyaeja Warren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88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7316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Content Placeholder 2"/>
          <p:cNvSpPr/>
          <p:nvPr/>
        </p:nvSpPr>
        <p:spPr>
          <a:xfrm>
            <a:off x="1522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Cognitive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2" action="ppaction://hlinksldjump"/>
              </a:rPr>
              <a:t>Rational-emotive thera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aron Beck’s therapy for de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 action="ppaction://hlinksldjump"/>
              </a:rPr>
              <a:t>Cognitive-                                              behavioral                                                thera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C:\Users\KKorek\Documents\ABCFiles\2013 Myers AP 2e\Images\ImageJPGs_Module71\ImageJPGs_Module71\MyAP2e_71UN04.jpg"/>
          <p:cNvPicPr/>
          <p:nvPr/>
        </p:nvPicPr>
        <p:blipFill>
          <a:blip r:embed="rId4"/>
          <a:stretch/>
        </p:blipFill>
        <p:spPr>
          <a:xfrm>
            <a:off x="3962520" y="3216240"/>
            <a:ext cx="44863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56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085760" y="990720"/>
            <a:ext cx="6972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582624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90c226"/>
                </a:solidFill>
                <a:latin typeface="Trebuchet MS"/>
              </a:rPr>
              <a:t>End of Day 1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582624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Exit Ticket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Describe the promotions of humanistic therapies?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What is a goal of therapy?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What is psychodynamic therapy?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7f7f7f"/>
                </a:solidFill>
                <a:latin typeface="Trebuchet MS"/>
              </a:rPr>
              <a:t>t Ticket: </a:t>
            </a: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3510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br>
              <a:rPr sz="4300"/>
            </a:br>
            <a:r>
              <a:rPr b="0" lang="en-US" sz="4300" spc="-1" strike="noStrike">
                <a:solidFill>
                  <a:srgbClr val="90c226"/>
                </a:solidFill>
                <a:latin typeface="Arial"/>
                <a:ea typeface="Arial"/>
              </a:rPr>
              <a:t>Rational Emotive Behavior Therapy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Content Placeholder 2"/>
          <p:cNvSpPr/>
          <p:nvPr/>
        </p:nvSpPr>
        <p:spPr>
          <a:xfrm>
            <a:off x="0" y="225576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Rational Emotive Behavior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lbert E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rrational 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llenge people’s                              way of 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C:\Users\KKorek\Documents\ABCFiles\2013 Myers AP 2e\Images\ImageJPGs_Module71\ImageJPGs_Module71\MyAP2e_71UN05.jpg"/>
          <p:cNvPicPr/>
          <p:nvPr/>
        </p:nvPicPr>
        <p:blipFill>
          <a:blip r:embed="rId2"/>
          <a:stretch/>
        </p:blipFill>
        <p:spPr>
          <a:xfrm>
            <a:off x="4876920" y="3298680"/>
            <a:ext cx="41148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3510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br>
              <a:rPr sz="4300"/>
            </a:br>
            <a:r>
              <a:rPr b="0" lang="en-US" sz="4300" spc="-1" strike="noStrike">
                <a:solidFill>
                  <a:srgbClr val="90c226"/>
                </a:solidFill>
                <a:latin typeface="Arial"/>
                <a:ea typeface="Arial"/>
              </a:rPr>
              <a:t>Aaron Beck’s Therapy for Depression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Content Placeholder 2"/>
          <p:cNvSpPr/>
          <p:nvPr/>
        </p:nvSpPr>
        <p:spPr>
          <a:xfrm>
            <a:off x="0" y="2255760"/>
            <a:ext cx="883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aron Beck’s therapy for    de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tastrophizing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veals irrational 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entler than                              rational-emotive thera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C:\Users\KKorek\Documents\ABCFiles\2013 Myers AP 2e\Images\Total Images\MyAP2e_70UN04.jpg"/>
          <p:cNvPicPr/>
          <p:nvPr/>
        </p:nvPicPr>
        <p:blipFill>
          <a:blip r:embed="rId1"/>
          <a:stretch/>
        </p:blipFill>
        <p:spPr>
          <a:xfrm>
            <a:off x="6324480" y="2133720"/>
            <a:ext cx="2819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06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br>
              <a:rPr sz="4800"/>
            </a:br>
            <a:r>
              <a:rPr b="0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Cognitive-Behavioral Therapy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Content Placeholder 2"/>
          <p:cNvSpPr/>
          <p:nvPr/>
        </p:nvSpPr>
        <p:spPr>
          <a:xfrm>
            <a:off x="152280" y="2255760"/>
            <a:ext cx="8839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Cognitive-behavioral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bines cognitive and behavioral therap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ms to change the person’s thinking and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360" y="22824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91393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400" y="423720"/>
            <a:ext cx="9144000" cy="16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Group and Family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Group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2" action="ppaction://hlinksldjump"/>
              </a:rPr>
              <a:t>Family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lf-help                                              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C:\Users\KKorek\Documents\ABCFiles\2013 Myers AP 2e\Images\ImageJPGs_Module71\ImageJPGs_Module71\MyAP2e_71UN06.jpg"/>
          <p:cNvPicPr/>
          <p:nvPr/>
        </p:nvPicPr>
        <p:blipFill>
          <a:blip r:embed="rId3"/>
          <a:stretch/>
        </p:blipFill>
        <p:spPr>
          <a:xfrm>
            <a:off x="3581280" y="3192480"/>
            <a:ext cx="52578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Evaluating Psychotherapies</a:t>
            </a:r>
            <a:br>
              <a:rPr sz="4800"/>
            </a:br>
            <a:r>
              <a:rPr b="0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Evaluating Alternative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ye movement desensitization and reprocessing (EMD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ight exposure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asonal affective                                disorder (SA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C:\Users\KKorek\Documents\ABCFiles\2013 Myers AP 2e\Images\ImageJPGs_Module72\ImageJPGs_Module72\MyAP2e_72UN03.jpg"/>
          <p:cNvPicPr/>
          <p:nvPr/>
        </p:nvPicPr>
        <p:blipFill>
          <a:blip r:embed="rId1"/>
          <a:stretch/>
        </p:blipFill>
        <p:spPr>
          <a:xfrm>
            <a:off x="6305400" y="3505320"/>
            <a:ext cx="23814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Psychoanalysis and Psychodynamic Therapy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4" name="Picture 2" descr="C:\Users\KKorek\Documents\ABCFiles\2013 Myers AP 2e\Images\ImageJPGs_Module70\ImageJPGs_Module70\MyAP2e_70UN03.jpg"/>
          <p:cNvPicPr/>
          <p:nvPr/>
        </p:nvPicPr>
        <p:blipFill>
          <a:blip r:embed="rId1"/>
          <a:stretch/>
        </p:blipFill>
        <p:spPr>
          <a:xfrm>
            <a:off x="2797200" y="3200400"/>
            <a:ext cx="6041880" cy="3417840"/>
          </a:xfrm>
          <a:prstGeom prst="rect">
            <a:avLst/>
          </a:prstGeom>
          <a:ln w="0">
            <a:noFill/>
          </a:ln>
        </p:spPr>
      </p:pic>
      <p:sp>
        <p:nvSpPr>
          <p:cNvPr id="215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2" action="ppaction://hlinksldjump"/>
              </a:rPr>
              <a:t>Psycho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oals of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s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90c226"/>
                </a:solidFill>
                <a:latin typeface="Arial"/>
                <a:ea typeface="Arial"/>
              </a:rPr>
              <a:t>Evaluating Psychotherapies</a:t>
            </a:r>
            <a:br>
              <a:rPr sz="4300"/>
            </a:br>
            <a:r>
              <a:rPr b="0" lang="en-US" sz="4300" spc="-1" strike="noStrike">
                <a:solidFill>
                  <a:srgbClr val="90c226"/>
                </a:solidFill>
                <a:latin typeface="Arial"/>
                <a:ea typeface="Arial"/>
              </a:rPr>
              <a:t>Commonalities Among Psychotherapies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Content Placeholder 2"/>
          <p:cNvSpPr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ope for demoralized          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 new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n empathic, trusting,                   caring relation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rapeutic all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C:\Users\KKorek\Documents\ABCFiles\2013 Myers AP 2e\Images\ImageJPGs_Module72\ImageJPGs_Module72\MyAP2e_72UN04.jpg"/>
          <p:cNvPicPr/>
          <p:nvPr/>
        </p:nvPicPr>
        <p:blipFill>
          <a:blip r:embed="rId1"/>
          <a:stretch/>
        </p:blipFill>
        <p:spPr>
          <a:xfrm>
            <a:off x="6019920" y="2209680"/>
            <a:ext cx="29718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90c226"/>
                </a:solidFill>
                <a:latin typeface="Arial"/>
                <a:ea typeface="Arial"/>
              </a:rPr>
              <a:t>Evaluating Psychotherapies</a:t>
            </a:r>
            <a:br>
              <a:rPr sz="4300"/>
            </a:br>
            <a:r>
              <a:rPr b="0" lang="en-US" sz="4300" spc="-1" strike="noStrike">
                <a:solidFill>
                  <a:srgbClr val="90c226"/>
                </a:solidFill>
                <a:latin typeface="Arial"/>
                <a:ea typeface="Arial"/>
              </a:rPr>
              <a:t>Culture, Gender, and Values in Psychotherapy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Content Placeholder 2"/>
          <p:cNvSpPr/>
          <p:nvPr/>
        </p:nvSpPr>
        <p:spPr>
          <a:xfrm>
            <a:off x="228600" y="2286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imilarities between                cul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              cul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C:\Users\KKorek\Documents\ABCFiles\2013 Myers AP 2e\Images\Total Images\MyAP2e_72UN01.jpg"/>
          <p:cNvPicPr/>
          <p:nvPr/>
        </p:nvPicPr>
        <p:blipFill>
          <a:blip r:embed="rId1"/>
          <a:stretch/>
        </p:blipFill>
        <p:spPr>
          <a:xfrm>
            <a:off x="5280120" y="2590920"/>
            <a:ext cx="363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760" y="45684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Drug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Content Placeholder 2"/>
          <p:cNvSpPr/>
          <p:nvPr/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sychopharmac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actors to consider with drug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rmal recovery rate of untreated pat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cebo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uble blind                                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C:\Users\KKorek\Documents\ABCFiles\2013 Myers AP 2e\Images\ImageJPGs_Module73\ImageJPGs_Module73\MyAP2e_73UN01.jpg"/>
          <p:cNvPicPr/>
          <p:nvPr/>
        </p:nvPicPr>
        <p:blipFill>
          <a:blip r:embed="rId1"/>
          <a:stretch/>
        </p:blipFill>
        <p:spPr>
          <a:xfrm>
            <a:off x="5086440" y="4019400"/>
            <a:ext cx="37526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Drug Therapies</a:t>
            </a:r>
            <a:br>
              <a:rPr sz="4800"/>
            </a:br>
            <a:r>
              <a:rPr b="0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Antipsychotic Drug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ntipsycho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sych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lorpromazine                    (Thoraz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pam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rdive dyskine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isperidone and olanzap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C:\Users\KKorek\Documents\ABCFiles\2013 Myers AP 2e\Images\Total Images\MyAP2e_9UN03.jpg"/>
          <p:cNvPicPr/>
          <p:nvPr/>
        </p:nvPicPr>
        <p:blipFill>
          <a:blip r:embed="rId1"/>
          <a:stretch/>
        </p:blipFill>
        <p:spPr>
          <a:xfrm>
            <a:off x="4648320" y="2317680"/>
            <a:ext cx="434340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Drug Therapies</a:t>
            </a:r>
            <a:br>
              <a:rPr sz="4800"/>
            </a:br>
            <a:r>
              <a:rPr b="0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Antidepressant Drug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Content Placeholder 2"/>
          <p:cNvSpPr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ntidepressant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se with mood and anxiety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uoxetine (Prozac), Pax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lective-serotonin-reuptak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ur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de effects of                   antidepress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C:\Users\KKorek\Documents\ABCFiles\2013 Myers AP 2e\Images\ImageJPGs_Module73\ImageJPGs_Module73\MyAP2e_73UN02.jpg"/>
          <p:cNvPicPr/>
          <p:nvPr/>
        </p:nvPicPr>
        <p:blipFill>
          <a:blip r:embed="rId1"/>
          <a:stretch/>
        </p:blipFill>
        <p:spPr>
          <a:xfrm>
            <a:off x="4800600" y="4343400"/>
            <a:ext cx="391464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Drug Therapies</a:t>
            </a:r>
            <a:br>
              <a:rPr sz="4800"/>
            </a:br>
            <a:r>
              <a:rPr b="0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Mood Stabilizing Medication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ood-stabilizing med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th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pak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Users\KKorek\Documents\ABCFiles\2013 Myers AP 2e\Images\ImageJPGs_Module73\ImageJPGs_Module73\MyAP2e_73UN05.jpg"/>
          <p:cNvPicPr/>
          <p:nvPr/>
        </p:nvPicPr>
        <p:blipFill>
          <a:blip r:embed="rId1"/>
          <a:stretch/>
        </p:blipFill>
        <p:spPr>
          <a:xfrm>
            <a:off x="3429000" y="3049560"/>
            <a:ext cx="548640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Brain Stimulation</a:t>
            </a:r>
            <a:br>
              <a:rPr sz="4800"/>
            </a:br>
            <a:r>
              <a:rPr b="0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Electroconvulsive Therapy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lectroconvulsive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vere de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blems/side eff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6400800" y="2392200"/>
            <a:ext cx="25336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90c226"/>
                </a:solidFill>
                <a:latin typeface="Arial"/>
                <a:ea typeface="Arial"/>
              </a:rPr>
              <a:t>Brain Stimulation</a:t>
            </a:r>
            <a:br>
              <a:rPr sz="4300"/>
            </a:br>
            <a:r>
              <a:rPr b="0" lang="en-US" sz="4300" spc="-1" strike="noStrike">
                <a:solidFill>
                  <a:srgbClr val="90c226"/>
                </a:solidFill>
                <a:latin typeface="Arial"/>
                <a:ea typeface="Arial"/>
              </a:rPr>
              <a:t>Alternative Neurostimulation Therapies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Content Placeholder 2"/>
          <p:cNvSpPr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gnetic St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petitive transcranial magnetic stimulations                                 (rT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eep-Brain                        St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4572000" y="3446640"/>
            <a:ext cx="3782880" cy="3182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4567320" y="6397560"/>
            <a:ext cx="100944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400" y="504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Psychosurgery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sychosurg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bot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KKorek\Documents\ABCFiles\2013 Myers AP 2e\Images\ImageJPGs_Module73\ImageJPGs_Module73\MyAP2e_73UN06.jpg"/>
          <p:cNvPicPr/>
          <p:nvPr/>
        </p:nvPicPr>
        <p:blipFill>
          <a:blip r:embed="rId1"/>
          <a:stretch/>
        </p:blipFill>
        <p:spPr>
          <a:xfrm>
            <a:off x="5029200" y="1039680"/>
            <a:ext cx="382896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40284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Therapeutic Lifestyle Change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Content Placeholder 2"/>
          <p:cNvSpPr/>
          <p:nvPr/>
        </p:nvSpPr>
        <p:spPr>
          <a:xfrm>
            <a:off x="22860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tegrated biopsychosocial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rapeutic life-style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erobic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equate sl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ght exp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cial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ti-ru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utritional supp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C:\Users\KKorek\Documents\ABCFiles\2013 Myers AP 2e\Images\ImageJPGs_Module73\ImageJPGs_Module73\MyAP2e_73UN07.jpg"/>
          <p:cNvPicPr/>
          <p:nvPr/>
        </p:nvPicPr>
        <p:blipFill>
          <a:blip r:embed="rId1"/>
          <a:stretch/>
        </p:blipFill>
        <p:spPr>
          <a:xfrm>
            <a:off x="4343400" y="2630520"/>
            <a:ext cx="45338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Psychoanalysis and Psychodynamic Therapy Techniqu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ree asso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2" action="ppaction://hlinksldjump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ream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 action="ppaction://hlinksldjump"/>
              </a:rPr>
              <a:t>Trans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C:\Users\KKorek\Documents\ABCFiles\2013 Myers AP 2e\Images\Total Images\MyAP2e_1UN11.jpg"/>
          <p:cNvPicPr/>
          <p:nvPr/>
        </p:nvPicPr>
        <p:blipFill>
          <a:blip r:embed="rId4"/>
          <a:stretch/>
        </p:blipFill>
        <p:spPr>
          <a:xfrm>
            <a:off x="4876920" y="1563840"/>
            <a:ext cx="41241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Comparing Biomedical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0" y="2239920"/>
            <a:ext cx="913464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58258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90c226"/>
                </a:solidFill>
                <a:latin typeface="Arial"/>
                <a:ea typeface="Arial"/>
              </a:rPr>
              <a:t>The End</a:t>
            </a:r>
            <a:endParaRPr b="0" lang="en-US" sz="9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582624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 </a:t>
            </a: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Exit Ticket: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What are some factors to consider with drug therapy?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Give an example of an antipsychotic drug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Is psychosurgery used today?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Psychoanalysis and Psychodynamic Therapy</a:t>
            </a:r>
            <a:br>
              <a:rPr sz="4800"/>
            </a:br>
            <a:r>
              <a:rPr b="0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Psychodynamic Therapy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Psychodynamic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ms of psychodynamic thera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milarities with psycho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fferences with              psycho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C:\Users\KKorek\Documents\ABCFiles\2013 Myers AP 2e\Images\Total Images\MyAP2e_22UN03.jpg"/>
          <p:cNvPicPr/>
          <p:nvPr/>
        </p:nvPicPr>
        <p:blipFill>
          <a:blip r:embed="rId2"/>
          <a:stretch/>
        </p:blipFill>
        <p:spPr>
          <a:xfrm>
            <a:off x="4673520" y="3862440"/>
            <a:ext cx="44704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00" y="763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Humanistic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Content Placeholder 2"/>
          <p:cNvSpPr/>
          <p:nvPr/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Insight therap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umanistic therapies promo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oost people’s self-fulfill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moting growth instead of cu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king immediate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scious rather than the unconscious thou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resent and future rather than the p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Humanistic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Content Placeholder 2"/>
          <p:cNvSpPr/>
          <p:nvPr/>
        </p:nvSpPr>
        <p:spPr>
          <a:xfrm>
            <a:off x="7632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Client-centered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ndirective thera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enuineness, acceptance, and empa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2" action="ppaction://hlinksldjump"/>
              </a:rPr>
              <a:t>Active list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a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vite cla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lect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 action="ppaction://hlinksldjump"/>
              </a:rPr>
              <a:t>Unconditional positive reg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C:\Users\KKorek\Documents\ABCFiles\2013 Myers AP 2e\Images\ImageJPGs_Module70\ImageJPGs_Module70\MyAP2e_70UN05.jpg"/>
          <p:cNvPicPr/>
          <p:nvPr/>
        </p:nvPicPr>
        <p:blipFill>
          <a:blip r:embed="rId4"/>
          <a:stretch/>
        </p:blipFill>
        <p:spPr>
          <a:xfrm>
            <a:off x="4597560" y="3398760"/>
            <a:ext cx="42922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90c226"/>
                </a:solidFill>
                <a:latin typeface="Arial"/>
                <a:ea typeface="Arial"/>
              </a:rPr>
              <a:t>Module 71:</a:t>
            </a:r>
            <a:br>
              <a:rPr sz="4300"/>
            </a:br>
            <a:r>
              <a:rPr b="1" lang="en-US" sz="4300" spc="-1" strike="noStrike">
                <a:solidFill>
                  <a:srgbClr val="90c226"/>
                </a:solidFill>
                <a:latin typeface="Arial"/>
                <a:ea typeface="Arial"/>
              </a:rPr>
              <a:t>Behavior, Cognitive, and Group Therapies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209600" y="2374920"/>
            <a:ext cx="67914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00" y="3805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Behavior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Behavior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ical conditioning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rant conditioning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C:\Users\KKorek\Documents\ABCFiles\2013 Myers AP 2e\Images\ImageJPGs_Module71\ImageJPGs_Module71\MyAP2e_71UN01.jpg"/>
          <p:cNvPicPr/>
          <p:nvPr/>
        </p:nvPicPr>
        <p:blipFill>
          <a:blip r:embed="rId2"/>
          <a:stretch/>
        </p:blipFill>
        <p:spPr>
          <a:xfrm>
            <a:off x="2286000" y="3610080"/>
            <a:ext cx="47242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Behavior Therapies</a:t>
            </a:r>
            <a:br>
              <a:rPr sz="4800"/>
            </a:br>
            <a:r>
              <a:rPr b="0" lang="en-US" sz="4600" spc="-1" strike="noStrike">
                <a:solidFill>
                  <a:srgbClr val="90c226"/>
                </a:solidFill>
                <a:latin typeface="Arial"/>
                <a:ea typeface="Arial"/>
              </a:rPr>
              <a:t>Classical Conditioning Techniques</a:t>
            </a:r>
            <a:endParaRPr b="0" lang="en-US" sz="4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Content Placeholder 2"/>
          <p:cNvSpPr/>
          <p:nvPr/>
        </p:nvSpPr>
        <p:spPr>
          <a:xfrm>
            <a:off x="763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Countercond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2" action="ppaction://hlinksldjump"/>
              </a:rPr>
              <a:t>Exposure therap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 action="ppaction://hlinksldjump"/>
              </a:rPr>
              <a:t>Systematic desensi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4" action="ppaction://hlinksldjump"/>
              </a:rPr>
              <a:t>Virtual reality exposure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5" action="ppaction://hlinksldjump"/>
              </a:rPr>
              <a:t>Aversive conditi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C:\Users\KKorek\Documents\ABCFiles\2013 Myers AP 2e\Images\ImageJPGs_Module71\ImageJPGs_Module71\MyAP2e_71UN03.jpg"/>
          <p:cNvPicPr/>
          <p:nvPr/>
        </p:nvPicPr>
        <p:blipFill>
          <a:blip r:embed="rId6"/>
          <a:stretch/>
        </p:blipFill>
        <p:spPr>
          <a:xfrm>
            <a:off x="5486400" y="4041720"/>
            <a:ext cx="3379680" cy="2541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C:\Users\KKorek\Documents\ABCFiles\2013 Myers AP 2e\Images\ImageJPGs_Module71\ImageJPGs_Module71\MyAP2e_71UN02.jpg"/>
          <p:cNvPicPr/>
          <p:nvPr/>
        </p:nvPicPr>
        <p:blipFill>
          <a:blip r:embed="rId7"/>
          <a:stretch/>
        </p:blipFill>
        <p:spPr>
          <a:xfrm>
            <a:off x="6905520" y="1447920"/>
            <a:ext cx="196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6-03-15T10:29:54Z</dcterms:modified>
  <cp:revision>249</cp:revision>
  <dc:subject/>
  <dc:title>Slide 1</dc:title>
</cp:coreProperties>
</file>