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C145-894D-4833-B7F0-CEAFC4079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6495-CC55-4D39-A166-412BD2016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F29C-C5E3-4883-B3DE-27ABF3FC6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3CD7-7418-4770-9965-1ACDB39F5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B5369-6794-4778-9163-FD8AB33B0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38FCC-40FF-489D-87E5-374F593FA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31D5B-BAB8-4455-8A01-0546FEE88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E4AFA-4AF1-4293-9594-C670ED4F0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BB000-44DF-432F-9D2D-D3A7AD3EC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ECF12-A334-4024-BD04-E365BA83D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D81A5-2D48-44BB-8170-7EA36295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FE8F-7EED-4301-B87C-6E0CB124A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F4A56-C169-4016-821F-8D9E1319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89899-2F50-4F21-B4F7-3CA27B58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2DC4A-FC62-4153-A2F0-AB2DDC575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9D02D-F693-467D-B772-BB0924B57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118A3-00C1-4159-A1B4-4533B56F6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0735D-F113-4B34-99D1-4D445F96B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8253B-44DB-4A44-9600-9E3E56A7F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B3859-B3E4-4814-8BBC-7EFBD4AF2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BF906-8EBD-439A-BD4A-26606054A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8D327-470A-4764-B08D-15BDB5879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03DD-6BC4-43A0-8C86-23A448490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15B93-B672-4E47-AB80-12931813D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2345A-2BD8-408D-83F9-9FF69808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4BB91-859A-4A4F-BFFC-18409B36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BBC92-43EC-40DC-A164-73155A9D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4C559-5409-4D64-8FBB-8AEDC5F6D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50904-D6CE-4317-858A-8F818F00F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5B37F-19CA-4595-8C26-A62077975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80E30-8BD6-4D7D-B23F-EAC76E8EB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ABD1F-64C7-4BC4-9B65-C4625162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D1C52-D4BA-4E99-AA27-E0629C03F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3340-0D8C-4551-AAF6-E39DB709A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DBBC3-EDDA-4A90-841A-7E06C6FCE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1FC88-2823-4001-9740-C81EDA481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4B3BC-CAC9-4685-948B-BC01B2C7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601FE-F6DC-4CD5-9253-4FE42BAE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77839-04A5-425F-994A-4E700EDC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50592-51DD-4811-9C3E-D47CC04E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240AD-566F-43DE-AD89-4D3C0C87E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B911C-14AA-4366-AB38-8DA09DCFB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51AAE-A026-48A2-AE7D-B3A64633A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6062-31D0-4518-B4E4-F600B067F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69B9-70DB-4685-944F-A99CAC0F1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5408-4957-49CF-8902-15EED244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73B1-523B-4C0F-A0F8-39C37AA8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F3FC-A41B-4B40-BEA7-C926C97A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32898-D5E5-43B3-947E-81B73FCA0510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7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8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9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0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1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2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3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4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5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6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611D9-DB05-4EE0-9F9A-51D880E31718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E56E9-9045-47A0-A134-E0374D068166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6FF07-5D72-4D07-AB68-499B72ED8C16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762120" y="2437920"/>
            <a:ext cx="9144000" cy="20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900" spc="-1" strike="noStrike">
                <a:solidFill>
                  <a:srgbClr val="90c226"/>
                </a:solidFill>
                <a:latin typeface="Arial"/>
                <a:ea typeface="Arial"/>
              </a:rPr>
              <a:t>Unit 13: Treatment of Abnormal Behaviors </a:t>
            </a:r>
            <a:br>
              <a:rPr sz="4900"/>
            </a:br>
            <a:endParaRPr b="0" lang="en-US" sz="49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90c226"/>
                </a:solidFill>
                <a:latin typeface="Arial"/>
                <a:ea typeface="Arial"/>
              </a:rPr>
              <a:t>Psychoanalytic Therapy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4" name="Content Placeholder 2"/>
          <p:cNvSpPr/>
          <p:nvPr/>
        </p:nvSpPr>
        <p:spPr>
          <a:xfrm>
            <a:off x="3240" y="685800"/>
            <a:ext cx="91407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sychoanalysis-goal of therapy is to identify the unconscious conflicts that are causing abnormal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ypnosis-altered state of consciousness; less likely to repress troubling though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ree association-patient says whatever comes to mi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ream analysis-patients describe their dreams, since the ego’s defense are relaxed while sleep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l 3 of these rely heavily on the interpretation of the psychologist/therap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ifest content-what the patient reve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tent (hidden content)-what the therapist interpr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istance-Patients disagreement with therapist’s thoughts; seen as a sign that therapist is “on the right tra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nsference-Patient begins to develop strong feelings for the therapist; used to try to identify the source of the problem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90c226"/>
                </a:solidFill>
                <a:latin typeface="Arial"/>
                <a:ea typeface="Arial"/>
              </a:rPr>
              <a:t>Psychodynamic Therapy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Content Placeholder 2"/>
          <p:cNvSpPr/>
          <p:nvPr/>
        </p:nvSpPr>
        <p:spPr>
          <a:xfrm>
            <a:off x="0" y="6858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ile many psychologists are/have been influenced by Freud; much of his original theory has been rejected.  Psychologists who have based their work on modified versions of Freud’s work are known as Psychodynamic theorists/psychologi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Less emphasis on hypnosis, dream analysis, &amp; Freud’s psychosexual theor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re emphasis on bringing awareness to a person of their cognition (the way &amp; why they think), importance of their unconscious, &amp; the important role of childhood development on adult behavi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90c226"/>
                </a:solidFill>
                <a:latin typeface="Arial"/>
                <a:ea typeface="Arial"/>
              </a:rPr>
              <a:t>Humanistic Therapi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8" name="Content Placeholder 2"/>
          <p:cNvSpPr/>
          <p:nvPr/>
        </p:nvSpPr>
        <p:spPr>
          <a:xfrm>
            <a:off x="0" y="6858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cus on helping people understand &amp; accept themselves AND to reach their highest potential (self-actualiz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People are innately goo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People control their own destinies (free will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rl Rogers (Client/person-centered therap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Therapist provides client with blanket acceptance/support, regardless of what they say/do (unconditional positive regard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Non-directive (active listening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Conscious rather than the unconscious though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the present and future rather than the pas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stalt therapy-emphasizes the importance of getting in touch with the patients’ whole self; integrating all actions, feelings, &amp; thoughts into a harmonious wh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istential therapies-Help clients to formulate a vision of their lives as worthw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60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90c226"/>
                </a:solidFill>
                <a:latin typeface="Arial"/>
                <a:ea typeface="Arial"/>
              </a:rPr>
              <a:t>Behavior Therapi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Content Placeholder 2"/>
          <p:cNvSpPr/>
          <p:nvPr/>
        </p:nvSpPr>
        <p:spPr>
          <a:xfrm>
            <a:off x="0" y="59364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havior Therapy-since all behavior is learned, classical conditioning, operant conditioning, and modeling can help “un-learn” behavi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unterconditioning-replaces unpleasant CR with a pleasant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ystematic desensitization-teaches patient to replace feelings of anxiety (unpleasant CR) with relaxation (pleasant C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versive conditioning-pairing a habit the patient wants to be rid of with an unpleasant stimul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perant conditioning-use of reinforcement/punishment to modify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oken economy-desired behaviors are rewarded with tokens that can be exchanged for objects/privile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eling-learning by observing &amp; then imitating the behavior of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90c226"/>
                </a:solidFill>
                <a:latin typeface="Arial"/>
                <a:ea typeface="Arial"/>
              </a:rPr>
              <a:t>Cognitive Therapi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Content Placeholder 2"/>
          <p:cNvSpPr/>
          <p:nvPr/>
        </p:nvSpPr>
        <p:spPr>
          <a:xfrm>
            <a:off x="0" y="7621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gnitive therapy-locate the cause of psychological problems &amp; try to change those unhealthy cognitive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ognitive triad-Person’s belief about him/herself, the world, and their futur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(Aaron Beck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ople suffering from depression often have irrationally negative beliefs corresponding to the tri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gnitive-Behavioral therapies (CB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ombine ideas/techniques of cognitive &amp; behavioral psycholo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90c226"/>
                </a:solidFill>
                <a:latin typeface="Arial"/>
                <a:ea typeface="Arial"/>
              </a:rPr>
              <a:t>Group and Family Therapi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Content Placeholder 2"/>
          <p:cNvSpPr/>
          <p:nvPr/>
        </p:nvSpPr>
        <p:spPr>
          <a:xfrm>
            <a:off x="-11160" y="609480"/>
            <a:ext cx="9155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roup therapy-Therapy sessions that are not 1 patient for 1 therap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amily therapy-group therapy involving a family unit; can be used to treat either family issues or individual issues that are related to family dynamic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roup therapy can involve a group of people who have no relationship with each other, but who suffer from similar proble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lf-help groups-group therapy that doesn’t involve a traditional therap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90c226"/>
                </a:solidFill>
                <a:latin typeface="Arial"/>
                <a:ea typeface="Arial"/>
              </a:rPr>
              <a:t>Somatic Therapi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6" name="Content Placeholder 2"/>
          <p:cNvSpPr/>
          <p:nvPr/>
        </p:nvSpPr>
        <p:spPr>
          <a:xfrm>
            <a:off x="-11160" y="609480"/>
            <a:ext cx="9155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rapies that produce bodily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rug therapy/psychopharmacolo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more severe a disorder, the more likely it is that drugs will be used to treat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chizophrenia, anxiety disorders, &amp; mood disorders are some of the disorders commonly treated with dru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lectroconvulsive therapy (E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Electroshock therapy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running current through 1/both hemispheres of the br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ectiveness is uncertain and controvers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sycho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urposeful destruction of part of the brain to alter a person’s behavior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botom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90c226"/>
                </a:solidFill>
                <a:latin typeface="Arial"/>
                <a:ea typeface="Arial"/>
              </a:rPr>
              <a:t>Eclectic Therapies/Kinds of Therapis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Content Placeholder 2"/>
          <p:cNvSpPr/>
          <p:nvPr/>
        </p:nvSpPr>
        <p:spPr>
          <a:xfrm>
            <a:off x="0" y="695160"/>
            <a:ext cx="91440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st therapists will not exclusively use just one therapy; the combination of different types of therapies is referred to as an eclectic 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0c226"/>
                </a:solidFill>
                <a:latin typeface="Arial"/>
                <a:ea typeface="Arial"/>
              </a:rPr>
              <a:t>Kinds of Therap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sychiatrists-medical doctors; permitted to prescribe med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inical psychologists-earn Ph.D.s &amp; usually deal with people who are suffering from problems more severe than normal everyday difficul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unseling therapists-graduate degree in psychology; typically deal with less severe problems than a clinical psychologist wo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sychoanalysts-usually trained in Freudian methods; may not hold a medical degree (depending on geographic loc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3:22:39Z</dcterms:created>
  <dc:creator>GSD</dc:creator>
  <dc:description/>
  <dc:language>en-US</dc:language>
  <cp:lastModifiedBy>Debes John</cp:lastModifiedBy>
  <dcterms:modified xsi:type="dcterms:W3CDTF">2017-03-09T16:01:30Z</dcterms:modified>
  <cp:revision>260</cp:revision>
  <dc:subject/>
  <dc:title>Slide 1</dc:title>
</cp:coreProperties>
</file>