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7897-6A01-47CD-A57F-6F2DEC8A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5436-08F0-4971-B973-1DE01A41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2D4-539D-4F0A-9738-8FA6EFB9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7E3-3A43-494E-A4E9-D77ACFB6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922D-D1E4-4571-93C8-724151D0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10B-907F-4F05-9B2F-4E90808E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B90-38B4-4705-9552-A44CB3DF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9CE-B3BE-4EEB-A554-CC0C9EC7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338-36B9-41DB-9C32-858CF0A4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8DA2-3789-4F49-9BAB-BABC008E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103-92A2-4E74-BA06-A5400D3A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724D-8827-4284-A351-6D709C63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cd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E5CC-443F-4BEC-82E6-4599A5CF7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84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Unit 12: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bnormal Behavio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ontent Placeholder 2"/>
          <p:cNvSpPr/>
          <p:nvPr/>
        </p:nvSpPr>
        <p:spPr>
          <a:xfrm>
            <a:off x="1908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ychoanalytic Psychology: an extremely traumatic event is thoroughly repressed, causing a split in consc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havioral Psychology: people who have experienced traumatic events find that not thinking about it is rewarding, which can lead to amnesia or (in extreme cases) 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ories about the Cause of Dissociative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ople with these disorders experience extreme or inappropriate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jor depressive disorder (unipolar depress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wo weeks of low mood that is present across most situations; often accompanied by low self-esteem, loss of interest in normally enjoyable activities, low energy, and pain without a clear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polar disorder (manic depress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iods in which people feel overly happy &amp; energized and other periods of feeling very sad, hopeless, &amp; sluggish. In between those periods, they usually feel nor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od/Affective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Content Placeholder 2"/>
          <p:cNvSpPr/>
          <p:nvPr/>
        </p:nvSpPr>
        <p:spPr>
          <a:xfrm>
            <a:off x="1908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sychoanalytic Psychology: may be the production of anger directed inward, loss during the early psychosexual stages, or an overly punitive super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gnitive Psychology: may be caused by the “cognitive triad,” unreasonably negative ideas that people have about themselves, their world, &amp; their futures.  They could, alternatively, be caused by pessimistic cognitive at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havioral Psychology: people learn the behaviors associated with these disorders (learned helplessness); they don’t think they can’t control some/all aspects of their life &amp; become depre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logical Psychology: evidence suggests that low levels of serotonin and/or norepinephrine may cause/increase depression; people with bipolar disorder have more acetylcholine (ACh) receptors in their brain &amp; sk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ories about the Cause of Mood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ople with schizophrenia tend to suffer from disordered, distorted thinking, often characterized by delusions, hallucinations &amp; disorganized langu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izophrenic symptoms are usually divided into 2 types: positive symptoms &amp; negative symp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ve symptoms-excesses in behavior, thought, or mo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“extra” stuf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gative symptoms-deficits like severed reduction in emotional expression (flat affect), and catatonia (immobility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“missing” stuff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izophrenic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ontent Placeholder 2"/>
          <p:cNvSpPr/>
          <p:nvPr/>
        </p:nvSpPr>
        <p:spPr>
          <a:xfrm>
            <a:off x="1908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logical Psychology: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pamine hypothesis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gh levels of dopamine may cause/are associated with schizophrenia; enlarged brain vessels &amp; brain asymmetries are associated with schizophrenia,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havioral Psychology: people have learned distorted ways of thinking through the constant presence of contradictory messages/inform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“double blind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ories about the Cause of Schizophrenic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ll-established, maladaptive ways of behaving that negatively affect a person’s ability to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tisocial personality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ttle regard for other people’s fee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sychopath (displays abnormal or violent social behavi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ciopath (extreme antisocial attitudes and behavi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pendent personality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y too much on the attention/help of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rsonality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47664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sessive-Compulsive Disor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0" y="72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sessive-compulsive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persistent, unwanted thoughts cause someone to feel the need to engage in a particular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sessions (though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lsions (needs/behavi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sttraumatic Stress Disor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st-traumatic stress disorder (PTS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olves flashbacks/nightmares following a person’s involvement in or observation of an extremely troubling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llshock” or “battle fatigu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t just due to a war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KKorek\Documents\ABCFiles\2013 Myers AP 2e\Images\ImageJPGs_Module66\ImageJPGs_Module66\MyAP2e_66UN04.jpg"/>
          <p:cNvPicPr/>
          <p:nvPr/>
        </p:nvPicPr>
        <p:blipFill>
          <a:blip r:embed="rId1"/>
          <a:stretch/>
        </p:blipFill>
        <p:spPr>
          <a:xfrm>
            <a:off x="5867280" y="4313160"/>
            <a:ext cx="29718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er Psychological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aphilia/psychosexual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xual attraction to an object, person, or activity not usually seen as sex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ting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orexia, bulimia, binge-eating disorder, obe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stance abuse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substance(s) that negatively affect a person’s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urodevelopmental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ten deal with deviations from typical soci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ism spectrum disorder (A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tion-deficit/hyperactivity disorder (ADH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Defining Psychological Disorder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sychological disorders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ladaptive (harmful) for the individu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main criteria for defining a behavior as disorde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turbing to the individual and/or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rr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733920" y="3100320"/>
            <a:ext cx="327636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ifying Psychological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agnostic and Statistical Manual of Mental Disorders (D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SM-5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published 2013; first revision in 2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agnostic labels of the disorders, not their causes or trea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sychological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xiety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atoform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sociative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od/affective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chizophrenic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rsonality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ontent Placeholder 2"/>
          <p:cNvSpPr/>
          <p:nvPr/>
        </p:nvSpPr>
        <p:spPr>
          <a:xfrm>
            <a:off x="-648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neralized anxiety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tant, low-level anxiety; no single specific 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nic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ute episodes of intense anxiety (no apparent cause) **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nic attacks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ho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nse, unwarranted fear of a                                situation/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xiety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ontent Placeholder 2"/>
          <p:cNvSpPr/>
          <p:nvPr/>
        </p:nvSpPr>
        <p:spPr>
          <a:xfrm>
            <a:off x="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psychological perspectives believe they are caused in different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ychoanalytic Psychology-caused by unresolved, unconscious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havioral Psychology-anxiety disorders are learned (as are all behavi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gnitive Psychology-disorders are the result of dysfunctional ways of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2556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ories about the Cause of Anxiety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ccur when a person manifests a psychological problem through a physiological symp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person experiences a physical problem in the absent of an identifiable physical 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.e.-conversion dis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SM-5 renamed these disorders as Somatic symptom and related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omatoform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ontent Placeholder 2"/>
          <p:cNvSpPr/>
          <p:nvPr/>
        </p:nvSpPr>
        <p:spPr>
          <a:xfrm>
            <a:off x="14400" y="145080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psychological perspectives believe they are caused in different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ychodynamic Psychology-these disorders are merely outward manifestations of unresolved unconscious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havioral Psychology-The symptoms of these disorders are being reinforced, thus perpetuating those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ories about the Cause of Somatoform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volve a disruption in conscious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person experiences a physical problem in the absent of an identifiable physical 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.e.-dissociative amnesia: a person can’t remember things, but there is no physiological basis for the memory impai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.e.-dissociative identity disorder (DID): when a person has several personalities, rather than jus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erly called multiple personality dis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sociative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7-03-09T17:36:05Z</dcterms:modified>
  <cp:revision>271</cp:revision>
  <dc:subject/>
  <dc:title>Slide 1</dc:title>
</cp:coreProperties>
</file>