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3AB-4B1E-484E-BC47-A975DA03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957-94A1-4DF1-A657-C4EBC3CB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E46-F44D-41E7-9B8E-D4C36D62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6C8-231F-41C7-A7C2-F7D818F9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D6F0-7119-485D-B2EF-0DBCA2EF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E7F-B484-4E41-BE4B-087A001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6607-1516-44FA-9E2E-4647CD77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64DD-2E41-42C9-B3EB-EE4BE4E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2A9-4A6C-47D8-864B-1BBDBE9B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9AC0-6DAD-4478-936C-1682E614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09BB-8BDB-474A-AB45-39F222FA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037-2560-4D2B-99D1-9392F38E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1BC1-AAB6-4C5C-B88E-85ECAF4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00D0-0EF1-4BD8-B124-9E4688D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F95-6E12-4BC9-8390-ACA46B4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576-6DA0-471D-B72E-70191B9B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876E-8DA8-49F0-99B4-DBE56228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AE0-EDAE-43E6-B7B4-51118F1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E28-060B-4B23-BE7A-969E154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976-5B89-43F0-9039-CF6A49E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EDF-BEB5-4268-B332-CCF0172A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354-2F76-49CE-BB23-98DF342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AE0-D77F-47F8-B2C8-53BC93C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5A3-7F28-4138-A563-8ECE66D2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BBE0-367E-493C-B15F-F64976CE3E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1DC9-8465-4097-AF17-9E69718991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Supreme Cour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Appointing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sident appoints all Supreme Court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ments must be approved by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onstitutional requirements to be a Supreme Court Justice, but when making appointments, presidents often consider (among other criteri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affiliation , Judicial (political) philosophy , experience – “litmus test,” and Accep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Appointing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ident appoints all Supreme Court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men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 be approved by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 Constitutional requiremen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a Supreme Court Justic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making appointment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idents often consid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mong other criteri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ty affiliation , Judicial (political) philosophy , experience – “litmus test,” and Accep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Appointing the Supreme Court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ty affiliation-nominees are almost always members of the same political party as the Presi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udicial (political) philosophy-nominees will tend to think similarly to the President (i.e.-conservative, liberal, et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erience-nominees will almost always have experience in the legal field, usually as a lower-court federal jud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tmus test-nominees will share a line of thinking with the President on a single key issue that is important to the President (i.e.-abortion, same-sex marriage, et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cceptability-The President does not want his appointment to be denied by the Senate, so he tries to nominate individuals who will easily be appr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Appointing the Supreme Court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rty affiliation-nominee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lmost alway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members of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me political party as the Presi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Judicial (political) philosophy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tend to think similarly to the Presid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(i.e.-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onservative, liberal, etc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Experience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lmost always have experience in the legal fiel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usually as a lower-court federal jud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Litmus tes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nominees wi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hare a line of thinking with the President on a single key issu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at is important to the President (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.e.-abortion, same-sex marriage, etc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Acceptability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The President does not want his appointment to be denied by the Senate, so he tries to nominat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ndividuals who will easily be approve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" y="1061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ef Justice: John Roberts, J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Official_roberts_CJ"/>
          <p:cNvPicPr/>
          <p:nvPr/>
        </p:nvPicPr>
        <p:blipFill>
          <a:blip r:embed="rId2"/>
          <a:stretch/>
        </p:blipFill>
        <p:spPr>
          <a:xfrm>
            <a:off x="5237280" y="76212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David Hackett Souter"/>
          <p:cNvPicPr/>
          <p:nvPr/>
        </p:nvPicPr>
        <p:blipFill>
          <a:blip r:embed="rId4"/>
          <a:stretch/>
        </p:blipFill>
        <p:spPr>
          <a:xfrm>
            <a:off x="7659720" y="3686040"/>
            <a:ext cx="1133280" cy="13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7" descr="Anthony McLeod Kennedy"/>
          <p:cNvPicPr/>
          <p:nvPr/>
        </p:nvPicPr>
        <p:blipFill>
          <a:blip r:embed="rId5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AntoninScalia"/>
          <p:cNvPicPr/>
          <p:nvPr/>
        </p:nvPicPr>
        <p:blipFill>
          <a:blip r:embed="rId6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Samuel Anthony Alito"/>
          <p:cNvPicPr/>
          <p:nvPr/>
        </p:nvPicPr>
        <p:blipFill>
          <a:blip r:embed="rId7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4" descr=""/>
          <p:cNvPicPr/>
          <p:nvPr/>
        </p:nvPicPr>
        <p:blipFill>
          <a:blip r:embed="rId8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"/>
          <p:cNvPicPr/>
          <p:nvPr/>
        </p:nvPicPr>
        <p:blipFill>
          <a:blip r:embed="rId9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920" y="1061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ief Justice: John Roberts, J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ssociate Justic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1a"/>
                </a:solidFill>
                <a:latin typeface="Tahoma"/>
              </a:rPr>
              <a:t>ANTONIN SC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THONY M.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ARENCE TH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UTH BADER GINSBU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EPHEN G. BR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AMUEL A. ALITO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ONIA SOTO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NA KA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Official_roberts_CJ"/>
          <p:cNvPicPr/>
          <p:nvPr/>
        </p:nvPicPr>
        <p:blipFill>
          <a:blip r:embed="rId2"/>
          <a:stretch/>
        </p:blipFill>
        <p:spPr>
          <a:xfrm>
            <a:off x="5237280" y="76212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David Hackett Souter"/>
          <p:cNvPicPr/>
          <p:nvPr/>
        </p:nvPicPr>
        <p:blipFill>
          <a:blip r:embed="rId4"/>
          <a:stretch/>
        </p:blipFill>
        <p:spPr>
          <a:xfrm>
            <a:off x="7659720" y="3686040"/>
            <a:ext cx="1133280" cy="138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Anthony McLeod Kennedy"/>
          <p:cNvPicPr/>
          <p:nvPr/>
        </p:nvPicPr>
        <p:blipFill>
          <a:blip r:embed="rId5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AntoninScalia"/>
          <p:cNvPicPr/>
          <p:nvPr/>
        </p:nvPicPr>
        <p:blipFill>
          <a:blip r:embed="rId6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Samuel Anthony Alito"/>
          <p:cNvPicPr/>
          <p:nvPr/>
        </p:nvPicPr>
        <p:blipFill>
          <a:blip r:embed="rId7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"/>
          <p:cNvPicPr/>
          <p:nvPr/>
        </p:nvPicPr>
        <p:blipFill>
          <a:blip r:embed="rId8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"/>
          <p:cNvPicPr/>
          <p:nvPr/>
        </p:nvPicPr>
        <p:blipFill>
          <a:blip r:embed="rId9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3316320" y="2308320"/>
            <a:ext cx="158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1a"/>
                </a:solidFill>
                <a:latin typeface="Times New Roman"/>
              </a:rPr>
              <a:t>Died: 2/13/16; position has not been filled y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Term of Office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justices (all Constitutional court judges) serve “during good behavior,” which generally means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 – This practice allows judges to be free from political pressures when deciding cases (don’t have to worry about being re-elected/re-appoint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can not be removed from office (for any reason) by a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only be forcibly removed from office through impeachment and 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2 federal judges impeached – 7 found guilty &amp;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</a:rPr>
              <a:t>Term of Office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justices (all Constitutional court judges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rve “during good behavior,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nerally means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is practi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ows judges to be free from political pressur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en deciding cases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n’t have to worry about being re-elected/re-appoin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 not be remo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office (for any reason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a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ly be forcibly removed from office through impeachment and 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2 federal judges impeached – 7 found guilty &amp;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s the Supreme Court in se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the Supreme Court begins on the first Monday in Oct. and generally lasts until June or July of the following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152280" y="36720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s the Supreme Court in se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reme Court begins on the first Monday in Oct. and generally lasts until June or July of the following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152280" y="36720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Cre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dicial Branch created in Article III of the U.S. Constit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ly 1 federal court created – The U.S. Supreme Cou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“inferior” federal courts are created by acts of Cong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POLRES%20FedCrt"/>
          <p:cNvPicPr/>
          <p:nvPr/>
        </p:nvPicPr>
        <p:blipFill>
          <a:blip r:embed="rId1"/>
          <a:stretch/>
        </p:blipFill>
        <p:spPr>
          <a:xfrm>
            <a:off x="5543640" y="4394160"/>
            <a:ext cx="3416040" cy="2452680"/>
          </a:xfrm>
          <a:prstGeom prst="rect">
            <a:avLst/>
          </a:prstGeom>
          <a:ln w="0">
            <a:noFill/>
          </a:ln>
        </p:spPr>
      </p:pic>
      <p:pic>
        <p:nvPicPr>
          <p:cNvPr id="157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158" name="Ink 10" descr=""/>
          <p:cNvPicPr/>
          <p:nvPr/>
        </p:nvPicPr>
        <p:blipFill>
          <a:blip r:embed="rId3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159" name="Ink 12" descr=""/>
          <p:cNvPicPr/>
          <p:nvPr/>
        </p:nvPicPr>
        <p:blipFill>
          <a:blip r:embed="rId4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Supreme Court accept a case to revie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sands of cases are appealed to the Supreme Court every year- only a few hundred are actually he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ases denied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Justices agree with the lower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ustices believe the case does not involve a significant point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s that are accepted must meet the rule of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of the nine justices must agree to hear the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The Supreme Court At Work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Supreme Court accept a case to revie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ousands of cases are appealed to the Supreme Court every year- only a few hundred are actually he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cases denied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stices agree with the lower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stices believe the case does not involve a significant point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are accep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st meet the rule of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ur of the nine justices must agre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ear the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34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a case reaches the Supreme Court, lawyers for each party file a written br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-A detailed statement of the facts of the case supporting a particular position by presenting arguments based on relevant facts and citations from 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al arguments allow both sides to present their positions to the justices during a 30 minute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may interrupt lawyers during this time, raising questions or challenging points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34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a case reaches the Supreme Cour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wyers for each party file a written br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-A detailed statement of the facts of the c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porting a particular posi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presenting argu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sed on relevant facts 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ation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al argumen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both sides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sent their positions to the justices during a 30 minute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s may interrupt lawyers during this time, raising questions or challenging points of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440" y="10666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 decisions are explained in a written statement called an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Types of Opin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Majority Opinion – opinion agreed upon by a majority of the 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Concurring Opinion – written by a justice or justices who agree with the majority opinion, but not with the reasoning behind the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issenting Opinion – written by a justices or justices who disagree with the majority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pinion become prece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ndards or guides to be followed in deciding similar cases in the fu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0440" y="10666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preme Court decis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xplained in a written statem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lled an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 Typ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Opin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jority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opin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p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a majority of the 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curring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itten by a justice or justices wh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gree with the majority opin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t not with the reasoning behind the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senting Opin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itten by a justices or justices wh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agree with the majority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jority opinion become prece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ndards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uides to be followed in deciding similar case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 the fu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Re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st-known power of the Supreme Court is judicial review, or the ability of the Court to declare a Legislative or Executive act in violation of the Constitution, is not found within the text of the Constitution itself. The Court established this doctrine in the ca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ower can not be independently checked by either of the other 2 branches; A Supreme Court decision can only be nullified by a Constitutional Amendment (which involves state approval) or another Supreme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Judicial Re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st-known power of the Supreme Cour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judicial review, o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our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declare a Legislative or Executive act in violation of the Constitut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is not found within the text of the Constitution itself. The Court established this doctrine in the ca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wer can not be independently checked by either of the other 2 bran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A Supreme Court decis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 only be nullified by a Constitutional Amendm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which involves state approval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another Supreme Court d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574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Judicial Ac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urt should play a more active role in creating national policies and answering questions of conflict in society; they do this by ACTIVELY using their power of judicial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udicial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urt should operate strictly within the limits of the Constitution and only answer questions if a clear violation of the Constitution is present. They are much less likely to declare acts of Congress/The President to be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574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icial Ac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urt should play a more active role in creating national poli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answering questions of conflict in society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y do this by ACTIVELY using their power of judicial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icial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urt should operate strictly within the limits of the Constit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only answer questions if a clear violation of the Constitution is present. They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 less likely to declare acts of Congress/The President to be unconstitu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bbd71"/>
                </a:solidFill>
                <a:uFillTx/>
                <a:latin typeface="Times New Roman"/>
              </a:rPr>
              <a:t>Cre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dicial Branch creat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 Article III of the U.S. Constit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n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1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ederal court creat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U.S. Supreme Cou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“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ferior” federal cour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reated b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cts of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g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POLRES%20FedCrt"/>
          <p:cNvPicPr/>
          <p:nvPr/>
        </p:nvPicPr>
        <p:blipFill>
          <a:blip r:embed="rId1"/>
          <a:stretch/>
        </p:blipFill>
        <p:spPr>
          <a:xfrm>
            <a:off x="5543640" y="4394160"/>
            <a:ext cx="3416040" cy="2452680"/>
          </a:xfrm>
          <a:prstGeom prst="rect">
            <a:avLst/>
          </a:prstGeom>
          <a:ln w="0">
            <a:noFill/>
          </a:ln>
        </p:spPr>
      </p:pic>
      <p:pic>
        <p:nvPicPr>
          <p:cNvPr id="163" name="Ink 10" descr=""/>
          <p:cNvPicPr/>
          <p:nvPr/>
        </p:nvPicPr>
        <p:blipFill>
          <a:blip r:embed="rId2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owers of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rs viewed the federal judiciary as an important check against Congress and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reme Court’s powers are significant, but passive-it can only act on matters/issues that are brought to its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Powers of the Supreme Cour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mers view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ed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iciary as an important check against Congress and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7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rt’s powers are significant, but pa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 only act on matters/issu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ought to its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Picture 1"/>
          <p:cNvPicPr/>
          <p:nvPr/>
        </p:nvPicPr>
        <p:blipFill>
          <a:blip r:embed="rId1"/>
          <a:stretch/>
        </p:blipFill>
        <p:spPr>
          <a:xfrm>
            <a:off x="106200" y="1066680"/>
            <a:ext cx="896148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5105520" y="36576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8" descr="Picture 1"/>
          <p:cNvPicPr/>
          <p:nvPr/>
        </p:nvPicPr>
        <p:blipFill>
          <a:blip r:embed="rId1"/>
          <a:stretch/>
        </p:blipFill>
        <p:spPr>
          <a:xfrm>
            <a:off x="106200" y="1066680"/>
            <a:ext cx="896148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"/>
          <p:cNvSpPr/>
          <p:nvPr/>
        </p:nvSpPr>
        <p:spPr>
          <a:xfrm>
            <a:off x="533520" y="2514600"/>
            <a:ext cx="624816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304920" y="3505320"/>
            <a:ext cx="351144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2200" y="4343400"/>
            <a:ext cx="3494160" cy="0"/>
          </a:xfrm>
          <a:prstGeom prst="line">
            <a:avLst/>
          </a:prstGeom>
          <a:ln w="200160">
            <a:solidFill>
              <a:srgbClr val="00b0f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105520" y="36576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 Jurisdiction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at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original jurisdiction over certain cases like suits between two or more states and/or cases involving ambassad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appellate jurisdiction on almost any other case that involves a point of constitutional and/or federal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ases the Supreme Court hears are appellate, in nature (over 90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Times New Roman"/>
              </a:rPr>
              <a:t>Supreme Court Jurisdiction, co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at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iginal jurisdiction over certain c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ke suits between two or more states and/or cases involving ambassad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r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ppellate jurisdiction on almost any other case that involves a point of constitutional and/or federal la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st c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upreme Court hea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e appel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n nature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ver 90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Debes John</cp:lastModifiedBy>
  <dcterms:modified xsi:type="dcterms:W3CDTF">2016-05-06T16:31:51Z</dcterms:modified>
  <cp:revision>23</cp:revision>
  <dc:subject/>
  <dc:title>The Judicial Branch</dc:title>
</cp:coreProperties>
</file>