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4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299F-A247-409A-8869-6B0A7DE0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CB92-D596-408B-B45B-FF160FBF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229-C2B2-4884-AD38-49EE83B5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A3CD-D84A-4BD8-841B-738B2E6F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4657-5AE3-4DED-AE9A-386BC698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C7A8-C800-495A-BDFB-FF6AF3CB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E5B1-27B2-4BD2-97A2-DC2B3834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81FA-796E-4BF8-832D-9494A37D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EC34-7ED5-43BF-B2ED-6FE796E4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2ACA-FC94-4705-8101-C2FAC4CA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3A1B-3826-464E-9BC4-46CD1B4D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F6AD-8206-4635-A056-0E279262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739E-A1A5-4877-8E48-2F79BAE9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AFAE-3316-4FCF-BD5D-D0788F6F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634C-7955-46E9-949F-DFC66969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FFEE-045A-4B96-8925-9AEE0519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1423-06A4-42B2-A806-ECA72389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718C-8430-4780-8FB3-475893E1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FD42-6345-4D64-B71E-2C50AFA3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FDA-8FFE-4111-918B-B8300FD0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FA24-AFCC-431B-AF30-699ECFED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E13F-F8C1-4755-9C0A-D9E61B30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7E04-2438-464A-8627-FE5D1842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93E9-8157-4E2E-AACC-249DDCFE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9C19-5DBC-4DBB-A8E9-E35E487996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7DF1-FC00-4A6B-8BF4-7F8C205A6B2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870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bbd71"/>
                </a:solidFill>
                <a:latin typeface="Times New Roman"/>
              </a:rPr>
              <a:t>The Supreme Court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Appointing the Supreme Cour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45684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639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esident appoints all Supreme Court just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ointments must be approved by the US Sen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Constitutional requirements to be a Supreme Court Justice, but when making appointments, presidents often consider (among other criteria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y affiliation , Judicial (political) philosophy , experience – “litmus test,” and Accept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Appointing the Supreme Cour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280" y="45684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639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esident appoints all Supreme Court just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ointment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ust be approved by the US Sen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 Constitutional requirement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be a Supreme Court Justice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u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hen making appointments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esidents often conside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among other criteria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arty affiliation , Judicial (political) philosophy , experience – “litmus test,” and Accept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Appointing the Supreme Court, co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45684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1" marL="609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ty affiliation-nominees are almost always members of the same political party as the Presid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udicial (political) philosophy-nominees will tend to think similarly to the President (i.e.-conservative, liberal, etc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perience-nominees will almost always have experience in the legal field, usually as a lower-court federal judg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itmus test-nominees will share a line of thinking with the President on a single key issue that is important to the President (i.e.-abortion, same-sex marriage, etc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cceptability-The President does not want his appointment to be denied by the Senate, so he tries to nominate individuals who will easily be approve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Appointing the Supreme Court, co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280" y="45684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1" marL="609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Party affiliation-nominees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r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almost always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members of th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same political party as the Presid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Judicial (political) philosophy-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ominees will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tend to think similarly to the President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(i.e.-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conservative, liberal, etc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Experience-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ominees will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almost always have experience in the legal field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, usually as a lower-court federal judg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Litmus test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nominees will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share a line of thinking with the President on a single key issue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at is important to the President (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i.e.-abortion, same-sex marriage, etc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Acceptability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The President does not want his appointment to be denied by the Senate, so he tries to nominat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individuals who will easily be approved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1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U.S. Supreme Court Toda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0920" y="1061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ief Justice: John Roberts, J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ssociate Justices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ONIN SCA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HONY M. KENNE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RENCE THO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TH BADER GINSBU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EPHEN G. BREY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MUEL A. ALITO, J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NIA SOTOMAY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NA KAG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9" descr="Ruth_Bader_Ginsburg_official_portrait"/>
          <p:cNvPicPr/>
          <p:nvPr/>
        </p:nvPicPr>
        <p:blipFill>
          <a:blip r:embed="rId1"/>
          <a:stretch/>
        </p:blipFill>
        <p:spPr>
          <a:xfrm>
            <a:off x="4592520" y="3686040"/>
            <a:ext cx="1122480" cy="1447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Official_roberts_CJ"/>
          <p:cNvPicPr/>
          <p:nvPr/>
        </p:nvPicPr>
        <p:blipFill>
          <a:blip r:embed="rId2"/>
          <a:stretch/>
        </p:blipFill>
        <p:spPr>
          <a:xfrm>
            <a:off x="5237280" y="762120"/>
            <a:ext cx="2124000" cy="2712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Clarence_Thomas_official"/>
          <p:cNvPicPr/>
          <p:nvPr/>
        </p:nvPicPr>
        <p:blipFill>
          <a:blip r:embed="rId3"/>
          <a:stretch/>
        </p:blipFill>
        <p:spPr>
          <a:xfrm>
            <a:off x="5697360" y="3686040"/>
            <a:ext cx="1040040" cy="1447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5" descr="David Hackett Souter"/>
          <p:cNvPicPr/>
          <p:nvPr/>
        </p:nvPicPr>
        <p:blipFill>
          <a:blip r:embed="rId4"/>
          <a:stretch/>
        </p:blipFill>
        <p:spPr>
          <a:xfrm>
            <a:off x="7659720" y="3686040"/>
            <a:ext cx="1133280" cy="1381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7" descr="Anthony McLeod Kennedy"/>
          <p:cNvPicPr/>
          <p:nvPr/>
        </p:nvPicPr>
        <p:blipFill>
          <a:blip r:embed="rId5"/>
          <a:stretch/>
        </p:blipFill>
        <p:spPr>
          <a:xfrm>
            <a:off x="6629400" y="3675240"/>
            <a:ext cx="1066680" cy="1447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9" descr="AntoninScalia"/>
          <p:cNvPicPr/>
          <p:nvPr/>
        </p:nvPicPr>
        <p:blipFill>
          <a:blip r:embed="rId6"/>
          <a:stretch/>
        </p:blipFill>
        <p:spPr>
          <a:xfrm>
            <a:off x="4162320" y="5168880"/>
            <a:ext cx="990720" cy="1295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3" descr="Samuel Anthony Alito"/>
          <p:cNvPicPr/>
          <p:nvPr/>
        </p:nvPicPr>
        <p:blipFill>
          <a:blip r:embed="rId7"/>
          <a:stretch/>
        </p:blipFill>
        <p:spPr>
          <a:xfrm>
            <a:off x="5238720" y="5168880"/>
            <a:ext cx="917640" cy="1295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4" descr=""/>
          <p:cNvPicPr/>
          <p:nvPr/>
        </p:nvPicPr>
        <p:blipFill>
          <a:blip r:embed="rId8"/>
          <a:stretch/>
        </p:blipFill>
        <p:spPr>
          <a:xfrm>
            <a:off x="6291360" y="5122800"/>
            <a:ext cx="1127160" cy="1459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6" descr=""/>
          <p:cNvPicPr/>
          <p:nvPr/>
        </p:nvPicPr>
        <p:blipFill>
          <a:blip r:embed="rId9"/>
          <a:stretch/>
        </p:blipFill>
        <p:spPr>
          <a:xfrm>
            <a:off x="7456320" y="5078520"/>
            <a:ext cx="1071720" cy="1474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1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U.S. Supreme Court Toda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0920" y="1061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ief Justice: John Roberts, J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Associate Justices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1a"/>
                </a:solidFill>
                <a:latin typeface="Tahoma"/>
              </a:rPr>
              <a:t>ANTONIN SCA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NTHONY M. KENNE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LARENCE THO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UTH BADER GINSBU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EPHEN G. BREY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AMUEL A. ALITO, J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ONIA SOTOMAY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LENA KAG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9" descr="Ruth_Bader_Ginsburg_official_portrait"/>
          <p:cNvPicPr/>
          <p:nvPr/>
        </p:nvPicPr>
        <p:blipFill>
          <a:blip r:embed="rId1"/>
          <a:stretch/>
        </p:blipFill>
        <p:spPr>
          <a:xfrm>
            <a:off x="4592520" y="3686040"/>
            <a:ext cx="1122480" cy="1447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Official_roberts_CJ"/>
          <p:cNvPicPr/>
          <p:nvPr/>
        </p:nvPicPr>
        <p:blipFill>
          <a:blip r:embed="rId2"/>
          <a:stretch/>
        </p:blipFill>
        <p:spPr>
          <a:xfrm>
            <a:off x="5237280" y="762120"/>
            <a:ext cx="2124000" cy="2712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Clarence_Thomas_official"/>
          <p:cNvPicPr/>
          <p:nvPr/>
        </p:nvPicPr>
        <p:blipFill>
          <a:blip r:embed="rId3"/>
          <a:stretch/>
        </p:blipFill>
        <p:spPr>
          <a:xfrm>
            <a:off x="5697360" y="3686040"/>
            <a:ext cx="1040040" cy="1447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David Hackett Souter"/>
          <p:cNvPicPr/>
          <p:nvPr/>
        </p:nvPicPr>
        <p:blipFill>
          <a:blip r:embed="rId4"/>
          <a:stretch/>
        </p:blipFill>
        <p:spPr>
          <a:xfrm>
            <a:off x="7659720" y="3686040"/>
            <a:ext cx="1133280" cy="1381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Anthony McLeod Kennedy"/>
          <p:cNvPicPr/>
          <p:nvPr/>
        </p:nvPicPr>
        <p:blipFill>
          <a:blip r:embed="rId5"/>
          <a:stretch/>
        </p:blipFill>
        <p:spPr>
          <a:xfrm>
            <a:off x="6629400" y="3675240"/>
            <a:ext cx="1066680" cy="1447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AntoninScalia"/>
          <p:cNvPicPr/>
          <p:nvPr/>
        </p:nvPicPr>
        <p:blipFill>
          <a:blip r:embed="rId6"/>
          <a:stretch/>
        </p:blipFill>
        <p:spPr>
          <a:xfrm>
            <a:off x="4162320" y="5168880"/>
            <a:ext cx="990720" cy="1295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Samuel Anthony Alito"/>
          <p:cNvPicPr/>
          <p:nvPr/>
        </p:nvPicPr>
        <p:blipFill>
          <a:blip r:embed="rId7"/>
          <a:stretch/>
        </p:blipFill>
        <p:spPr>
          <a:xfrm>
            <a:off x="5238720" y="5168880"/>
            <a:ext cx="917640" cy="129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4" descr=""/>
          <p:cNvPicPr/>
          <p:nvPr/>
        </p:nvPicPr>
        <p:blipFill>
          <a:blip r:embed="rId8"/>
          <a:stretch/>
        </p:blipFill>
        <p:spPr>
          <a:xfrm>
            <a:off x="6291360" y="5122800"/>
            <a:ext cx="1127160" cy="1459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6" descr=""/>
          <p:cNvPicPr/>
          <p:nvPr/>
        </p:nvPicPr>
        <p:blipFill>
          <a:blip r:embed="rId9"/>
          <a:stretch/>
        </p:blipFill>
        <p:spPr>
          <a:xfrm>
            <a:off x="7456320" y="5078520"/>
            <a:ext cx="1071720" cy="14745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1"/>
          <p:cNvSpPr/>
          <p:nvPr/>
        </p:nvSpPr>
        <p:spPr>
          <a:xfrm>
            <a:off x="3316320" y="2308320"/>
            <a:ext cx="158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1a"/>
                </a:solidFill>
                <a:latin typeface="Times New Roman"/>
              </a:rPr>
              <a:t>Died: 2/13/16; position has not been filled ye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Times New Roman"/>
              </a:rPr>
              <a:t>Term of Office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reme Court justices (all Constitutional court judges) serve “during good behavior,” which generally means for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? – This practice allows judges to be free from political pressures when deciding cases (don’t have to worry about being re-elected/re-appoint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ices can not be removed from office (for any reason) by a P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y only be forcibly removed from office through impeachment and convi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12 federal judges impeached – 7 found guilty &amp; remov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dbbd71"/>
                </a:solidFill>
                <a:uFillTx/>
                <a:latin typeface="Times New Roman"/>
              </a:rPr>
              <a:t>Term of Office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reme Court justices (all Constitutional court judges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erve “during good behavior,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generally means for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hy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This practic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llows judges to be free from political pressur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hen deciding cases (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on’t have to worry about being re-elected/re-appoin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ic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an not be remov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office (for any reason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y a P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nly be forcibly removed from office through impeachment and convi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12 federal judges impeached – 7 found guilty &amp; remov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The Supreme Court At Wor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is the Supreme Court in sessi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rm of the Supreme Court begins on the first Monday in Oct. and generally lasts until June or July of the following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Picture 5" descr="U.S. Supreme Court, Courtroom"/>
          <p:cNvPicPr/>
          <p:nvPr/>
        </p:nvPicPr>
        <p:blipFill>
          <a:blip r:embed="rId1"/>
          <a:stretch/>
        </p:blipFill>
        <p:spPr>
          <a:xfrm>
            <a:off x="152280" y="3672000"/>
            <a:ext cx="4038840" cy="31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The Supreme Court At Wor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is the Supreme Court in sessi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rm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upreme Court begins on the first Monday in Oct. and generally lasts until June or July of the following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5" descr="U.S. Supreme Court, Courtroom"/>
          <p:cNvPicPr/>
          <p:nvPr/>
        </p:nvPicPr>
        <p:blipFill>
          <a:blip r:embed="rId1"/>
          <a:stretch/>
        </p:blipFill>
        <p:spPr>
          <a:xfrm>
            <a:off x="152280" y="3672000"/>
            <a:ext cx="4038840" cy="31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bbd71"/>
                </a:solidFill>
                <a:latin typeface="Times New Roman"/>
              </a:rPr>
              <a:t>Creation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7347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udicial Branch created in Article III of the U.S. Constitu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ly 1 federal court created – The U.S. Supreme Cour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 “inferior” federal courts are created by acts of Congr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5" descr="POLRES%20FedCrt"/>
          <p:cNvPicPr/>
          <p:nvPr/>
        </p:nvPicPr>
        <p:blipFill>
          <a:blip r:embed="rId1"/>
          <a:stretch/>
        </p:blipFill>
        <p:spPr>
          <a:xfrm>
            <a:off x="5543640" y="4394160"/>
            <a:ext cx="3416040" cy="2452680"/>
          </a:xfrm>
          <a:prstGeom prst="rect">
            <a:avLst/>
          </a:prstGeom>
          <a:ln w="0">
            <a:noFill/>
          </a:ln>
        </p:spPr>
      </p:pic>
      <p:pic>
        <p:nvPicPr>
          <p:cNvPr id="157" name="Ink 6" descr=""/>
          <p:cNvPicPr/>
          <p:nvPr/>
        </p:nvPicPr>
        <p:blipFill>
          <a:blip r:embed="rId2"/>
          <a:stretch/>
        </p:blipFill>
        <p:spPr>
          <a:xfrm>
            <a:off x="4319640" y="2930400"/>
            <a:ext cx="1352520" cy="263520"/>
          </a:xfrm>
          <a:prstGeom prst="rect">
            <a:avLst/>
          </a:prstGeom>
          <a:ln w="0">
            <a:noFill/>
          </a:ln>
        </p:spPr>
      </p:pic>
      <p:pic>
        <p:nvPicPr>
          <p:cNvPr id="158" name="Ink 10" descr=""/>
          <p:cNvPicPr/>
          <p:nvPr/>
        </p:nvPicPr>
        <p:blipFill>
          <a:blip r:embed="rId3"/>
          <a:stretch/>
        </p:blipFill>
        <p:spPr>
          <a:xfrm>
            <a:off x="4168800" y="1233360"/>
            <a:ext cx="3316320" cy="319320"/>
          </a:xfrm>
          <a:prstGeom prst="rect">
            <a:avLst/>
          </a:prstGeom>
          <a:ln w="0">
            <a:noFill/>
          </a:ln>
        </p:spPr>
      </p:pic>
      <p:pic>
        <p:nvPicPr>
          <p:cNvPr id="159" name="Ink 12" descr=""/>
          <p:cNvPicPr/>
          <p:nvPr/>
        </p:nvPicPr>
        <p:blipFill>
          <a:blip r:embed="rId4"/>
          <a:stretch/>
        </p:blipFill>
        <p:spPr>
          <a:xfrm>
            <a:off x="4338720" y="2886120"/>
            <a:ext cx="1404720" cy="309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The Supreme Court At Work, co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960" y="10666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es the Supreme Court accept a case to review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usands of cases are appealed to the Supreme Court every year- only a few hundred are actually he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cases denied beca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Justices agree with the lower court dec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Justices believe the case does not involve a significant point of 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ses that are accepted must meet the rule of fo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 of the nine justices must agree to hear the c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The Supreme Court At Work, co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960" y="10666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es the Supreme Court accept a case to review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ousands of cases are appealed to the Supreme Court every year- only a few hundred are actually he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st cases denied beca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stices agree with the lower court dec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stices believe the case does not involve a significant point of 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as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t are accept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ust meet the rule of fo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our of the nine justices must agre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hear the c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3344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Briefs and Oral Argum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ce a case reaches the Supreme Court, lawyers for each party file a written br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ef-A detailed statement of the facts of the case supporting a particular position by presenting arguments based on relevant facts and citations from previous c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al arguments allow both sides to present their positions to the justices during a 30 minute peri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ices may interrupt lawyers during this time, raising questions or challenging points of 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3344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Briefs and Oral Argum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ce a case reaches the Supreme Court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awyers for each party file a written br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ef-A detailed statement of the facts of the cas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upporting a particular posi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presenting argument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ased on relevant facts an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ations fro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evious c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ral argument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 both sides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esent their positions to the justices during a 30 minute peri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ices may interrupt lawyers during this time, raising questions or challenging points of 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Supreme Court Opin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90440" y="10666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reme Court decisions are explained in a written statement called an opi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Types of Opin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Majority Opinion – opinion agreed upon by a majority of the just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Concurring Opinion – written by a justice or justices who agree with the majority opinion, but not with the reasoning behind the opi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Dissenting Opinion – written by a justices or justices who disagree with the majority opi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ity opinion become prece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tandards or guides to be followed in deciding similar cases in the fu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Supreme Court Opin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90440" y="10666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upreme Court decis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explained in a written statemen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alled an opi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3 Typ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Opin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jority Opin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opini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gre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p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y a majority of the just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ncurring Opin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written by a justice or justices wh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gree with the majority opin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ut not with the reasoning behind the opi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issenting Opin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written by a justices or justices wh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isagree with the majority opi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jority opinion become prece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tandards 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uides to be followed in deciding similar cases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in the fu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Judicial Review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est-known power of the Supreme Court is judicial review, or the ability of the Court to declare a Legislative or Executive act in violation of the Constitution, is not found within the text of the Constitution itself. The Court established this doctrine in the case of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rbury v. Madis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1803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power can not be independently checked by either of the other 2 branches; A Supreme Court decision can only be nullified by a Constitutional Amendment (which involves state approval) or another Supreme Court dec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Judicial Review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est-known power of the Supreme Cour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judicial review, or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bil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the Cour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o declare a Legislative or Executive act in violation of the Constituti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, is not found within the text of the Constitution itself. The Court established this doctrine in the case of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rbury v. Madis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1803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ower can not be independently checked by either of the other 2 branch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A Supreme Court decisi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an only be nullified by a Constitutional Amendmen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which involves state approval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r another Supreme Court dec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Judicial Philosoph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280" y="574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Judicial Activ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urt should play a more active role in creating national policies and answering questions of conflict in society; they do this by ACTIVELY using their power of judicial re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Judicial Restra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urt should operate strictly within the limits of the Constitution and only answer questions if a clear violation of the Constitution is present. They are much less likely to declare acts of Congress/The President to be unconstitut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Judicial Philosoph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574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dicial Activ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urt should play a more active role in creating national polic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answering questions of conflict in society;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y do this by ACTIVELY using their power of judicial re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dicial Restra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urt should operate strictly within the limits of the Constitu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only answer questions if a clear violation of the Constitution is present. They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uch less likely to declare acts of Congress/The President to be unconstitu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dbbd71"/>
                </a:solidFill>
                <a:uFillTx/>
                <a:latin typeface="Times New Roman"/>
              </a:rPr>
              <a:t>Creation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7347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udicial Branch create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 Article III of the U.S. Constitu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Onl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1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federal court created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– Th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U.S. Supreme Cour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 “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ferior” federal courts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reated b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cts of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gr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5" descr="POLRES%20FedCrt"/>
          <p:cNvPicPr/>
          <p:nvPr/>
        </p:nvPicPr>
        <p:blipFill>
          <a:blip r:embed="rId1"/>
          <a:stretch/>
        </p:blipFill>
        <p:spPr>
          <a:xfrm>
            <a:off x="5543640" y="4394160"/>
            <a:ext cx="3416040" cy="2452680"/>
          </a:xfrm>
          <a:prstGeom prst="rect">
            <a:avLst/>
          </a:prstGeom>
          <a:ln w="0">
            <a:noFill/>
          </a:ln>
        </p:spPr>
      </p:pic>
      <p:pic>
        <p:nvPicPr>
          <p:cNvPr id="163" name="Ink 10" descr=""/>
          <p:cNvPicPr/>
          <p:nvPr/>
        </p:nvPicPr>
        <p:blipFill>
          <a:blip r:embed="rId2"/>
          <a:stretch/>
        </p:blipFill>
        <p:spPr>
          <a:xfrm>
            <a:off x="4168800" y="1233360"/>
            <a:ext cx="3316320" cy="31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Powers of the Supreme Cour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7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ramers viewed the federal judiciary as an important check against Congress and the Presi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7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upreme Court’s powers are significant, but passive-it can only act on matters/issues that are brought to its atten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Powers of the Supreme Cour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7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ramers view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federa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judiciary as an important check against Congress and the Presi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7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upreme Court’s powers are significant, but pass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an only act on matters/issu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t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rought to its atten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Supreme Court Jurisdi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8" descr="Picture 1"/>
          <p:cNvPicPr/>
          <p:nvPr/>
        </p:nvPicPr>
        <p:blipFill>
          <a:blip r:embed="rId1"/>
          <a:stretch/>
        </p:blipFill>
        <p:spPr>
          <a:xfrm>
            <a:off x="106200" y="1066680"/>
            <a:ext cx="8961480" cy="5715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5105520" y="3657600"/>
            <a:ext cx="3657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Supreme Court Jurisdi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8" descr="Picture 1"/>
          <p:cNvPicPr/>
          <p:nvPr/>
        </p:nvPicPr>
        <p:blipFill>
          <a:blip r:embed="rId1"/>
          <a:stretch/>
        </p:blipFill>
        <p:spPr>
          <a:xfrm>
            <a:off x="106200" y="1066680"/>
            <a:ext cx="8961480" cy="5715000"/>
          </a:xfrm>
          <a:prstGeom prst="rect">
            <a:avLst/>
          </a:prstGeom>
          <a:ln w="0">
            <a:noFill/>
          </a:ln>
        </p:spPr>
      </p:pic>
      <p:sp>
        <p:nvSpPr>
          <p:cNvPr id="175" name="Straight Connector 2"/>
          <p:cNvSpPr/>
          <p:nvPr/>
        </p:nvSpPr>
        <p:spPr>
          <a:xfrm>
            <a:off x="533520" y="2514600"/>
            <a:ext cx="6248160" cy="0"/>
          </a:xfrm>
          <a:prstGeom prst="line">
            <a:avLst/>
          </a:prstGeom>
          <a:ln w="200160">
            <a:solidFill>
              <a:srgbClr val="00b0f0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Straight Connector 7"/>
          <p:cNvSpPr/>
          <p:nvPr/>
        </p:nvSpPr>
        <p:spPr>
          <a:xfrm>
            <a:off x="304920" y="3505320"/>
            <a:ext cx="3511440" cy="0"/>
          </a:xfrm>
          <a:prstGeom prst="line">
            <a:avLst/>
          </a:prstGeom>
          <a:ln w="200160">
            <a:solidFill>
              <a:srgbClr val="00b0f0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Straight Connector 9"/>
          <p:cNvSpPr/>
          <p:nvPr/>
        </p:nvSpPr>
        <p:spPr>
          <a:xfrm>
            <a:off x="322200" y="4343400"/>
            <a:ext cx="3494160" cy="0"/>
          </a:xfrm>
          <a:prstGeom prst="line">
            <a:avLst/>
          </a:prstGeom>
          <a:ln w="200160">
            <a:solidFill>
              <a:srgbClr val="00b0f0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5105520" y="3657600"/>
            <a:ext cx="3657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Supreme Court Jurisdiction, co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2282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that mean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urt has original jurisdiction over certain cases like suits between two or more states and/or cases involving ambassad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urt has appellate jurisdiction on almost any other case that involves a point of constitutional and/or federal la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cases the Supreme Court hears are appellate, in nature (over 90%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Supreme Court Jurisdiction, co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2282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that mean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urt h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riginal jurisdiction over certain ca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ike suits between two or more states and/or cases involving ambassad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urt h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ppellate jurisdiction on almost any other case that involves a point of constitutional and/or federal la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st ca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Supreme Court hear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re appell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in nature 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ver 90%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00:57:42Z</dcterms:created>
  <dc:creator>E200500973</dc:creator>
  <dc:description/>
  <dc:language>en-US</dc:language>
  <cp:lastModifiedBy>Debes John</cp:lastModifiedBy>
  <dcterms:modified xsi:type="dcterms:W3CDTF">2016-05-06T16:31:51Z</dcterms:modified>
  <cp:revision>23</cp:revision>
  <dc:subject/>
  <dc:title>The Judicial Branch</dc:title>
</cp:coreProperties>
</file>