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4F5-C368-49B4-81D2-793032DC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8DC-73CC-49EB-87DA-3E6F6B6D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9B9-E1CC-4A3F-B98F-31390759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143-252B-4D09-9BEB-985C06CB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D48-6C52-47B6-B6F3-31CBE995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071-3C59-4C61-BD63-9E6468FE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82A-3C96-4AE3-85B0-83390769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CC7-A443-4987-A67B-E84B1351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D2A-C2FD-4428-B135-AC1B5575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AE9-98BE-40D4-909E-E894E70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AFF-0A45-440D-87A0-533C0D8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14A-4111-4CE9-B2B9-886E62C0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396A-EC5E-4120-840C-794BFF7DA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i="1" lang="en-US" sz="8400" spc="-1" strike="noStrike">
                <a:solidFill>
                  <a:srgbClr val="ff3300"/>
                </a:solidFill>
                <a:latin typeface="Arial"/>
              </a:rPr>
              <a:t>The Crusades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ban had appointed August 1096 as the time of departure, but many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__________________________________________, who were among the first recruits, could not wa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d by such personalities as Peter the Hermit and Walter the Penniless, 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____, in three groups and quickly devolved into disorder, hunger, and ill-discip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were 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 of this “easy” victory by the Muslim Turks at Nicea, the Muslims _________________________ ___________________________________________ in their ability to defeat the Christian Crus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several Muslim leaders began to disagree over how they should proceed, &amp; who should be “in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d to __________________________________ ___________________________, which would be an important factor in the outcome of the First Crus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ore __________________________________ of European Crusaders met a ________________ ___________________ and won victories at Nicea on June 19, 1097 and Antioch on June 3, 109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_____________________, after a three year campaign, ________________________ of the original ______________________ Crusaders reached Jerusa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__________________________, the Crusaders went over Jerusalem’s walls and unleashed unbridled car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reportedly ran knee-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 Muslims were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 (not involved in the fighting) were herded into a synagogue and ________________________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________________________________ of Jerusalem proved problem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ngdom of Jerusalem was broken up into _____________________________________ and the European barons took control of all land, reducing the former owners to the condition of ____________________; this did not make the Europeans popular with the native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rusalem was further weakened by giving ________________________________ to the Italian city-states in exchange for naval support and seaborne supp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ristian population who lived in the Holy Land before the Crusade came to look back on the __________________________ as a “golden ag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lim Counter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number of the Crusaders ________________ _______________________ after freeing Jerusalem, creating a 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 refugees retreated to Baghdad and pleaded for a force to retake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44, Muslims began to _____________________ __________________ that the Christians had gained i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usade, although they did not retake control of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uslim victories would help _______________ 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. Bernard appealed to Pope Eugenius II to call                                  for another Crusade, but (___________________ __________________________) Eugenius told Bernard to undertake the task him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. Bernard persuaded ______________________ _________________ and then _______________ ______________________________ to take up th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rus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147 the ______________________ set out on the Crusade first, and the ____________________ followed la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the Muslims were ___________________ &amp; _________________________, while the Christians were _____________________ (as evidenced by the Germans trying to ____________________________  ____________________ &amp; be victorious on their 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the Germans were easily defeated &amp; their forces were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at Attalia, nearly every Frenchman wa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the Crusaders ______________________ ______________________________and lay siege to Damascus, but were soundly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f the defeat in the Second Crusade ___________________________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wondered ________________________ ______________________________ by the inf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ard explained that the defeat must be punishment fo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 for the Crusades waned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ristians still had control of ________________, but the Christians were becoming weaker &amp; even __________________________, while the Muslims were moving toward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a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______________, a Muslim named Saladin conquered Syria &amp; became _____________________ __________________ of the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85, he signed a __________________________ ____________________ with the Christian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 violated it by attacking a Muslim caravan and capturing Saladin’s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clared a holy war (jihad) against the Christians and _______________________________________ 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terms were much more generous than those of the Crusaders in 10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zantine Emp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ire grew out of the ____________ _______________________ after the fall of Rome in 476 AD.  It was made up primarily of formerly Roman lands (prior to 476 AD) in _________/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ians were Christians, but they were ___________________ from the European Christ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, the Byzantinian Christians ______________ recognize the ____________ as the supreme spiritual authority on earth; they believed that the __________ ___________________________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most 1,000 years, the Byzantine Empire served as a ____________________ between the Christians in Europe and the Islamic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s were able to retain some land in Israel: the cities of Tyre, Antioch, and Trip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alian fleets still controlled the Mediterran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, Archbishop of Tyre, returned to Europe &amp; called for a Crusade to _________________ _______________________ &amp; the rest of Is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 of _______________________ set out with his army in 1189 but had littl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______________________ (the Lion-Hearted) of England took up the cause and convinced ________________________, the ______________________ king, to aid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ristians, working together, captured Acre,                               but an ill Philip returned to France, leaving Richard &amp; his English army in sole charge of the Third Crus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’s English army was _________________ __________________________, but due to his excellent military leadership, he was able to hold his own against the Musli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 and Saladin embarked on a “unique campaign in which blows and battles alternated with compliments and courtesi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d ________________________________ _____________________________ for each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result, while they did wage war, the _______________________ of the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rusade were not repe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end Richard and Saladin signed a 3 year _____________________ beginning ___________ 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 would keep the coastal cities he had captured from Acre to Jaff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lims and Christians could pass freely into and from each other’s terri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lgrims would be protected in Jerusa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… Jerusalem would remain in ___________ 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Richard possessed great brilliance, courage, and knowledge of the military arts, the Muslims’ _______________________ and _________________prevented a Christian vic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lative ___________________________ and ____________________ of the Muslims had once again triumphed over the ____________________ Christ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rusalem was in Muslim hands after 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rus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were problems back home in Europe, so the Holy Land was ‘forgotten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Saladin died in 1193 AD, his empire __________ 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____________________________ in Europe for the success of another Crus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exchange for its ___________________________, Venice exacted a promise that the Crusaders would capture the important port of Zara and turn it over to Ven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ra belonged to Hungary (a _________________ nation) and was stiff competition to Venice’s 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e Innocent III criticized the scheme but to no av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urth Crusade would be marked by 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22320" y="990720"/>
            <a:ext cx="9166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greed could be seen by the Crusader’s attempt to ________________________________ __________________________(the capital of the Byzantine empi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izing Constantinople was not part of _________ _______________________, but it would provide __________________________ for the Crus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____________________ the Crusaders captured and looted Constantino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attack on Constantinople, most of the Crusaders _____________________________ 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handful of Crusaders continued on to Israel, but due to their small numbers, they had no effec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 capture of Constantinople served to ________________________ the Byzantine Empire, allowing the Muslims to capture it two centurie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0" y="1071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rusalem was still 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ristian pilgrims to Jerusalem became fewer and more fearful than e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uslim powers, once tolerant of religious diversity, had been made intolerant by attack from Christ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ffort of the popes to bring peace and unity to Europe had been thwarted by nationalistic ambitions, avarice, and internal diss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fluence of the ____________________________ and __________________________ decl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he split between the Eastern Orthodox and Roman Catholic Church wide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lam appeared to have been ____________________ over Christianity (ie-Islam is the ____________ relig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________________________ were caught in the middle between Crusaders and Muslims, and ________ ___________________________, for several reas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were ________________________________ _____________________of the Christian Crusad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wanted to ____________________________ _________________________by Muslim leaders who saw them as Christian collabo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rusades ironically proved instrumental in making the eastern Mediterranean predominantly Musl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ine of the Byzantine Emp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_____________, a group of Muslims (the ____________________ ) won an important victory against the Byzantin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zantine factions then turned on each other in a ________________ , allowing the Seljuq Turks to gain even more power &amp; land, including control over ______________ &amp; 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yzantine Emperor asked Pope Urban II to help him against the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 used the Crusades to gain their _________________________ &amp; leave their lands and many found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lims, even though victorious, had themselves become weakened, and fell more easily when the Mongols att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 and ____________________________ were enh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alian traders became very __________________ during, and after, the Crusa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ucrative trade provided great _____________ to the Italian city-states and ultimately provided the _______________________ basis for the Italian _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 also became exposed to new ideas as they traveled throughout the Mediterranean bas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rks of ______________________________ (“lost” after the fall of R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lamic ________________ and 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bic” numerals which the Muslims had borrowed from In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ques for ________________________________  which the Muslims had learned from Ch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the Crusades may have largely ________________ as military adventures, they helped bring Europe out of 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Urba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considered the Byzantinian Emperor’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____________________________________, gaining control of Jerusalem &amp; Israel would be important, as those places were revered by Christians (both European &amp; Byzantin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political/power perspective, doing what the Byzantinian Emperor had been unable to do (defeat the Muslims) would prove that the Pope WAS ______ 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155520" y="460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Urba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responded to the Byzantine emperor’s request with a rousing speech in _______________________ in _____________________ in which he called upon Christians to “Enter upon the road to the Holy Sepulcher; wrest that land from the wicked race, and subject it to yourselve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’s speech would _________________________ the first of  several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55520" y="460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pe hoped to ________________________ ___________________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ncluding Byzantinian Christians, known as Eastern Orthodox Christians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 his auth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alian _________________________, who had large navies, hoped for _____________________ _______________ &amp; were therefore keen supporters of the Crus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he Crusad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wanted to __________________________ ____________________in Jerusalem &amp;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rips (called ____________________) were very important; it was believed that visiting the holy sites in Jerusalem and Israel could bring __________ ___________________________(in fact the Church required pilgrimages in order to be forgiven for particularly egregious s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Muslims gained control of these lands, Christian pilgrims were unable to make these pilgrimages as they had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ristians were offended by the idea that a false religion (Islam) would control Christian Holy Lands; God would never allow that, and he would _________ _________________________ from this fals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Urban traveled to various cities for nine months preaching the Crusade and offering ______________ ______________________to get Christians to fight in the Crusades;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_____________ remitting all punishments due to sin for those who died on the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ing ___________ to ______________________ from the land to which they were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were exempted from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ors were given a moratorium 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oners were ____________________ and death sentences were commuted by a bold extension of Papal authority to life service in Pal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ety of motivations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 tired of hopeless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nturers seeking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 looking for 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s whose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rely religious individuals wanting to rescue the land of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3:45:11Z</dcterms:created>
  <dc:creator>kevin dougherty</dc:creator>
  <dc:description/>
  <dc:language>en-US</dc:language>
  <cp:lastModifiedBy>Debes John</cp:lastModifiedBy>
  <dcterms:modified xsi:type="dcterms:W3CDTF">2014-11-17T20:39:39Z</dcterms:modified>
  <cp:revision>159</cp:revision>
  <dc:subject/>
  <dc:title>The Crusades</dc:title>
</cp:coreProperties>
</file>