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6D1-D4EB-497F-B393-2378CA0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DBD-8CA3-4626-B21D-0BC56FB0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4FC-D896-4851-8694-C9838E6B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307-5D0E-46AA-81B1-6FA97B02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DCE-A618-4283-904C-03CF493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2DC-750B-414F-A626-C8E1E9D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1CC-B655-43CE-B066-500839C5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9EA-31DD-4E46-AB87-A9AB1BEA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78A-2A45-49C5-B975-A2B32DF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413-A06B-4782-883F-DBC502F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AA1-40EF-4433-AC46-5FBC60A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BE8-719A-4C85-BBC2-889F9FB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5750-0BA6-4FC5-BC89-4D9F9095E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 but many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__________________________________________, who were among the first recruits, could not wa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, in three groups and quickly devolved into disorder, hunger, and ill-disci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were 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 Muslims _________________________ ___________________________________________ in their ability to defeat the Christian Crus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d to __________________________________ ___________________________, which would be an important factor in the outcome of the First Crus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re __________________________________ of European Crusaders met a ________________ ___________________ and won victories at Nicea on June 19, 1097 and Antioch on June 3, 109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_____________________, after a three year campaign, ________________________ of the original ______________________ Crusaders reached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__________________________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 Muslims were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(not involved in the fighting) were herded into a synagogue and ________________________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________________________________ of Jerusalem proved probl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gdom of Jerusalem was broken up into _____________________________________ and the European barons took control of all land, reducing the former owners to the condition of ____________________; this did not make the Europeans popular with the nativ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rusalem was further weakened by giving ________________________________ to the Italian city-states in exchange for naval support and seaborne supp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 population who lived in the Holy Land before the Crusade came to look back on the __________________________ as a “golden ag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number of the Crusaders ________________ _______________________ after freeing Jerusalem, creating a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44, Muslims began to _____________________ __________________ that the Christians had gained i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usade, although they did not retake control of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uslim victories would help 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appealed to Pope Eugenius II to call                                  for another Crusade, but (___________________ __________________________) Eugenius told Bernard to undertake the task him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persuaded ______________________ _________________ and then _______________ ______________________________ to take up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147 the ______________________ set out on the Crusade first, and the ____________________ followed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he Muslims were ___________________ &amp; _________________________, while the Christians were _____________________ (as evidenced by the Germans trying to ____________________________  ____________________ &amp; be victorious on their 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 Germans were easily defeated &amp; their forces were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at Attalia, nearly every Frenchman wa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the Crusaders ______________________ ______________________________and lay siege to Damascus, but were soundly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in the Second Crusade ___________________________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________________________ ______________________________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still had control of ________________, but the Christians were becoming weaker &amp; even __________________________, while the Muslims were moving toward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______________, a Muslim named Saladin conquered Syria &amp; became _____________________ __________________ of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__________________________ ____________________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 violated it by 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________________________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grew out of the ____________ _______________________ after the fall of Rome in 476 AD.  It was made up primarily of formerly Roman lands (prior to 476 AD) in _________/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ians were Christians, but they were ___________________ from the European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, the Byzantinian Christians ______________ recognize the ____________ as the supreme spiritual authority on earth; they believed that the __________ ___________________________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most 1,000 years, the Byzantine Empire served as a ____________________ between the Christians in Europe and the Islamic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s were able to retain some land in Israel: the cities of Tyre, Antioch, and Tri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alian fleets still controlled the Mediterran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_________________ _______________________ &amp; the rest of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 of _______________________ set out with his army in 1189 but had littl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______________________ (the Lion-Hearted) of England took up the cause and convinced ________________________, the ______________________ king, to aid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s, working together, captured Acre,                               but an ill Philip returned to France, leaving Richard &amp; his English army in sole charge of the Third Crus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’s English army was _________________ __________________________, but due to his excellent military leadership, he was able to hold his own against the Musli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________________________________ _____________________________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_______________________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nd Richard and Saladin signed a 3 year _____________________ beginning ___________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… Jerusalem would remain in ___________ 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Richard possessed great brilliance, courage, and knowledge of the military arts, the Muslims’ _______________________ and _________________prevented a Christian vic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ve ___________________________ and ____________________ of the Muslims had once again triumphed over the ____________________ Christ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in Muslim hands after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were problems back home in Europe, so the Holy Land was ‘forgott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aladin died in 1193 AD, his empire __________ 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____________________________ in Europe for the success of another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exchange for its ___________________________, Venice exacted a promise that the Crusaders would capture the important port of Zara and turn it over to Ve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ra belonged to Hungary (a _________________ nation) and was stiff competition to Venice’s 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e Innocent III criticized the scheme but to no a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th Crusade would be marked by 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2320" y="990720"/>
            <a:ext cx="9166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greed could be seen by the Crusader’s attempt to ________________________________ __________________________(the capital of the Byzantine empi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izing Constantinople was not part of _________ _______________________, but it would provide __________________________ for the Crus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____________________ the Crusaders captured and looted Constantin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attack on Constantinople, most of the Crusaders _____________________________ 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, but due to their small numbers, they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________________________ the Byzantine Empire, allowing the Muslim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0" y="1071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still 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istian pilgrims to Jerusalem became fewer and more fearful than 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fluence of the ____________________________ and __________________________ decl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 appeared to have been ____________________ over Christianity (ie-Islam is the ____________ relig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________________________ were caught in the middle between Crusaders and Muslims, and ________ ___________________________, for several reas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ere ________________________________ _____________________of the Christian Crusa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anted to ____________________________ _________________________by Muslim leaders who saw them as Christian collabo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rusades ironically proved instrumental in making the eastern Mediterranean predominantly Musl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, a group of Muslims (the ____________________ ) won an important victory against the Byzanti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zantine factions then turned on each other in a ________________ , allowing the Seljuq Turks to gain even more power &amp; land, including control over ______________ &amp; 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 used the Crusades to gain their _________________________ &amp;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 and ____________________________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__________________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_____________ to the Italian city-states and ultimately provided the _______________________ basis for the Italian 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 also became exposed to new ideas as they traveled throughout the Mediterranean bas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ks of ______________________________ (“lost” after the fall of R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ic ________________ and 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 for ________________________________  which the Muslims had learned from Ch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the Crusades may have largely ________________ as military adventures, they helped bring Europe out of 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considered the Byzantinian Emperor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____________________________________, gaining control of Jerusalem &amp; Israel would be important, as those places were revered by Christians (both European &amp; Byzantin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olitical/power perspective, doing what the Byzantinian Emperor had been unable to do (defeat the Muslims) would prove that the Pope WAS ______ 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the Byzantine emperor’s request with a rousing speech in _______________________ in _____________________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_________________________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pe hoped to ________________________ ___________________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ncluding Byzantinian Christians, known as Eastern Orthodox Christian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his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_________________________, who had large navies, hoped for _____________________ _______________ &amp; were therefore keen supporters of the Crus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anted to __________________________ ____________________in Jerusalem &amp;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rips (called ____________________) were very important; it was believed that visiting the holy sites in Jerusalem and Israel could bring __________ ___________________________(in fact the Church required pilgrimages in order to be forgiven for particularly egregious s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uslims gained control of these lands, Christian pilgrims were unable to make these pilgrimages as they had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were offended by the idea that a false religion (Islam) would control Christian Holy Lands; God would never allow that, and he would _________ _________________________ from this fals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for nine months preaching the Crusade and offering ______________ ______________________to get Christians to fight in the Crusades;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___________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___________ to ______________________ from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____________________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dcterms:modified xsi:type="dcterms:W3CDTF">2014-11-17T20:39:39Z</dcterms:modified>
  <cp:revision>159</cp:revision>
  <dc:subject/>
  <dc:title>The Crusades</dc:title>
</cp:coreProperties>
</file>