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D30-70C2-4852-BD17-6D1E52E5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0E2-6369-4261-95A4-2622991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1AA-5361-4289-9389-BABF7710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9BA-47AB-4E89-9F14-19CD13AC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CFDB-E6A3-4CF7-82A2-16F4A466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B8AB-05F9-4C67-B20E-7A9E12B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FC37-23E1-4710-9C4D-E9F02F8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ECDB-54A3-4D9E-B5A3-06E75D1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D1AD-95E2-4CF7-98DE-22EA6EF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883-774B-4635-851E-F15DE57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7C70-E74D-4A47-8645-38E0B2F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A51-6F4A-454E-A753-164A3DA9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F63C-7351-4B01-AD3F-D46C87DF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DE1D-298A-46EB-B2AE-7B5F31C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569F-064B-4395-AFB1-0D30E52D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D7B3-4618-4E7E-BDF4-FDAF9D36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699-589B-45D9-96EF-BE36903F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467-E3E9-4ECB-A4AF-1380ED9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1E2-A63C-47D7-A1FA-360841F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6C3-E0D7-4595-A779-15134C1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072-020C-48E2-B11F-71B76DC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C9D-F2B0-4EA0-B033-A085490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F26-5315-4F97-B99F-82F3995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959-4FC9-4430-AA61-5CB335E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BC3-4F14-4312-957F-23431A7A72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B92-8542-4377-8F15-AC889602F2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Supreme Cour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nstitutional requirements to be a Supreme Court Justice, but when making appointments, presidents often consider 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 Constitutional requiremen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a Supreme Court Justic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making appointment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s often consid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ty affiliation-nominees are almost always members of the 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udicial (political) philosophy-nominees will tend to think similarly to the President (i.e.-conservative, liberal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erience-nominees will almost always have experience in the legal field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tmus test-nominees will share a line of thinking with the President on a single key issue that is important to the President (i.e.-abortion, same-sex marriage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ceptability-The President does not want his appointment to be denied by the Senate, so he tries to nominate individuals who will easily be appr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rty affiliation-nominee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members of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Judicial (political) philosophy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tend to think similarly to the Presid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(i.e.-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onservative, liberal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Experience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 have experience in the legal fiel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Litmus tes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hare a line of thinking with the President on a single key issu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at is important to the President 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.e.-abortion, same-sex marriage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cceptabilit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The President does not want his appointment to be denied by the Senate, so he tries to nominat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ndividuals who will easily be approve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1a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3316320" y="2308320"/>
            <a:ext cx="158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1a"/>
                </a:solidFill>
                <a:latin typeface="Times New Roman"/>
              </a:rPr>
              <a:t>Died: 2/13/16; position has not been filled y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serve “during good behavior,” which 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 – This practice allows judges to be free from political pressures when deciding cases (don’t have to worry about being re-elected/re-appoint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can not be removed from office (for any reason) 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rve “during good behavior,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is practi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ows judges to be free from political pressu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en deciding case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n’t have to worry about being re-elected/re-appoin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not be remo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office (for any reason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1 federal court created – The 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inferior” federal courts are created by acts of 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57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158" name="Ink 10" descr=""/>
          <p:cNvPicPr/>
          <p:nvPr/>
        </p:nvPicPr>
        <p:blipFill>
          <a:blip r:embed="rId3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159" name="Ink 12" descr=""/>
          <p:cNvPicPr/>
          <p:nvPr/>
        </p:nvPicPr>
        <p:blipFill>
          <a:blip r:embed="rId4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s that are accepted 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of the nine justices must agree 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are accep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ur of the nine justices must agre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supporting a particular position by presenting arguments based on relevant facts and citations from 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al arguments allow both sides to 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porting a particular posi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presenting argu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sed on relevant facts 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ation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al argumen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both sides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decisions are explained in a written statement 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Types 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Majority Opinion – opinion agreed upon 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Concurring Opinion – written by a justice or justices who agree with the majority opinion, 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issenting Opinion – written by a justices or justices who 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guides to be followed in deciding similar cases 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decis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xplained in a written state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 Typ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opin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p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curr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 with the majority opin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sent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s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uides to be followed in deciding similar case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st-known power of the Supreme Court is judicial review, or the ability of the Court to declare a Legislative or Executive act in violation of the Constitutio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ower can not be independently checked by either of the other 2 branches; A Supreme Court decision can only be nullified by a Constitutional Amendment (which involves state approval) 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st-known power of the Supreme Cour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judicial review, o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our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clare a Legislative or Executive act in violation of the Constitut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wer can not be independently checked by either of the other 2 bran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A Supreme Court decis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only be nullified by a Constitutional Amend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which involves state approval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play a more active role in creating national policies and answering questions of conflict in society; 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operate strictly within the limits of the Constitution and only answer questions if a clear violation of the Constitution is present. They are much less likely to declare acts of Congress/The President to be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play a more active role in creating national poli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answering questions of conflict in society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operate strictly within the limits of the Constit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only answer questions if a clear violation of the Constitution is present. They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 less likely to declare acts of Congress/The President to be unconstitu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bbd71"/>
                </a:solidFill>
                <a:uFillTx/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1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ederal court creat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ferior” federal cour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reated b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cts of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63" name="Ink 10" descr=""/>
          <p:cNvPicPr/>
          <p:nvPr/>
        </p:nvPicPr>
        <p:blipFill>
          <a:blip r:embed="rId2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rs viewed the federal 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reme Court’s powers are significant, but passive-it can only act on matters/issues that are 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mers view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ed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rt’s powers are significant, but pa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 only act on matters/issu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"/>
          <p:cNvSpPr/>
          <p:nvPr/>
        </p:nvSpPr>
        <p:spPr>
          <a:xfrm>
            <a:off x="533520" y="2514600"/>
            <a:ext cx="6248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304920" y="3505320"/>
            <a:ext cx="351144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2200" y="4343400"/>
            <a:ext cx="3494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original jurisdiction over certain cases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appellate jurisdiction on almost any other case that involves a point of constitutional and/or federal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ases the Supreme Court hears are appellate, in nature (over 90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iginal jurisdiction over certain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ppellate jurisdiction on almost any other case that involves a point of constitutional and/or federal la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st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preme Court hea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e appel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n nature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ver 90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Debes John</cp:lastModifiedBy>
  <dcterms:modified xsi:type="dcterms:W3CDTF">2016-05-06T16:31:51Z</dcterms:modified>
  <cp:revision>23</cp:revision>
  <dc:subject/>
  <dc:title>The Judicial Branch</dc:title>
</cp:coreProperties>
</file>