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365C-412E-4335-8E9E-34486B56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12F-18BB-4F9B-991D-D6548CB1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150-3CC8-47DC-BA6D-D6E4E39F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C27-D4CC-42A1-9D04-9F9A4611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D6A-DE8B-4DFB-8B7B-BD558C79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D06-E70B-4A2C-8102-FA364C0C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D339-0D50-4F9D-A227-86B1F9E4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7CF7-0CC1-4C8A-91AC-05672375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CC5F-78F1-49F5-A32D-0C830A35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2B3-64C5-4908-8D09-3F51E876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3202-9AD6-438D-A700-4F1A3C9F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9EE-FD4F-4D5C-A603-99A4A6F1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DBA8-1134-4D98-9470-10056C339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400"/>
            </a:br>
            <a:r>
              <a:rPr b="0" i="1" lang="en-US" sz="8400" spc="-1" strike="noStrike">
                <a:solidFill>
                  <a:srgbClr val="ff3300"/>
                </a:solidFill>
                <a:latin typeface="Arial"/>
              </a:rPr>
              <a:t>The Crusades</a:t>
            </a:r>
            <a:br>
              <a:rPr sz="8400"/>
            </a:b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800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July 15, 1099, the Crusaders went over Jerusalem’s walls and unleashed unbridled car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reportedly ran knee-d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,000 Muslims were slaugh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s were herded into a synagogue and burned 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jews_executed_crusades"/>
          <p:cNvPicPr/>
          <p:nvPr/>
        </p:nvPicPr>
        <p:blipFill>
          <a:blip r:embed="rId1"/>
          <a:stretch/>
        </p:blipFill>
        <p:spPr>
          <a:xfrm>
            <a:off x="4876920" y="2057400"/>
            <a:ext cx="36655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5410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dministrative rule of Jerusalem proved problem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ingdom of Jerusalem was broken up into independent fiefs and the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uropean barons assumed all ownership of land, reducing the former owners to the condition of serf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erusalem was further weakened by giving several ports to the Italian city-states in exchange for naval support and seaborne suppl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native Christian population came to look back on the era of Muslim rule as a “golden age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godfboui.gif (63474 bytes)"/>
          <p:cNvPicPr/>
          <p:nvPr/>
        </p:nvPicPr>
        <p:blipFill>
          <a:blip r:embed="rId1"/>
          <a:stretch/>
        </p:blipFill>
        <p:spPr>
          <a:xfrm>
            <a:off x="5410080" y="1752480"/>
            <a:ext cx="3583080" cy="40165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5867280" y="59436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frey served as the first ruler of Jerusa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lim Counter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st of the Crusaders returned to Europe after freeing Jerusalem, creating a manpower short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uslim refugees retreated to Baghdad and pleaded for a force to retake Jerusal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1144, Muslims retook the Christian’s eastern-most territories at al-Ruah and then Edess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se Muslim victories would help spur the Second Crusad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The Crusader States in 1140, known as Outre mer."/>
          <p:cNvPicPr/>
          <p:nvPr/>
        </p:nvPicPr>
        <p:blipFill>
          <a:blip r:embed="rId1"/>
          <a:stretch/>
        </p:blipFill>
        <p:spPr>
          <a:xfrm>
            <a:off x="5334120" y="1600200"/>
            <a:ext cx="359388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. Bernard appealed to Pope Eugenius II to call for another Crusade, but Eugenius told Bernard to undertake the task him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. Bernard persuaded King Louis VII of France and then Emperor Conrad III of Germany to take up 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Crus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1147 the Germans set out on the Crusade and the French followed shortly thereaf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The Second Crusade"/>
          <p:cNvPicPr/>
          <p:nvPr/>
        </p:nvPicPr>
        <p:blipFill>
          <a:blip r:embed="rId1"/>
          <a:stretch/>
        </p:blipFill>
        <p:spPr>
          <a:xfrm>
            <a:off x="4952880" y="1981080"/>
            <a:ext cx="40388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411480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ime the Muslims were ready, while the Christians were di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the Germans were defeated so badly that barely one in ten Christians surv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at Attalia, nearly every Frenchman was slaugh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the Crusaders joined forces and lay siege to Damascus, but were soundly def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Route of the Second Crusade - Click to see a larger image."/>
          <p:cNvPicPr/>
          <p:nvPr/>
        </p:nvPicPr>
        <p:blipFill>
          <a:blip r:embed="rId1"/>
          <a:stretch/>
        </p:blipFill>
        <p:spPr>
          <a:xfrm>
            <a:off x="1295280" y="1143000"/>
            <a:ext cx="6399360" cy="292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 of the defeat of the Second Crusade shocked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s wondered how God could allow them to be so humiliated by the infi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nard explained that the defeat must be punishment for 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husiasm for the Crusades waned rapi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Christian kingdom of Jerusalem was getting weaker &amp; divided, its Muslim enemies were moving toward 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a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6400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175, a Muslim named Saladin brought Egypt &amp; Syria under 1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185, he signed a four-year truce with the Christian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Christians violated it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ing a Muslim caravan and capturing Saladin’s s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eclared a holy war (jihad) against the Christians and captured Jerusalem in 11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terms were much more generous than those of the Crusaders in 10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395px-SaladinRexAegypti"/>
          <p:cNvPicPr/>
          <p:nvPr/>
        </p:nvPicPr>
        <p:blipFill>
          <a:blip r:embed="rId1"/>
          <a:stretch/>
        </p:blipFill>
        <p:spPr>
          <a:xfrm>
            <a:off x="6400800" y="533520"/>
            <a:ext cx="2438280" cy="360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Rectangle 10"/>
          <p:cNvSpPr/>
          <p:nvPr/>
        </p:nvSpPr>
        <p:spPr>
          <a:xfrm>
            <a:off x="6400800" y="4419720"/>
            <a:ext cx="24382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adin: one of the few Crusade personalities generally described favorably by both Eastern and Western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648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ristians were able to retain Tyre, Antioch, and Tripoli and the Italian fleets still controlled the Mediterran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, Archbishop of Tyre, returned to Europe &amp; called for a Crusade to re-take Jerusalem &amp; the rest of 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derick Barbarossa of Germany set out with his army in 1189 but had little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George Inness - March of the Crusaders."/>
          <p:cNvPicPr/>
          <p:nvPr/>
        </p:nvPicPr>
        <p:blipFill>
          <a:blip r:embed="rId1"/>
          <a:stretch/>
        </p:blipFill>
        <p:spPr>
          <a:xfrm>
            <a:off x="4724280" y="1905120"/>
            <a:ext cx="41655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4419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Richard I (the Lion-Hearted) of England took up the cause and convinced Philip II, the French king, to aid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ristians together captured Acre but an ill Philip returned to France, leaving Richard in sole charge of the Third Crus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img49"/>
          <p:cNvPicPr/>
          <p:nvPr/>
        </p:nvPicPr>
        <p:blipFill>
          <a:blip r:embed="rId1"/>
          <a:srcRect l="4068" t="0" r="0" b="0"/>
          <a:stretch/>
        </p:blipFill>
        <p:spPr>
          <a:xfrm>
            <a:off x="4419720" y="1905120"/>
            <a:ext cx="4516200" cy="36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chard and Saladin embarked on a “unique campaign in which blows and battles alternated with compliments and courtesi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urant, 59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**Sometimes they fought, sometimes they were at peace**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th were excellent military strategi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had a great deal of respect for each o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a result, while they did wage war, the atrocities of the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&amp;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rusade were not repe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line of the Byzantine Empi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79856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yzantine Empire served as a buffer between the Holy Roman Empire and Islamic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071, Muslims (the Seljuqs) won an important victory at Manzikert against the Byzantin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zantine factions then turned on each other in civil war, allowing the Saljuqs almost free rein in Anato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yzantine Emperor asked Pope Urban II to help him against the Musl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715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nd Richard and Saladin signed a peace for three years beginning Sept 2, 1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would keep the coastal cities he had captured from Acre to Jaf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s and Christians could pass freely into and from each other’s terr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grims would be protected in Jerusa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 Jerusalem would remain in Muslim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lionheart3"/>
          <p:cNvPicPr/>
          <p:nvPr/>
        </p:nvPicPr>
        <p:blipFill>
          <a:blip r:embed="rId1"/>
          <a:stretch/>
        </p:blipFill>
        <p:spPr>
          <a:xfrm>
            <a:off x="5715000" y="1523880"/>
            <a:ext cx="3429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36576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had possessed superior brilliance, courage, and knowledge of the military art, but Saladin’s moderation, patience, and justice had carried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ve unity and fidelity of the Muslims had once again triumphed over the Christians’ divisions and disloy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Richard_and_Saladin"/>
          <p:cNvPicPr/>
          <p:nvPr/>
        </p:nvPicPr>
        <p:blipFill>
          <a:blip r:embed="rId1"/>
          <a:stretch/>
        </p:blipFill>
        <p:spPr>
          <a:xfrm>
            <a:off x="947880" y="1143000"/>
            <a:ext cx="73580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rusalem was still in Muslim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 was in turmoil with problems such as renewed fighting between France and England, b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ath of Saladin and the breakup of his empire renewed hope for another Crus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xchange for its financial support, Ven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ed a promise that the Crusaders would cap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ortant port of Zara and turn it over to Ve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ra belonged to Hungary (a Christian nation) and was stiff competition to Venice’s maritime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e Innocent III denounced the scheme but to no 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urth Crusade would be marked by gr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greed could be seen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usader’s attempt to capture Constantinople (the capital of the Byzantine empi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zing Constantinople was not part of a “holy war” against Islam, but it would provide wealth for the Crus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204 the Crusaders captured and looted Constantin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siege"/>
          <p:cNvPicPr/>
          <p:nvPr/>
        </p:nvPicPr>
        <p:blipFill>
          <a:blip r:embed="rId1"/>
          <a:stretch/>
        </p:blipFill>
        <p:spPr>
          <a:xfrm>
            <a:off x="5181480" y="1905120"/>
            <a:ext cx="379908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rusaders returned home, without continuing on to Israel, claiming that by securing Constantinople they now had a stronger base against the Musli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handful of Crusaders continued on to Israel and had no effect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istian capture of Constantinople served to weaken the Byzantine Empire, allowing the Turks to capture it two centuries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erusalem was in Muslim h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ristian pilgrims became fewer and more fearful than e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Muslim powers, once tolerant of religious diversity, had been made intolerant by attack from Christia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effort of the popes to bring peace and unity to Europe had been thwarted by nationalistic ambitions, avarice, and internal dissen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influence of the Catholic Church and pope declin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d the split between the Eastern Orthodox and Roman Catholic Church wide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m appeared to have been victorious over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astern Christians were caught in the middle between Crusaders and Muslims, and converted to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were outraged by the excesses of the Crusaders and/or wanted to avoid persecution by Muslim leaders who saw them as collaborators with the Crusa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act, the Crusades ironically proved instrumental in making the eastern Mediterranean predominantly Musl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fs used the Crusades to leave their lands and many found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lims, even though victorious, had themselves become weakened, and fell more easily when the Mongols atta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 trade and exploration were enha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410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alian traders became very wealthy during, and after, the Crusad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ucrative trade provided great profit to the Italian city-states and ultimately provided the economic basis for the Italian Renaiss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lorenzo"/>
          <p:cNvPicPr/>
          <p:nvPr/>
        </p:nvPicPr>
        <p:blipFill>
          <a:blip r:embed="rId1"/>
          <a:stretch/>
        </p:blipFill>
        <p:spPr>
          <a:xfrm>
            <a:off x="5867280" y="1523880"/>
            <a:ext cx="2057400" cy="2895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>
            <a:off x="5334120" y="4648320"/>
            <a:ext cx="36576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enzo de Medici was part of a family that ruled Florence and served as bankers for the Crusades and patrons of the Renaiss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 Christians also became exposed to new ideas as they traveled throughout the Mediterranean ba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ks of Aristotle (“lost” after the fall of Ro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mic science and 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abic” numerals which the Muslims had borrowed from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s for paper production which the Muslims had learned from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the Crusades may have largely failed as military adventures, they helped bring Europe out of “isol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e Urba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876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ban responded to Byzantium’s request with a rousing speech in Clermont, France in 1095 in which he called upon Christians to “Enter upon the road to the Holy Sepulcher; wrest that land from the wicked race, and subject it to yourselves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ban’s speech would help launch the first of  several Crus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6"/>
          <p:cNvSpPr/>
          <p:nvPr/>
        </p:nvSpPr>
        <p:spPr>
          <a:xfrm>
            <a:off x="155520" y="460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Pope Urban II at the Council of Clermont, given a Late Gothic setting in this painting of c 1490"/>
          <p:cNvPicPr/>
          <p:nvPr/>
        </p:nvPicPr>
        <p:blipFill>
          <a:blip r:embed="rId1"/>
          <a:stretch/>
        </p:blipFill>
        <p:spPr>
          <a:xfrm>
            <a:off x="5105520" y="1816200"/>
            <a:ext cx="3809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3962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ope, hoping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unite the entire east Mediterranean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ite the divided Christian faith under the banner of the Catholic Chu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alian city-states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th their large navie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ped for commercial gains and were therefore keen supporters of the Crusa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11citaly_sm"/>
          <p:cNvPicPr/>
          <p:nvPr/>
        </p:nvPicPr>
        <p:blipFill>
          <a:blip r:embed="rId1"/>
          <a:stretch/>
        </p:blipFill>
        <p:spPr>
          <a:xfrm>
            <a:off x="4267080" y="1828800"/>
            <a:ext cx="4726080" cy="439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bilization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e Urban traveled to various c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ine months preaching the Crusad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ing extraordinary inducements; inclu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enary indulgence remitting all punishments due to sin for those who died on the Crus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fs were allowed to leave the land to which they were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zens were exempted from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tors were given a moratorium on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soners were freed and death sentences were commuted by a bold extension of Papal authority to life service in Pal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us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riety of motivations resu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diverse group of crusad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tired of hopeless pov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nturers seeking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s looking for new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ds whose enlisting serfs had left them labor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rely religious individuals wanting to rescue the land of Ch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map2"/>
          <p:cNvPicPr/>
          <p:nvPr/>
        </p:nvPicPr>
        <p:blipFill>
          <a:blip r:embed="rId1"/>
          <a:stretch/>
        </p:blipFill>
        <p:spPr>
          <a:xfrm>
            <a:off x="6934320" y="762120"/>
            <a:ext cx="200160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rban had appointed August 1096 as the time of departure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many of the impatien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asants, who were among the first recruits, could not wa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d by such personalities as Peter the Hermit and Walter the Penniless, they set out in three groups and quickly devolved into disorder, hunger, and ill-discipl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were all but annihilated by a force of Turks at Nice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7_alexis_comnene"/>
          <p:cNvPicPr/>
          <p:nvPr/>
        </p:nvPicPr>
        <p:blipFill>
          <a:blip r:embed="rId1"/>
          <a:stretch/>
        </p:blipFill>
        <p:spPr>
          <a:xfrm>
            <a:off x="4978440" y="1752480"/>
            <a:ext cx="4013280" cy="282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Rectangle 7"/>
          <p:cNvSpPr/>
          <p:nvPr/>
        </p:nvSpPr>
        <p:spPr>
          <a:xfrm>
            <a:off x="5181480" y="4952880"/>
            <a:ext cx="36576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ius Comnenus, Emperor of the East, receives Peter the Hermit at Constantinople, August 1096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illot Saint-E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 a result of this “easy” victory by the Muslim Turks at Nicea, they gained a false sense of confidence in their ability to defeat the Christian Crusade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equently, several Muslim leaders began to disagree over how they should proceed, &amp; who should be “in charg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re organized group of  Crusaders met a divided Muslim force and won victories at Nicea on June 19, 1097 and Antioch on June 3, 10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June 7, 1099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a three year campaig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,000 of the original 30,000 Crusaders reached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The Siege of Antioch, from a medieval miniature painting"/>
          <p:cNvPicPr/>
          <p:nvPr/>
        </p:nvPicPr>
        <p:blipFill>
          <a:blip r:embed="rId1"/>
          <a:stretch/>
        </p:blipFill>
        <p:spPr>
          <a:xfrm>
            <a:off x="5562720" y="1600200"/>
            <a:ext cx="2869920" cy="4264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5791320" y="6095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ge of Anti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13:45:11Z</dcterms:created>
  <dc:creator>kevin dougherty</dc:creator>
  <dc:description/>
  <dc:language>en-US</dc:language>
  <cp:lastModifiedBy>Debes John</cp:lastModifiedBy>
  <cp:lastPrinted>2013-12-05T13:45:17Z</cp:lastPrinted>
  <dcterms:modified xsi:type="dcterms:W3CDTF">2013-12-05T13:56:53Z</dcterms:modified>
  <cp:revision>137</cp:revision>
  <dc:subject/>
  <dc:title>The Crusades</dc:title>
</cp:coreProperties>
</file>