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5.jpeg" ContentType="image/jpeg"/>
  <Override PartName="/ppt/media/image14.png" ContentType="image/png"/>
  <Override PartName="/ppt/media/image10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carbrake.wav" ContentType="audio/x-wav"/>
  <Override PartName="/ppt/media/image8.png" ContentType="image/png"/>
  <Override PartName="/ppt/media/image16.wmf" ContentType="image/x-wmf"/>
  <Override PartName="/ppt/media/image25.png" ContentType="image/png"/>
  <Override PartName="/ppt/media/image4.jpeg" ContentType="image/jpeg"/>
  <Override PartName="/ppt/media/image2.png" ContentType="image/png"/>
  <Override PartName="/ppt/media/projctor.wav" ContentType="audio/x-wav"/>
  <Override PartName="/ppt/media/image27.png" ContentType="image/png"/>
  <Override PartName="/ppt/media/laser.wav" ContentType="audio/x-wav"/>
  <Override PartName="/ppt/media/image12.wmf" ContentType="image/x-wmf"/>
  <Override PartName="/ppt/media/image28.png" ContentType="image/png"/>
  <Override PartName="/ppt/media/image5.png" ContentType="image/png"/>
  <Override PartName="/ppt/media/image29.png" ContentType="image/png"/>
  <Override PartName="/ppt/media/image1.gif" ContentType="image/gif"/>
  <Override PartName="/ppt/media/image24.png" ContentType="image/png"/>
  <Override PartName="/ppt/media/type.wav" ContentType="audio/x-wav"/>
  <Override PartName="/ppt/media/image17.png" ContentType="image/png"/>
  <Override PartName="/ppt/media/camera.wav" ContentType="audio/x-wav"/>
  <Override PartName="/ppt/media/explode.wav" ContentType="audio/x-wav"/>
  <Override PartName="/ppt/media/image22.wmf" ContentType="image/x-wmf"/>
  <Override PartName="/ppt/media/whoosh.wav" ContentType="audio/x-wav"/>
  <Override PartName="/ppt/media/image23.wmf" ContentType="image/x-wm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112-157E-451A-B8FF-DB7133CD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A87-5CB7-4A57-942A-928EAFE7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5A7-C71E-4324-AFC4-4F009E53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EF2-B574-4676-94FE-1BD18CF9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7820B-3E37-46E3-BA86-8FDE967E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4F5BB-AD44-43DB-ADDF-BC07F320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58DB4-DC87-4FD8-A17B-10088A8F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095FE-0048-4B52-8928-58751FD1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4B6F4-91CE-436D-BADD-9EC98665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E9EE4-A315-4742-B937-F41AB753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B1D22-3D8E-4D60-A954-59921B15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48F-16A9-40B2-9ACE-6827A595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3185E-7C6A-4C1F-98FB-43A686BE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E9276-5760-489F-826A-57594093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620E9-C162-410F-96AF-0696CCF0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36D15-8F9A-4258-B6AC-1AF95566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2DB03-5A69-46D4-B4D8-59307D70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61EF-8D7F-4BD5-B6FD-16D7743C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25E7-5627-44D4-97AC-1FD1EE84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DC7D-1C61-49D4-A851-ABFD38FD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F040-2B08-4D1D-BE13-6CF44015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1A52-E40D-40A5-AC48-7DBA1AB8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190-72FB-4251-BE41-5A91D65C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0D95-3BDD-4FED-8DEB-CC805A6E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FF54-149A-4284-9888-995D0581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275C-3D84-40FA-BAD7-3DBE13E0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207C-8EC4-45F2-BA0F-6FED6087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A545-8D05-4C6D-B330-8BD64FA1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B610-5F3D-40DB-BF2D-4B39FDBA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E59E-372F-4608-986E-FDC6455F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84A18-F0DE-499C-9985-C07F6DD3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573D-BE46-4E3E-ADD0-22FC2503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6816-DB82-4075-9643-6311F7C2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63A-282B-4719-9974-D86901FF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837D-DEA0-4454-89A5-4173B459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39A4-0576-4480-A6EA-8019DB7B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83C84-032D-4331-BC95-13DA099E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C25B-2025-482D-91F9-72EA14A2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D3822-7B4A-4576-8027-E1400066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9B922-C7B2-48B3-B29E-75B87F0D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7EFC-F702-45F5-8FD5-CC2EE6A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AB2ED-1C13-46BB-A6D9-0A48113E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885C1-B670-4F00-AEBE-A6A1E54F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E45-F1B2-4966-91A1-90859AEE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77F-864F-4B6D-B597-64FE2245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167-B0F8-4C49-8AD7-CB1E183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03D-8414-46B9-8149-3010211D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BF8-E2B3-4945-B8AF-305BFDE8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592E-1EB4-4249-9B76-8AA169679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0576-8443-44E5-A1F2-C91572669E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6B40-3520-46D7-B956-D9F2DF4C0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2B01-0EA5-4D16-88C4-981C883531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audio" Target="../media/whoosh.wav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whoosh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audio" Target="../media/laser.wav"/><Relationship Id="rId23" Type="http://schemas.openxmlformats.org/officeDocument/2006/relationships/audio" Target="../media/whoosh.wav"/><Relationship Id="rId24" Type="http://schemas.openxmlformats.org/officeDocument/2006/relationships/audio" Target="../media/laser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whoosh.wav"/><Relationship Id="rId2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explode.wav"/><Relationship Id="rId5" Type="http://schemas.openxmlformats.org/officeDocument/2006/relationships/audio" Target="../media/projctor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3"/>
          <p:cNvSpPr txBox="1"/>
          <p:nvPr/>
        </p:nvSpPr>
        <p:spPr>
          <a:xfrm>
            <a:off x="609480" y="533520"/>
            <a:ext cx="8534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Protestant Reformatio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1" name="Picture 6" descr="j0173976"/>
          <p:cNvPicPr/>
          <p:nvPr/>
        </p:nvPicPr>
        <p:blipFill>
          <a:blip r:embed="rId1"/>
          <a:stretch/>
        </p:blipFill>
        <p:spPr>
          <a:xfrm>
            <a:off x="3314880" y="3657600"/>
            <a:ext cx="248904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71800" y="304920"/>
            <a:ext cx="5791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's 95 These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5" name="Picture 3" descr="w_gutenbrg1"/>
          <p:cNvPicPr/>
          <p:nvPr/>
        </p:nvPicPr>
        <p:blipFill>
          <a:blip r:embed="rId3"/>
          <a:stretch/>
        </p:blipFill>
        <p:spPr>
          <a:xfrm>
            <a:off x="0" y="0"/>
            <a:ext cx="2743200" cy="22766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256" name="Text Box 4"/>
          <p:cNvSpPr/>
          <p:nvPr/>
        </p:nvSpPr>
        <p:spPr>
          <a:xfrm>
            <a:off x="0" y="242244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utenberg’s Printing Press made it easier for Luther to spread his beli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sted his 95 Theses on Church doors in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ained support from people and criticism from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666880" y="5335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 on Trial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Diet of W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520 Pope Leo X sends a written order telling Luther to give up his beli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uther burned the order and was ex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uther went into hiding where he translated the New Testament into German – spreading his beliefs even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j0212511"/>
          <p:cNvPicPr/>
          <p:nvPr/>
        </p:nvPicPr>
        <p:blipFill>
          <a:blip r:embed="rId1"/>
          <a:stretch/>
        </p:blipFill>
        <p:spPr>
          <a:xfrm>
            <a:off x="6629400" y="0"/>
            <a:ext cx="1889280" cy="1905120"/>
          </a:xfrm>
          <a:prstGeom prst="rect">
            <a:avLst/>
          </a:prstGeom>
          <a:ln w="0">
            <a:noFill/>
          </a:ln>
        </p:spPr>
      </p:pic>
      <p:sp>
        <p:nvSpPr>
          <p:cNvPr id="260" name="WordArt 3"/>
          <p:cNvSpPr txBox="1"/>
          <p:nvPr/>
        </p:nvSpPr>
        <p:spPr>
          <a:xfrm>
            <a:off x="685800" y="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ceptance of Reform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0" y="175248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ome Local German Churches accepted Luther’s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utheranism wa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upported by German Princes who issued a formal “protest” against the Church for suppressing the re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reformers came to be known as [PROTEST]a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rotes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3200400" y="533520"/>
            <a:ext cx="4952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ohn Calvi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3" descr="rf_calvin"/>
          <p:cNvPicPr/>
          <p:nvPr/>
        </p:nvPicPr>
        <p:blipFill>
          <a:blip r:embed="rId3"/>
          <a:stretch/>
        </p:blipFill>
        <p:spPr>
          <a:xfrm>
            <a:off x="762120" y="457200"/>
            <a:ext cx="1692000" cy="20224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304920" y="2590920"/>
            <a:ext cx="8534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ti-Cathol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fluenced by 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agreed with Luther’s “Salvation through faith alo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reated his own Protestant religion in Switz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5" descr="SY00029_"/>
          <p:cNvPicPr/>
          <p:nvPr/>
        </p:nvPicPr>
        <p:blipFill>
          <a:blip r:embed="rId4"/>
          <a:stretch/>
        </p:blipFill>
        <p:spPr>
          <a:xfrm>
            <a:off x="6858000" y="1828800"/>
            <a:ext cx="19270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380880" y="2286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edestinatio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0" y="213372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lvin believ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lvation through Pre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t birth it is decided if you will go to heaven or 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j0139019"/>
          <p:cNvPicPr/>
          <p:nvPr/>
        </p:nvPicPr>
        <p:blipFill>
          <a:blip r:embed="rId3"/>
          <a:stretch/>
        </p:blipFill>
        <p:spPr>
          <a:xfrm>
            <a:off x="4952880" y="4191120"/>
            <a:ext cx="2602080" cy="2398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j0114608"/>
          <p:cNvPicPr/>
          <p:nvPr/>
        </p:nvPicPr>
        <p:blipFill>
          <a:blip r:embed="rId4"/>
          <a:stretch/>
        </p:blipFill>
        <p:spPr>
          <a:xfrm>
            <a:off x="6324480" y="0"/>
            <a:ext cx="247824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0" y="1905120"/>
            <a:ext cx="8839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e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d knows everything that will happen in you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rified approach to lif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 drinking, swearing, card playing, gambling etc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WordArt 3"/>
          <p:cNvSpPr txBox="1"/>
          <p:nvPr/>
        </p:nvSpPr>
        <p:spPr>
          <a:xfrm>
            <a:off x="457200" y="22860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lvin believed in: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228600" y="22860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LVINISM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Picture 3" descr="so02823_"/>
          <p:cNvPicPr/>
          <p:nvPr/>
        </p:nvPicPr>
        <p:blipFill>
          <a:blip r:embed="rId3"/>
          <a:stretch/>
        </p:blipFill>
        <p:spPr>
          <a:xfrm>
            <a:off x="6248520" y="2590920"/>
            <a:ext cx="2522520" cy="4038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j0161786"/>
          <p:cNvPicPr/>
          <p:nvPr/>
        </p:nvPicPr>
        <p:blipFill>
          <a:blip r:embed="rId4"/>
          <a:stretch/>
        </p:blipFill>
        <p:spPr>
          <a:xfrm>
            <a:off x="5504040" y="0"/>
            <a:ext cx="3639960" cy="22874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304920" y="1676520"/>
            <a:ext cx="8001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rted in Switzerland – Calvin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gland = Purit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cotland = Presbyter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lland = Dutch Re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ance = Huguen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rmany = Reform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19051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457200" y="22860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38862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441360" y="1717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0" y="18702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wa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on of the King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 his older brother was expe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gain the throne, Henry was educ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goal of becoming a member of the chu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’s older brother died before their father,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was married to his brother’s widow at the age of 17.  The marriage was arranged to retain an alliance between England and Sp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19051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3"/>
          <p:cNvSpPr txBox="1"/>
          <p:nvPr/>
        </p:nvSpPr>
        <p:spPr>
          <a:xfrm>
            <a:off x="457200" y="22860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6629400" y="0"/>
            <a:ext cx="2328840" cy="36576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441360" y="1717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0" y="1870200"/>
            <a:ext cx="91440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was a practicing Catho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given the title “Defend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aith” by the Pope for his work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ending the Catholic church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tin Luther’ critic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wrote a book that denounced the teachings of Martin Luther and other refor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>
            <a:off x="1295280" y="228600"/>
            <a:ext cx="6096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therine of Aragon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0" y="1523880"/>
            <a:ext cx="9144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herine of Aragon was Henry’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herine failed to produce a male heir, only having one child who survived infancy– Mary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nry wanted to marry another woman, Anne Boleyn (who he thought would be able to give him a male he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asked the pope to annul his marriage (An annulment would have let him re-marry; the Catholic church did not allow divor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3"/>
          <p:cNvSpPr txBox="1"/>
          <p:nvPr/>
        </p:nvSpPr>
        <p:spPr>
          <a:xfrm>
            <a:off x="304920" y="304920"/>
            <a:ext cx="8610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4040"/>
                </a:solidFill>
                <a:latin typeface="Times New Roman"/>
              </a:rPr>
              <a:t>Causes of the Re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04040"/>
              </a:solidFill>
              <a:latin typeface="Times New Roman"/>
              <a:ea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2673360"/>
            <a:ext cx="9144000" cy="3601800"/>
          </a:xfrm>
          <a:prstGeom prst="rect">
            <a:avLst/>
          </a:prstGeom>
          <a:solidFill>
            <a:srgbClr val="ffffff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Crusades and 100 Years 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Black De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Scientific Advances which contradicted the Chu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The Corruption within the Catholic 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1403280"/>
            <a:ext cx="91440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e Clement VII wouldn’t annul the marriage (Catherine was the aunt of Holy Roman Emperor, Charles V &amp; the Pope didn’t want to anger Char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nry, trying to get Church to do what he wanted, appointed Sir Thomas More as English Cardinal in the hopes that he could convince the Pope to change his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, however, wouldn’t support Henry’s attempt to annul his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1295280" y="228600"/>
            <a:ext cx="6096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flict with the Church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0" y="1854360"/>
            <a:ext cx="9144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nry proceeded to dissolve England’s ties to the Catholic Church, starting in 15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nry VIII took control of the English clergy and had himself appointed the head of the Church of Eng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divorced Catherine and married Anne Boley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WordArt 3"/>
          <p:cNvSpPr txBox="1"/>
          <p:nvPr/>
        </p:nvSpPr>
        <p:spPr>
          <a:xfrm>
            <a:off x="1295280" y="228600"/>
            <a:ext cx="6096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glish Reformation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685800" y="2006640"/>
          <a:ext cx="7696080" cy="4851360"/>
        </p:xfrm>
        <a:graphic>
          <a:graphicData uri="http://schemas.openxmlformats.org/drawingml/2006/table">
            <a:tbl>
              <a:tblPr/>
              <a:tblGrid>
                <a:gridCol w="2819520"/>
                <a:gridCol w="1218960"/>
                <a:gridCol w="3657600"/>
              </a:tblGrid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Annan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 all payment to the Catholic Chu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Appea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d Rome’s Religious hold on Eng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Suprema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Henry VIII the head of the Church of Eng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bject who wouldn’t denounce the Catholic Chu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7772400" y="5562720"/>
          <a:ext cx="838080" cy="5173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WordArt 31"/>
          <p:cNvSpPr txBox="1"/>
          <p:nvPr/>
        </p:nvSpPr>
        <p:spPr>
          <a:xfrm>
            <a:off x="609480" y="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 Establishes the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urch of England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7772400" y="5562720"/>
          <a:ext cx="838080" cy="5173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WordArt 30"/>
          <p:cNvSpPr txBox="1"/>
          <p:nvPr/>
        </p:nvSpPr>
        <p:spPr>
          <a:xfrm>
            <a:off x="609480" y="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 Establishes the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urch of England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Text Box 31"/>
          <p:cNvSpPr/>
          <p:nvPr/>
        </p:nvSpPr>
        <p:spPr>
          <a:xfrm>
            <a:off x="0" y="1854360"/>
            <a:ext cx="9144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did not do away with “Catholic” practices; in fact he maintained most traditional Catholic practices in the Church of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didn’t allow many Protestant reforms during his 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 the reign of subsequent monarchs, however, Protestant practices and styles of worship were incorporated into the Church of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3"/>
          <p:cNvSpPr txBox="1"/>
          <p:nvPr/>
        </p:nvSpPr>
        <p:spPr>
          <a:xfrm>
            <a:off x="1523880" y="457200"/>
            <a:ext cx="5639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ristianity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Line 4"/>
          <p:cNvSpPr/>
          <p:nvPr/>
        </p:nvSpPr>
        <p:spPr>
          <a:xfrm flipH="1">
            <a:off x="2514600" y="1752480"/>
            <a:ext cx="190512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4419720" y="1752480"/>
            <a:ext cx="1752480" cy="1143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WordArt 6"/>
          <p:cNvSpPr txBox="1"/>
          <p:nvPr/>
        </p:nvSpPr>
        <p:spPr>
          <a:xfrm>
            <a:off x="380880" y="3048120"/>
            <a:ext cx="2514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tholic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4800600" y="297180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testant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4495320" y="4038480"/>
            <a:ext cx="1295640" cy="3812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5866920" y="4038480"/>
            <a:ext cx="685800" cy="533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10"/>
          <p:cNvSpPr txBox="1"/>
          <p:nvPr/>
        </p:nvSpPr>
        <p:spPr>
          <a:xfrm>
            <a:off x="2819520" y="4343400"/>
            <a:ext cx="165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a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1"/>
          <p:cNvSpPr txBox="1"/>
          <p:nvPr/>
        </p:nvSpPr>
        <p:spPr>
          <a:xfrm>
            <a:off x="4876920" y="4648320"/>
            <a:ext cx="1866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lvinism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Line 12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571500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6553080" y="5257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4572000" y="5486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uri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480060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ugeun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18148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esbyter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7315200" y="4038480"/>
            <a:ext cx="533520" cy="1295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WordArt 19"/>
          <p:cNvSpPr txBox="1"/>
          <p:nvPr/>
        </p:nvSpPr>
        <p:spPr>
          <a:xfrm>
            <a:off x="7010280" y="5410080"/>
            <a:ext cx="1866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glica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62626"/>
                </a:solidFill>
                <a:latin typeface="Arial"/>
              </a:rPr>
              <a:t>Results of the Reformation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Provided religious choices to Europeans who had previously had n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Caused the “Catholic Reformation,” an attempt by the Catholic church to stop the spread of Protestantism-this “counter-reformation” helped return the Catholic church to a more spiritual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Inquisition-the Catholic church began to search out and persecute “heretic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62626"/>
                </a:solidFill>
                <a:latin typeface="Arial"/>
              </a:rPr>
              <a:t>Results of the Reformation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A set of religious wars took place in Europe that would shape its’ hi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Education became even more important, as more an more people learned to read in order to study the bible and determine (on their own) what “type” of Christianity was b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Increased the power of the National governments, and decreased the power of the Catholic church and the p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3"/>
          <p:cNvSpPr txBox="1"/>
          <p:nvPr/>
        </p:nvSpPr>
        <p:spPr>
          <a:xfrm>
            <a:off x="380880" y="304920"/>
            <a:ext cx="8229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4040"/>
                </a:solidFill>
                <a:latin typeface="Arial Black"/>
              </a:rPr>
              <a:t>What was the Protestant Reformatio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04040"/>
              </a:solidFill>
              <a:latin typeface="Arial Black"/>
              <a:ea typeface="Arial Black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1747800"/>
            <a:ext cx="9144000" cy="4014360"/>
          </a:xfrm>
          <a:prstGeom prst="rect">
            <a:avLst/>
          </a:prstGeom>
          <a:solidFill>
            <a:srgbClr val="ffffff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or to the Reformation all (European) Christians were Roman Catho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eformation was an attempt to reform the Catholic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ople like Martin Luther wanted to get rid of the corruption and restore the people’s faith in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380880" y="304920"/>
            <a:ext cx="8229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4040"/>
                </a:solidFill>
                <a:latin typeface="Arial Black"/>
              </a:rPr>
              <a:t>What was the Protestant Reformatio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04040"/>
              </a:solidFill>
              <a:latin typeface="Arial Black"/>
              <a:ea typeface="Arial Black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0" y="2209680"/>
            <a:ext cx="9144000" cy="2785320"/>
          </a:xfrm>
          <a:prstGeom prst="rect">
            <a:avLst/>
          </a:prstGeom>
          <a:solidFill>
            <a:srgbClr val="ffffff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the end the reformers, like Luther, established their ow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eformation caused a split within Christian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th the formation of these new Protestant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219320" y="228600"/>
            <a:ext cx="6629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Reformer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3880" y="2438280"/>
            <a:ext cx="7391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Martin Lu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John Calv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Henry VII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286000" y="30492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rtin Luth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1" name="Picture 3" descr="rf_luther1"/>
          <p:cNvPicPr/>
          <p:nvPr/>
        </p:nvPicPr>
        <p:blipFill>
          <a:blip r:embed="rId3"/>
          <a:stretch/>
        </p:blipFill>
        <p:spPr>
          <a:xfrm>
            <a:off x="0" y="0"/>
            <a:ext cx="2163600" cy="26668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242" name="Text Box 4"/>
          <p:cNvSpPr/>
          <p:nvPr/>
        </p:nvSpPr>
        <p:spPr>
          <a:xfrm>
            <a:off x="0" y="2743200"/>
            <a:ext cx="81532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ived from 1483-1546 in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His father encouraged him to study la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sudden religious experience inspired him to become a mo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5" descr="luthers seal"/>
          <p:cNvPicPr/>
          <p:nvPr/>
        </p:nvPicPr>
        <p:blipFill>
          <a:blip r:embed="rId4"/>
          <a:stretch/>
        </p:blipFill>
        <p:spPr>
          <a:xfrm>
            <a:off x="7545240" y="5029200"/>
            <a:ext cx="159876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2286000" y="30492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rtin Luth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2755800"/>
            <a:ext cx="7924680" cy="352692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 became troubled over the possibility of not going to heav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 turned to the Bible, and confession for 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the Bible he found the answer he was looking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4" descr="luthers seal"/>
          <p:cNvPicPr/>
          <p:nvPr/>
        </p:nvPicPr>
        <p:blipFill>
          <a:blip r:embed="rId3"/>
          <a:stretch/>
        </p:blipFill>
        <p:spPr>
          <a:xfrm>
            <a:off x="7545240" y="5029200"/>
            <a:ext cx="159876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rf_luther1"/>
          <p:cNvPicPr/>
          <p:nvPr/>
        </p:nvPicPr>
        <p:blipFill>
          <a:blip r:embed="rId4"/>
          <a:stretch/>
        </p:blipFill>
        <p:spPr>
          <a:xfrm>
            <a:off x="0" y="0"/>
            <a:ext cx="2163600" cy="26668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j0194124"/>
          <p:cNvPicPr/>
          <p:nvPr/>
        </p:nvPicPr>
        <p:blipFill>
          <a:blip r:embed="rId1"/>
          <a:stretch/>
        </p:blipFill>
        <p:spPr>
          <a:xfrm>
            <a:off x="5715000" y="3759120"/>
            <a:ext cx="3429000" cy="3098880"/>
          </a:xfrm>
          <a:prstGeom prst="rect">
            <a:avLst/>
          </a:prstGeom>
          <a:ln w="0">
            <a:noFill/>
          </a:ln>
        </p:spPr>
      </p:pic>
      <p:sp>
        <p:nvSpPr>
          <p:cNvPr id="249" name="WordArt 3"/>
          <p:cNvSpPr txBox="1"/>
          <p:nvPr/>
        </p:nvSpPr>
        <p:spPr>
          <a:xfrm>
            <a:off x="609480" y="457200"/>
            <a:ext cx="3505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MANS 1:17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28600" y="1371600"/>
            <a:ext cx="8686800" cy="333396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ighteous shall by his faith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uther believed that only faith (in the ultimate goodness of Jesus), not good deeds, could save a person.  No good works, rituals, etc. would save a person if they did not beli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914400" y="304920"/>
            <a:ext cx="7238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's 95 These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609480" y="1905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0" y="16002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list of things he thought were wrong with the Catholic Church (95 Compla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 criticiz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Power of the P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Extreme Wealth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ulgences (Catholic concept of Salv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8:50:44Z</dcterms:created>
  <dc:creator>Preferred Customer</dc:creator>
  <dc:description/>
  <dc:language>en-US</dc:language>
  <cp:lastModifiedBy>Debes John</cp:lastModifiedBy>
  <cp:lastPrinted>2015-01-21T10:52:11Z</cp:lastPrinted>
  <dcterms:modified xsi:type="dcterms:W3CDTF">2015-01-21T10:52:29Z</dcterms:modified>
  <cp:revision>72</cp:revision>
  <dc:subject/>
  <dc:title>PowerPoint Presentation</dc:title>
</cp:coreProperties>
</file>