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5.jpeg" ContentType="image/jpeg"/>
  <Override PartName="/ppt/media/image14.png" ContentType="image/png"/>
  <Override PartName="/ppt/media/image10.jpeg" ContentType="image/jpeg"/>
  <Override PartName="/ppt/media/image3.png" ContentType="image/png"/>
  <Override PartName="/ppt/media/image26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carbrake.wav" ContentType="audio/x-wav"/>
  <Override PartName="/ppt/media/image8.png" ContentType="image/png"/>
  <Override PartName="/ppt/media/image16.wmf" ContentType="image/x-wmf"/>
  <Override PartName="/ppt/media/image25.png" ContentType="image/png"/>
  <Override PartName="/ppt/media/image4.jpeg" ContentType="image/jpeg"/>
  <Override PartName="/ppt/media/image2.png" ContentType="image/png"/>
  <Override PartName="/ppt/media/projctor.wav" ContentType="audio/x-wav"/>
  <Override PartName="/ppt/media/image27.png" ContentType="image/png"/>
  <Override PartName="/ppt/media/laser.wav" ContentType="audio/x-wav"/>
  <Override PartName="/ppt/media/image12.wmf" ContentType="image/x-wmf"/>
  <Override PartName="/ppt/media/image28.png" ContentType="image/png"/>
  <Override PartName="/ppt/media/image5.png" ContentType="image/png"/>
  <Override PartName="/ppt/media/image29.png" ContentType="image/png"/>
  <Override PartName="/ppt/media/image1.gif" ContentType="image/gif"/>
  <Override PartName="/ppt/media/image24.png" ContentType="image/png"/>
  <Override PartName="/ppt/media/type.wav" ContentType="audio/x-wav"/>
  <Override PartName="/ppt/media/image17.png" ContentType="image/png"/>
  <Override PartName="/ppt/media/camera.wav" ContentType="audio/x-wav"/>
  <Override PartName="/ppt/media/explode.wav" ContentType="audio/x-wav"/>
  <Override PartName="/ppt/media/image22.wmf" ContentType="image/x-wmf"/>
  <Override PartName="/ppt/media/whoosh.wav" ContentType="audio/x-wav"/>
  <Override PartName="/ppt/media/image23.wmf" ContentType="image/x-wmf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B0A8-1140-4D3B-BB93-9B714C44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F9DB-AF58-4A8E-B0C2-69978181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10F1-186C-42E0-BD9A-B35E06A3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D1CD-E8C6-4CFD-BE5D-33505476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1FA44-E5DB-4B78-AB0E-F6FE8ECD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F9F11-B208-4757-B910-B9F6AD24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19658-4B66-4F1D-B262-9C9BA45F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60C8C-82CA-4E4A-9E6C-905AA95B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48B64-DF4D-41D2-96B3-E17A0778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E133B-5214-4614-9BFC-BDA97622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F9756-634E-41F6-BE0F-0626D3C9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D825-2DE2-414C-BDB9-9FA43F21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F8B5A-9F97-42F7-8E8E-BD1BA092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15633-C4AB-4198-817A-50933E63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15945-9C03-4A0F-83DC-240DDE82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A7AB8-EBD8-442E-9346-F081882B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1146B-6EF1-4CC5-95A9-20D5D6DA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E97C0-E207-4B2D-A901-EFC5C5FD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C4CB3-E5F6-4A2C-B5AB-921805FC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8CB2F-BD86-4DDA-8ADB-080FA1C4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51A8C-772B-43EA-BAAC-0A9CCCB1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DC126-36F4-45AF-8BFB-2015F91B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B62C-EFF5-4B54-9DAE-99A59A1D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FD351-33CA-4468-9C15-10A2D85A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15083-B250-4360-9A38-1DB33C43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19B2C-850C-4253-96A1-005DB64C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3D58A-D6DD-4503-997E-7082081E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E4ED2-2237-4BF6-A615-3EBF5EE7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666D3-C10A-4F53-908A-F046F8E0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17010-8666-4BD1-BF5B-F12DF2F8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3BFE5-DE01-4D08-826A-8C0A9802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46CA9-504A-4D8F-B209-DF9360E0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52176-C88E-4468-AE7C-41DF6920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302-B95E-4D6C-9330-9726A363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5736C-AE73-443D-9FE4-963D0A4F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04EB3-26C4-482E-A450-764C0E50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06A2D-42AE-4D6F-87F3-ADA30DDE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F422F-962D-4875-9A97-DC3F8E81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0A26D-0960-47C9-BC56-CE7620D9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B2349-9F8B-466E-B1D5-578DCD20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9B630-F2D4-4D43-A4BB-0D22E599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2F0B5-4D09-472C-97D5-121A4869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8D212-6EB8-47BE-9535-F0E978ED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B9DF-2941-44A5-9C70-1C640F4A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A1D2-70FA-4154-9AB5-C5724859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FAA0-7FF8-49AA-9273-B25CE970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65DF-3BD0-433E-A086-865158ED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DA35-8EFC-4267-A7A0-F46EB1A7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7B50-8780-40D1-AF7E-8C74BCD67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32F7-9164-414B-92A8-B7CA3269B2F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E80B-4F9A-4260-9865-C182F8CD7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9940-2512-442A-A5E6-71050E6084B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wmf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whoosh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carbrake.wav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audio" Target="../media/whoosh.wav"/><Relationship Id="rId6" Type="http://schemas.openxmlformats.org/officeDocument/2006/relationships/audio" Target="../media/projctor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audio" Target="../media/whoosh.wav"/><Relationship Id="rId12" Type="http://schemas.openxmlformats.org/officeDocument/2006/relationships/audio" Target="../media/laser.wav"/><Relationship Id="rId13" Type="http://schemas.openxmlformats.org/officeDocument/2006/relationships/audio" Target="../media/whoosh.wav"/><Relationship Id="rId14" Type="http://schemas.openxmlformats.org/officeDocument/2006/relationships/audio" Target="../media/laser.wav"/><Relationship Id="rId15" Type="http://schemas.openxmlformats.org/officeDocument/2006/relationships/audio" Target="../media/whoosh.wav"/><Relationship Id="rId16" Type="http://schemas.openxmlformats.org/officeDocument/2006/relationships/audio" Target="../media/laser.wav"/><Relationship Id="rId17" Type="http://schemas.openxmlformats.org/officeDocument/2006/relationships/audio" Target="../media/whoosh.wav"/><Relationship Id="rId18" Type="http://schemas.openxmlformats.org/officeDocument/2006/relationships/audio" Target="../media/laser.wav"/><Relationship Id="rId19" Type="http://schemas.openxmlformats.org/officeDocument/2006/relationships/audio" Target="../media/whoosh.wav"/><Relationship Id="rId20" Type="http://schemas.openxmlformats.org/officeDocument/2006/relationships/audio" Target="../media/laser.wav"/><Relationship Id="rId21" Type="http://schemas.openxmlformats.org/officeDocument/2006/relationships/audio" Target="../media/whoosh.wav"/><Relationship Id="rId22" Type="http://schemas.openxmlformats.org/officeDocument/2006/relationships/audio" Target="../media/laser.wav"/><Relationship Id="rId23" Type="http://schemas.openxmlformats.org/officeDocument/2006/relationships/audio" Target="../media/whoosh.wav"/><Relationship Id="rId24" Type="http://schemas.openxmlformats.org/officeDocument/2006/relationships/audio" Target="../media/laser.wav"/><Relationship Id="rId25" Type="http://schemas.openxmlformats.org/officeDocument/2006/relationships/audio" Target="../media/whoosh.wav"/><Relationship Id="rId26" Type="http://schemas.openxmlformats.org/officeDocument/2006/relationships/audio" Target="../media/laser.wav"/><Relationship Id="rId27" Type="http://schemas.openxmlformats.org/officeDocument/2006/relationships/audio" Target="../media/whoosh.wav"/><Relationship Id="rId2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type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audio" Target="../media/camera.wav"/><Relationship Id="rId6" Type="http://schemas.openxmlformats.org/officeDocument/2006/relationships/audio" Target="../media/laser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explode.wav"/><Relationship Id="rId5" Type="http://schemas.openxmlformats.org/officeDocument/2006/relationships/audio" Target="../media/projctor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3"/>
          <p:cNvSpPr txBox="1"/>
          <p:nvPr/>
        </p:nvSpPr>
        <p:spPr>
          <a:xfrm>
            <a:off x="609480" y="533520"/>
            <a:ext cx="85345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he Protestant Reformation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1" name="Picture 6" descr="j0173976"/>
          <p:cNvPicPr/>
          <p:nvPr/>
        </p:nvPicPr>
        <p:blipFill>
          <a:blip r:embed="rId1"/>
          <a:stretch/>
        </p:blipFill>
        <p:spPr>
          <a:xfrm>
            <a:off x="3314880" y="3657600"/>
            <a:ext cx="2489040" cy="3200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2"/>
          <p:cNvSpPr txBox="1"/>
          <p:nvPr/>
        </p:nvSpPr>
        <p:spPr>
          <a:xfrm>
            <a:off x="2971800" y="304920"/>
            <a:ext cx="5791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uther's 95 Theses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5" name="Picture 3" descr="w_gutenbrg1"/>
          <p:cNvPicPr/>
          <p:nvPr/>
        </p:nvPicPr>
        <p:blipFill>
          <a:blip r:embed="rId3"/>
          <a:stretch/>
        </p:blipFill>
        <p:spPr>
          <a:xfrm>
            <a:off x="0" y="0"/>
            <a:ext cx="2743200" cy="227664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256" name="Text Box 4"/>
          <p:cNvSpPr/>
          <p:nvPr/>
        </p:nvSpPr>
        <p:spPr>
          <a:xfrm>
            <a:off x="0" y="2422440"/>
            <a:ext cx="9144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utenberg’s Printing Press made it easier for Luther to spread his belie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osted his 95 Theses on Church doors in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ained support from people and criticism from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2"/>
          <p:cNvSpPr txBox="1"/>
          <p:nvPr/>
        </p:nvSpPr>
        <p:spPr>
          <a:xfrm>
            <a:off x="2666880" y="533520"/>
            <a:ext cx="6172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uther on Trial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0" y="2057400"/>
            <a:ext cx="9144000" cy="399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Diet of W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520 Pope Leo X sends a written order telling Luther to give up his belie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uther burned the order and was excommun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uther went into hiding where he translated the New Testament into German – spreading his beliefs even fur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j0212511"/>
          <p:cNvPicPr/>
          <p:nvPr/>
        </p:nvPicPr>
        <p:blipFill>
          <a:blip r:embed="rId1"/>
          <a:stretch/>
        </p:blipFill>
        <p:spPr>
          <a:xfrm>
            <a:off x="6629400" y="0"/>
            <a:ext cx="1889280" cy="1905120"/>
          </a:xfrm>
          <a:prstGeom prst="rect">
            <a:avLst/>
          </a:prstGeom>
          <a:ln w="0">
            <a:noFill/>
          </a:ln>
        </p:spPr>
      </p:pic>
      <p:sp>
        <p:nvSpPr>
          <p:cNvPr id="260" name="WordArt 3"/>
          <p:cNvSpPr txBox="1"/>
          <p:nvPr/>
        </p:nvSpPr>
        <p:spPr>
          <a:xfrm>
            <a:off x="685800" y="0"/>
            <a:ext cx="5715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cceptance of Reforms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0" y="1752480"/>
            <a:ext cx="91440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ome Local German Churches accepted Luther’s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Lutheranism was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upported by German Princes who issued a formal “protest” against the Church for suppressing the re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reformers came to be known as [PROTEST]an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Protest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2"/>
          <p:cNvSpPr txBox="1"/>
          <p:nvPr/>
        </p:nvSpPr>
        <p:spPr>
          <a:xfrm>
            <a:off x="3200400" y="533520"/>
            <a:ext cx="49528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ohn Calvin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3" name="Picture 3" descr="rf_calvin"/>
          <p:cNvPicPr/>
          <p:nvPr/>
        </p:nvPicPr>
        <p:blipFill>
          <a:blip r:embed="rId3"/>
          <a:stretch/>
        </p:blipFill>
        <p:spPr>
          <a:xfrm>
            <a:off x="762120" y="457200"/>
            <a:ext cx="1692000" cy="202248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4"/>
          <p:cNvSpPr/>
          <p:nvPr/>
        </p:nvSpPr>
        <p:spPr>
          <a:xfrm>
            <a:off x="304920" y="2590920"/>
            <a:ext cx="85341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ti-Cathol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fluenced by Martin Lu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sagreed with Luther’s “Salvation through faith alon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reated his own Protestant religion in Switzer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5" descr="SY00029_"/>
          <p:cNvPicPr/>
          <p:nvPr/>
        </p:nvPicPr>
        <p:blipFill>
          <a:blip r:embed="rId4"/>
          <a:stretch/>
        </p:blipFill>
        <p:spPr>
          <a:xfrm>
            <a:off x="6858000" y="1828800"/>
            <a:ext cx="192708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2"/>
          <p:cNvSpPr txBox="1"/>
          <p:nvPr/>
        </p:nvSpPr>
        <p:spPr>
          <a:xfrm>
            <a:off x="380880" y="228600"/>
            <a:ext cx="5943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edestination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0" y="213372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lvin believed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alvation through Predest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t birth it is decided if you will go to heaven or 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4" descr="j0139019"/>
          <p:cNvPicPr/>
          <p:nvPr/>
        </p:nvPicPr>
        <p:blipFill>
          <a:blip r:embed="rId3"/>
          <a:stretch/>
        </p:blipFill>
        <p:spPr>
          <a:xfrm>
            <a:off x="4952880" y="4191120"/>
            <a:ext cx="2602080" cy="23986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j0114608"/>
          <p:cNvPicPr/>
          <p:nvPr/>
        </p:nvPicPr>
        <p:blipFill>
          <a:blip r:embed="rId4"/>
          <a:stretch/>
        </p:blipFill>
        <p:spPr>
          <a:xfrm>
            <a:off x="6324480" y="0"/>
            <a:ext cx="2478240" cy="259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0" y="1905120"/>
            <a:ext cx="88390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re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od knows everything that will happen in your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urified approach to lif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o drinking, swearing, card playing, gambling etc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WordArt 3"/>
          <p:cNvSpPr txBox="1"/>
          <p:nvPr/>
        </p:nvSpPr>
        <p:spPr>
          <a:xfrm>
            <a:off x="457200" y="228600"/>
            <a:ext cx="6095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alvin believed in: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2"/>
          <p:cNvSpPr txBox="1"/>
          <p:nvPr/>
        </p:nvSpPr>
        <p:spPr>
          <a:xfrm>
            <a:off x="228600" y="228600"/>
            <a:ext cx="5562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ALVINISM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3" name="Picture 3" descr="so02823_"/>
          <p:cNvPicPr/>
          <p:nvPr/>
        </p:nvPicPr>
        <p:blipFill>
          <a:blip r:embed="rId3"/>
          <a:stretch/>
        </p:blipFill>
        <p:spPr>
          <a:xfrm>
            <a:off x="6248520" y="2590920"/>
            <a:ext cx="2522520" cy="4038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j0161786"/>
          <p:cNvPicPr/>
          <p:nvPr/>
        </p:nvPicPr>
        <p:blipFill>
          <a:blip r:embed="rId4"/>
          <a:stretch/>
        </p:blipFill>
        <p:spPr>
          <a:xfrm>
            <a:off x="5504040" y="0"/>
            <a:ext cx="3639960" cy="22874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304920" y="1676520"/>
            <a:ext cx="8001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arted in Switzerland – Calvin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ngland = Purit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cotland = Presbyter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lland = Dutch Re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rance = Huguen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ermany = Reform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0" y="1905120"/>
            <a:ext cx="883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WordArt 3"/>
          <p:cNvSpPr txBox="1"/>
          <p:nvPr/>
        </p:nvSpPr>
        <p:spPr>
          <a:xfrm>
            <a:off x="457200" y="228600"/>
            <a:ext cx="6095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enry VIII</a:t>
            </a:r>
            <a:endParaRPr b="0" lang="en-US" sz="24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38862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5"/>
          <p:cNvSpPr/>
          <p:nvPr/>
        </p:nvSpPr>
        <p:spPr>
          <a:xfrm>
            <a:off x="441360" y="1717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0" y="187020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nry was the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on of the King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ce his older brother was expec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gain the throne, Henry was educa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the goal of becoming a member of the chur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nry’s older brother died before their father, &amp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nry was married to his brother’s widow at the age of 17.  The marriage was arranged to retain an alliance between England and Sp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0" y="1905120"/>
            <a:ext cx="883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WordArt 3"/>
          <p:cNvSpPr txBox="1"/>
          <p:nvPr/>
        </p:nvSpPr>
        <p:spPr>
          <a:xfrm>
            <a:off x="457200" y="228600"/>
            <a:ext cx="6095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enry VIII</a:t>
            </a:r>
            <a:endParaRPr b="0" lang="en-US" sz="24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6629400" y="0"/>
            <a:ext cx="2328840" cy="365760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5"/>
          <p:cNvSpPr/>
          <p:nvPr/>
        </p:nvSpPr>
        <p:spPr>
          <a:xfrm>
            <a:off x="441360" y="1717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0" y="1870200"/>
            <a:ext cx="914400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nry was a practicing Catho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s given the title “Defender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Faith” by the Pope for his work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ending the Catholic church fr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tin Luther’ criticis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wrote a book that denounced the teachings of Martin Luther and other reform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ordArt 2"/>
          <p:cNvSpPr txBox="1"/>
          <p:nvPr/>
        </p:nvSpPr>
        <p:spPr>
          <a:xfrm>
            <a:off x="1295280" y="228600"/>
            <a:ext cx="60962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atherine of Aragon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0" y="1523880"/>
            <a:ext cx="91440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herine of Aragon was Henry’s w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herine failed to produce a male heir, only having one child who survived infancy– Mary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nry wanted to marry another woman, Anne Boleyn (who he thought would be able to give him a male hei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asked the pope to annul his marriage (An annulment would have let him re-marry; the Catholic church did not allow divor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3"/>
          <p:cNvSpPr txBox="1"/>
          <p:nvPr/>
        </p:nvSpPr>
        <p:spPr>
          <a:xfrm>
            <a:off x="304920" y="304920"/>
            <a:ext cx="8610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4040"/>
                </a:solidFill>
                <a:latin typeface="Times New Roman"/>
              </a:rPr>
              <a:t>Causes of the Reform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404040"/>
              </a:solidFill>
              <a:latin typeface="Times New Roman"/>
              <a:ea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0" y="2673360"/>
            <a:ext cx="9144000" cy="3601800"/>
          </a:xfrm>
          <a:prstGeom prst="rect">
            <a:avLst/>
          </a:prstGeom>
          <a:solidFill>
            <a:srgbClr val="ffffff">
              <a:alpha val="50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Ultra Bold"/>
              </a:rPr>
              <a:t>Crusades and 100 Years W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Ultra Bold"/>
              </a:rPr>
              <a:t>Black De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Ultra Bold"/>
              </a:rPr>
              <a:t>Scientific Advances which contradicted the Chur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"/>
              </a:rPr>
              <a:t>The Corruption within the Catholic Chur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0" y="1403280"/>
            <a:ext cx="914400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pe Clement VII wouldn’t annul the marriage (Catherine was the aunt of Holy Roman Emperor, Charles V &amp; the Pope didn’t want to anger Char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nry, trying to get Church to do what he wanted, appointed Sir Thomas More as English Cardinal in the hopes that he could convince the Pope to change his d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, however, wouldn’t support Henry’s attempt to annul his marri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WordArt 5"/>
          <p:cNvSpPr txBox="1"/>
          <p:nvPr/>
        </p:nvSpPr>
        <p:spPr>
          <a:xfrm>
            <a:off x="1295280" y="228600"/>
            <a:ext cx="60962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flict with the Church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0" y="1854360"/>
            <a:ext cx="91440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nry proceeded to dissolve England’s ties to the Catholic Church, starting in 152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nry VIII took control of the English clergy and had himself appointed the head of the Church of Eng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divorced Catherine and married Anne Boley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WordArt 3"/>
          <p:cNvSpPr txBox="1"/>
          <p:nvPr/>
        </p:nvSpPr>
        <p:spPr>
          <a:xfrm>
            <a:off x="1295280" y="228600"/>
            <a:ext cx="60962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glish Reformation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685800" y="2006640"/>
          <a:ext cx="7696080" cy="4851360"/>
        </p:xfrm>
        <a:graphic>
          <a:graphicData uri="http://schemas.openxmlformats.org/drawingml/2006/table">
            <a:tbl>
              <a:tblPr/>
              <a:tblGrid>
                <a:gridCol w="2819520"/>
                <a:gridCol w="1218960"/>
                <a:gridCol w="3657600"/>
              </a:tblGrid>
              <a:tr h="12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ct of Annan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ped all payment to the Catholic Chur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ct of Appeal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ed Rome’s Religious hold on Eng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ct of Supremac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 Henry VIII the head of the Church of Eng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subject who wouldn’t denounce the Catholic Chur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7772400" y="5562720"/>
          <a:ext cx="838080" cy="5173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WordArt 31"/>
          <p:cNvSpPr txBox="1"/>
          <p:nvPr/>
        </p:nvSpPr>
        <p:spPr>
          <a:xfrm>
            <a:off x="609480" y="0"/>
            <a:ext cx="8229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enry VIII Establishes the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hurch of England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7772400" y="5562720"/>
          <a:ext cx="838080" cy="5173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WordArt 30"/>
          <p:cNvSpPr txBox="1"/>
          <p:nvPr/>
        </p:nvSpPr>
        <p:spPr>
          <a:xfrm>
            <a:off x="609480" y="0"/>
            <a:ext cx="8229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enry VIII Establishes the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hurch of England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7" name="Text Box 31"/>
          <p:cNvSpPr/>
          <p:nvPr/>
        </p:nvSpPr>
        <p:spPr>
          <a:xfrm>
            <a:off x="0" y="1854360"/>
            <a:ext cx="91440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nry did not do away with “Catholic” practices; in fact he maintained most traditional Catholic practices in the Church of 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nry didn’t allow many Protestant reforms during his re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er the reign of subsequent monarchs, however, Protestant practices and styles of worship were incorporated into the Church of 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WordArt 3"/>
          <p:cNvSpPr txBox="1"/>
          <p:nvPr/>
        </p:nvSpPr>
        <p:spPr>
          <a:xfrm>
            <a:off x="1523880" y="457200"/>
            <a:ext cx="5639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hristianity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Line 4"/>
          <p:cNvSpPr/>
          <p:nvPr/>
        </p:nvSpPr>
        <p:spPr>
          <a:xfrm flipH="1">
            <a:off x="2514600" y="1752480"/>
            <a:ext cx="190512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5"/>
          <p:cNvSpPr/>
          <p:nvPr/>
        </p:nvSpPr>
        <p:spPr>
          <a:xfrm>
            <a:off x="4419720" y="1752480"/>
            <a:ext cx="1752480" cy="1143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WordArt 6"/>
          <p:cNvSpPr txBox="1"/>
          <p:nvPr/>
        </p:nvSpPr>
        <p:spPr>
          <a:xfrm>
            <a:off x="380880" y="3048120"/>
            <a:ext cx="2514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atholic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2" name="WordArt 7"/>
          <p:cNvSpPr txBox="1"/>
          <p:nvPr/>
        </p:nvSpPr>
        <p:spPr>
          <a:xfrm>
            <a:off x="4800600" y="2971800"/>
            <a:ext cx="3276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testant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3" name="Line 8"/>
          <p:cNvSpPr/>
          <p:nvPr/>
        </p:nvSpPr>
        <p:spPr>
          <a:xfrm flipH="1">
            <a:off x="4495320" y="4038480"/>
            <a:ext cx="1295640" cy="3812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"/>
          <p:cNvSpPr/>
          <p:nvPr/>
        </p:nvSpPr>
        <p:spPr>
          <a:xfrm flipH="1">
            <a:off x="5866920" y="4038480"/>
            <a:ext cx="685800" cy="53352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WordArt 10"/>
          <p:cNvSpPr txBox="1"/>
          <p:nvPr/>
        </p:nvSpPr>
        <p:spPr>
          <a:xfrm>
            <a:off x="2819520" y="4343400"/>
            <a:ext cx="165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utheran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6" name="WordArt 11"/>
          <p:cNvSpPr txBox="1"/>
          <p:nvPr/>
        </p:nvSpPr>
        <p:spPr>
          <a:xfrm>
            <a:off x="4876920" y="4648320"/>
            <a:ext cx="1866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alvinism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7" name="Line 12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3"/>
          <p:cNvSpPr/>
          <p:nvPr/>
        </p:nvSpPr>
        <p:spPr>
          <a:xfrm>
            <a:off x="5715000" y="5257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4"/>
          <p:cNvSpPr/>
          <p:nvPr/>
        </p:nvSpPr>
        <p:spPr>
          <a:xfrm>
            <a:off x="6553080" y="5257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5"/>
          <p:cNvSpPr/>
          <p:nvPr/>
        </p:nvSpPr>
        <p:spPr>
          <a:xfrm>
            <a:off x="4572000" y="5486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uri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6"/>
          <p:cNvSpPr/>
          <p:nvPr/>
        </p:nvSpPr>
        <p:spPr>
          <a:xfrm>
            <a:off x="4800600" y="5943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ugeuno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5181480" y="64911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resbyter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8"/>
          <p:cNvSpPr/>
          <p:nvPr/>
        </p:nvSpPr>
        <p:spPr>
          <a:xfrm>
            <a:off x="7315200" y="4038480"/>
            <a:ext cx="533520" cy="12956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WordArt 19"/>
          <p:cNvSpPr txBox="1"/>
          <p:nvPr/>
        </p:nvSpPr>
        <p:spPr>
          <a:xfrm>
            <a:off x="7010280" y="5410080"/>
            <a:ext cx="1866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nglican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62626"/>
                </a:solidFill>
                <a:latin typeface="Arial"/>
              </a:rPr>
              <a:t>Results of the Reformation</a:t>
            </a:r>
            <a:endParaRPr b="0" lang="en-US" sz="5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</a:rPr>
              <a:t>Provided religious choices to Europeans who had previously had n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</a:rPr>
              <a:t>Caused the “Catholic Reformation,” an attempt by the Catholic church to stop the spread of Protestantism-this “counter-reformation” helped return the Catholic church to a more spiritual p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</a:rPr>
              <a:t>Inquisition-the Catholic church began to search out and persecute “heretic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1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1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62626"/>
                </a:solidFill>
                <a:latin typeface="Arial"/>
              </a:rPr>
              <a:t>Results of the Reformation</a:t>
            </a:r>
            <a:endParaRPr b="0" lang="en-US" sz="5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</a:rPr>
              <a:t>A set of religious wars took place in Europe that would shape its’ his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</a:rPr>
              <a:t>Education became even more important, as more an more people learned to read in order to study the bible and determine (on their own) what “type” of Christianity was be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</a:rPr>
              <a:t>Increased the power of the National governments, and decreased the power of the Catholic church and the po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3"/>
          <p:cNvSpPr txBox="1"/>
          <p:nvPr/>
        </p:nvSpPr>
        <p:spPr>
          <a:xfrm>
            <a:off x="380880" y="304920"/>
            <a:ext cx="82296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4040"/>
                </a:solidFill>
                <a:latin typeface="Arial Black"/>
              </a:rPr>
              <a:t>What was the Protestant Reformation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404040"/>
              </a:solidFill>
              <a:latin typeface="Arial Black"/>
              <a:ea typeface="Arial Black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0" y="1747800"/>
            <a:ext cx="9144000" cy="4014360"/>
          </a:xfrm>
          <a:prstGeom prst="rect">
            <a:avLst/>
          </a:prstGeom>
          <a:solidFill>
            <a:srgbClr val="ffffff">
              <a:alpha val="50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ior to the Reformation all (European) Christians were Roman Catho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reformation was an attempt to reform the Catholic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eople like Martin Luther wanted to get rid of the corruption and restore the people’s faith in the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4"/>
          <p:cNvSpPr txBox="1"/>
          <p:nvPr/>
        </p:nvSpPr>
        <p:spPr>
          <a:xfrm>
            <a:off x="380880" y="304920"/>
            <a:ext cx="82296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4040"/>
                </a:solidFill>
                <a:latin typeface="Arial Black"/>
              </a:rPr>
              <a:t>What was the Protestant Reformation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404040"/>
              </a:solidFill>
              <a:latin typeface="Arial Black"/>
              <a:ea typeface="Arial Black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0" y="2209680"/>
            <a:ext cx="9144000" cy="2785320"/>
          </a:xfrm>
          <a:prstGeom prst="rect">
            <a:avLst/>
          </a:prstGeom>
          <a:solidFill>
            <a:srgbClr val="ffffff">
              <a:alpha val="50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 the end the reformers, like Luther, established their own reli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Reformation caused a split within Christian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th the formation of these new Protestant reli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3"/>
          <p:cNvSpPr txBox="1"/>
          <p:nvPr/>
        </p:nvSpPr>
        <p:spPr>
          <a:xfrm>
            <a:off x="1219320" y="228600"/>
            <a:ext cx="6629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e Reformers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523880" y="2438280"/>
            <a:ext cx="73915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Martin Luth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John Calv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Henry VII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2286000" y="304920"/>
            <a:ext cx="6400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artin Luther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1" name="Picture 3" descr="rf_luther1"/>
          <p:cNvPicPr/>
          <p:nvPr/>
        </p:nvPicPr>
        <p:blipFill>
          <a:blip r:embed="rId3"/>
          <a:stretch/>
        </p:blipFill>
        <p:spPr>
          <a:xfrm>
            <a:off x="0" y="0"/>
            <a:ext cx="2163600" cy="26668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242" name="Text Box 4"/>
          <p:cNvSpPr/>
          <p:nvPr/>
        </p:nvSpPr>
        <p:spPr>
          <a:xfrm>
            <a:off x="0" y="2743200"/>
            <a:ext cx="81532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Lived from 1483-1546 in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His father encouraged him to study la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 sudden religious experience inspired him to become a mo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5" descr="luthers seal"/>
          <p:cNvPicPr/>
          <p:nvPr/>
        </p:nvPicPr>
        <p:blipFill>
          <a:blip r:embed="rId4"/>
          <a:stretch/>
        </p:blipFill>
        <p:spPr>
          <a:xfrm>
            <a:off x="7545240" y="5029200"/>
            <a:ext cx="1598760" cy="182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2"/>
          <p:cNvSpPr txBox="1"/>
          <p:nvPr/>
        </p:nvSpPr>
        <p:spPr>
          <a:xfrm>
            <a:off x="2286000" y="304920"/>
            <a:ext cx="6400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artin Luther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0" y="2755800"/>
            <a:ext cx="7924680" cy="352692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e became troubled over the possibility of not going to heav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e turned to the Bible, and confession for com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 the Bible he found the answer he was looking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4" descr="luthers seal"/>
          <p:cNvPicPr/>
          <p:nvPr/>
        </p:nvPicPr>
        <p:blipFill>
          <a:blip r:embed="rId3"/>
          <a:stretch/>
        </p:blipFill>
        <p:spPr>
          <a:xfrm>
            <a:off x="7545240" y="5029200"/>
            <a:ext cx="1598760" cy="1828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rf_luther1"/>
          <p:cNvPicPr/>
          <p:nvPr/>
        </p:nvPicPr>
        <p:blipFill>
          <a:blip r:embed="rId4"/>
          <a:stretch/>
        </p:blipFill>
        <p:spPr>
          <a:xfrm>
            <a:off x="0" y="0"/>
            <a:ext cx="2163600" cy="26668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j0194124"/>
          <p:cNvPicPr/>
          <p:nvPr/>
        </p:nvPicPr>
        <p:blipFill>
          <a:blip r:embed="rId1"/>
          <a:stretch/>
        </p:blipFill>
        <p:spPr>
          <a:xfrm>
            <a:off x="5715000" y="3759120"/>
            <a:ext cx="3429000" cy="3098880"/>
          </a:xfrm>
          <a:prstGeom prst="rect">
            <a:avLst/>
          </a:prstGeom>
          <a:ln w="0">
            <a:noFill/>
          </a:ln>
        </p:spPr>
      </p:pic>
      <p:sp>
        <p:nvSpPr>
          <p:cNvPr id="249" name="WordArt 3"/>
          <p:cNvSpPr txBox="1"/>
          <p:nvPr/>
        </p:nvSpPr>
        <p:spPr>
          <a:xfrm>
            <a:off x="609480" y="457200"/>
            <a:ext cx="3505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OMANS 1:17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28600" y="1371600"/>
            <a:ext cx="8686800" cy="333396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e righteous shall by his faith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uther believed that only faith (in the ultimate goodness of Jesus), not good deeds, could save a person.  No good works, rituals, etc. would save a person if they did not beli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2"/>
          <p:cNvSpPr txBox="1"/>
          <p:nvPr/>
        </p:nvSpPr>
        <p:spPr>
          <a:xfrm>
            <a:off x="914400" y="304920"/>
            <a:ext cx="72388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uther's 95 Theses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609480" y="19051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0" y="160020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list of things he thought were wrong with the Catholic Church (95 Complai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e criticiz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Power of the P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Extreme Wealth of the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dulgences (Catholic concept of Salv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9T08:50:44Z</dcterms:created>
  <dc:creator>Preferred Customer</dc:creator>
  <dc:description/>
  <dc:language>en-US</dc:language>
  <cp:lastModifiedBy>Debes John</cp:lastModifiedBy>
  <cp:lastPrinted>2015-01-21T10:52:11Z</cp:lastPrinted>
  <dcterms:modified xsi:type="dcterms:W3CDTF">2015-01-21T10:52:29Z</dcterms:modified>
  <cp:revision>72</cp:revision>
  <dc:subject/>
  <dc:title>PowerPoint Presentation</dc:title>
</cp:coreProperties>
</file>