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5.jpeg" ContentType="image/jpeg"/>
  <Override PartName="/ppt/media/image14.png" ContentType="image/png"/>
  <Override PartName="/ppt/media/image10.jpeg" ContentType="image/jpeg"/>
  <Override PartName="/ppt/media/image3.png" ContentType="image/png"/>
  <Override PartName="/ppt/media/image26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carbrake.wav" ContentType="audio/x-wav"/>
  <Override PartName="/ppt/media/image8.png" ContentType="image/png"/>
  <Override PartName="/ppt/media/image16.wmf" ContentType="image/x-wmf"/>
  <Override PartName="/ppt/media/image25.png" ContentType="image/png"/>
  <Override PartName="/ppt/media/image4.jpeg" ContentType="image/jpeg"/>
  <Override PartName="/ppt/media/image2.png" ContentType="image/png"/>
  <Override PartName="/ppt/media/projctor.wav" ContentType="audio/x-wav"/>
  <Override PartName="/ppt/media/image27.png" ContentType="image/png"/>
  <Override PartName="/ppt/media/laser.wav" ContentType="audio/x-wav"/>
  <Override PartName="/ppt/media/image12.wmf" ContentType="image/x-wmf"/>
  <Override PartName="/ppt/media/image28.png" ContentType="image/png"/>
  <Override PartName="/ppt/media/image5.png" ContentType="image/png"/>
  <Override PartName="/ppt/media/image29.png" ContentType="image/png"/>
  <Override PartName="/ppt/media/image1.gif" ContentType="image/gif"/>
  <Override PartName="/ppt/media/image24.png" ContentType="image/png"/>
  <Override PartName="/ppt/media/type.wav" ContentType="audio/x-wav"/>
  <Override PartName="/ppt/media/image17.png" ContentType="image/png"/>
  <Override PartName="/ppt/media/camera.wav" ContentType="audio/x-wav"/>
  <Override PartName="/ppt/media/explode.wav" ContentType="audio/x-wav"/>
  <Override PartName="/ppt/media/image22.wmf" ContentType="image/x-wmf"/>
  <Override PartName="/ppt/media/whoosh.wav" ContentType="audio/x-wav"/>
  <Override PartName="/ppt/media/image23.wmf" ContentType="image/x-wmf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109-DCC6-42A3-BB96-7696693C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278-F080-4252-AC4B-43EEF8D3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09E-F8D1-438E-B260-E6081584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74F-2B5E-4E09-8769-76430F00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606B6-CC7C-40A1-A559-B5A1D032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52167-6BA0-41DE-B3FA-86DC4DC9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2BBA7-5FF7-4402-A952-2E28A120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A6C95-D591-439F-8C09-CFE4F0D6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CC123-1CC1-45F5-909A-DC9C8C9D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A19DA-6C2F-4EC8-B56A-3AA56970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BA7C9-C80B-435D-993B-51BFCA0C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D45-81E0-486A-B96E-CD5B3472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99D4C-8D6F-4FBC-AF42-31288725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48573-18E2-48D3-8751-8EA79717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5B90E-411D-4D16-8564-51E37C3B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6815D-5D3F-4457-A450-C13B8305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B209A-A3AD-4E78-AC7B-702F7E0A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8F52-B826-462C-B7E6-7611B241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A2AD2-79F8-4537-8AC9-CB095A2B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4D8AA-C5B2-4DDC-B750-61CCBF19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BB85-049B-4E2E-824A-1BC220B1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06D4-D430-4234-8F87-1D1DB0A5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787-F4B4-40E3-8FF6-E772199E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64846-7305-45BF-9F6F-4F2B759B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EFF02-8F1A-45F1-B619-D6DCE562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BDD6-ED26-4F6B-B19F-447DA89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3F1F-A8A4-44E6-8EB2-BE215A4B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CB21F-8AB8-42CB-8865-2A8E761A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B4DA-98CC-4DD9-A6F0-BE43BE64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7A60-4BD5-44D9-B471-97B70F70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CBFAD-D73D-4E1B-9EBA-B591D354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99BE-4CEF-44CA-96E9-6864DBDF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298E-8064-414B-BF27-6FB95420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5D8-E482-4B37-9394-4A44B1DA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9F340-5639-414A-B98D-0F7F4CE2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88AF5-8F5F-4576-98B3-13ED8921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F0DB3-F685-4DAD-AE27-FFF1FF71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EDD22-2106-4DB5-B93B-9819C362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40A7C-F9A5-476F-A0E2-F5389CDE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90D1-0C62-4B05-AF30-B6FF8B23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C225-CBB4-409B-89E8-757C92AC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A0F0-CDDC-4261-8672-648E4C14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D4C7-6021-4468-BDB3-76B8F52C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D7A-B7EA-47A9-84B4-56BCC911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E4D-5FAC-4553-BA52-39CE7C97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285-54A6-4159-B245-084CDD1F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D47-7BB7-473C-93A6-9BF2ED6C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317-3004-4C86-92B8-5F11A44C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F423-F35F-4961-81E8-DB09AB628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AD9C-C05E-4102-BE1C-C5C595E6023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7CE8-6962-4C89-9ACD-685D44BC5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5055-4DC2-43DC-B833-4897C94CBF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audio" Target="../media/whoosh.wav"/><Relationship Id="rId6" Type="http://schemas.openxmlformats.org/officeDocument/2006/relationships/audio" Target="../media/projcto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audio" Target="../media/whoosh.wav"/><Relationship Id="rId12" Type="http://schemas.openxmlformats.org/officeDocument/2006/relationships/audio" Target="../media/laser.wav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laser.wav"/><Relationship Id="rId17" Type="http://schemas.openxmlformats.org/officeDocument/2006/relationships/audio" Target="../media/whoosh.wav"/><Relationship Id="rId18" Type="http://schemas.openxmlformats.org/officeDocument/2006/relationships/audio" Target="../media/laser.wav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whoosh.wav"/><Relationship Id="rId22" Type="http://schemas.openxmlformats.org/officeDocument/2006/relationships/audio" Target="../media/laser.wav"/><Relationship Id="rId23" Type="http://schemas.openxmlformats.org/officeDocument/2006/relationships/audio" Target="../media/whoosh.wav"/><Relationship Id="rId24" Type="http://schemas.openxmlformats.org/officeDocument/2006/relationships/audio" Target="../media/laser.wav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whoosh.wav"/><Relationship Id="rId2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explode.wav"/><Relationship Id="rId5" Type="http://schemas.openxmlformats.org/officeDocument/2006/relationships/audio" Target="../media/projctor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3"/>
          <p:cNvSpPr txBox="1"/>
          <p:nvPr/>
        </p:nvSpPr>
        <p:spPr>
          <a:xfrm>
            <a:off x="609480" y="533520"/>
            <a:ext cx="8534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Protestant Reformatio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1" name="Picture 6" descr="j0173976"/>
          <p:cNvPicPr/>
          <p:nvPr/>
        </p:nvPicPr>
        <p:blipFill>
          <a:blip r:embed="rId1"/>
          <a:stretch/>
        </p:blipFill>
        <p:spPr>
          <a:xfrm>
            <a:off x="3314880" y="3657600"/>
            <a:ext cx="248904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71800" y="304920"/>
            <a:ext cx="5791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ther's 95 These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5" name="Picture 3" descr="w_gutenbrg1"/>
          <p:cNvPicPr/>
          <p:nvPr/>
        </p:nvPicPr>
        <p:blipFill>
          <a:blip r:embed="rId3"/>
          <a:stretch/>
        </p:blipFill>
        <p:spPr>
          <a:xfrm>
            <a:off x="0" y="0"/>
            <a:ext cx="2743200" cy="22766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256" name="Text Box 4"/>
          <p:cNvSpPr/>
          <p:nvPr/>
        </p:nvSpPr>
        <p:spPr>
          <a:xfrm>
            <a:off x="0" y="242244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utenberg’s Printing Press made it easier for Luther to spread his beli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sted his 95 Theses on Church doors in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ained support from people and criticism from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2666880" y="5335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ther on Trial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Diet of W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520 Pope Leo X sends a written order telling Luther to give up his beli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uther burned the order and was ex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uther went into hiding where he translated the New Testament into German – spreading his beliefs even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j0212511"/>
          <p:cNvPicPr/>
          <p:nvPr/>
        </p:nvPicPr>
        <p:blipFill>
          <a:blip r:embed="rId1"/>
          <a:stretch/>
        </p:blipFill>
        <p:spPr>
          <a:xfrm>
            <a:off x="6629400" y="0"/>
            <a:ext cx="1889280" cy="1905120"/>
          </a:xfrm>
          <a:prstGeom prst="rect">
            <a:avLst/>
          </a:prstGeom>
          <a:ln w="0">
            <a:noFill/>
          </a:ln>
        </p:spPr>
      </p:pic>
      <p:sp>
        <p:nvSpPr>
          <p:cNvPr id="260" name="WordArt 3"/>
          <p:cNvSpPr txBox="1"/>
          <p:nvPr/>
        </p:nvSpPr>
        <p:spPr>
          <a:xfrm>
            <a:off x="685800" y="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ceptance of Reform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0" y="1752480"/>
            <a:ext cx="914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ome Local German Churches accepted Luther’s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utheranism wa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upported by German Princes who issued a formal “protest” against the Church for suppressing the re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reformers came to be known as [PROTEST]an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rotes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3200400" y="533520"/>
            <a:ext cx="4952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ohn Calvi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3" descr="rf_calvin"/>
          <p:cNvPicPr/>
          <p:nvPr/>
        </p:nvPicPr>
        <p:blipFill>
          <a:blip r:embed="rId3"/>
          <a:stretch/>
        </p:blipFill>
        <p:spPr>
          <a:xfrm>
            <a:off x="762120" y="457200"/>
            <a:ext cx="1692000" cy="20224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304920" y="2590920"/>
            <a:ext cx="8534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ti-Cathol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fluenced by 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agreed with Luther’s “Salvation through faith alo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reated his own Protestant religion in Switzer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5" descr="SY00029_"/>
          <p:cNvPicPr/>
          <p:nvPr/>
        </p:nvPicPr>
        <p:blipFill>
          <a:blip r:embed="rId4"/>
          <a:stretch/>
        </p:blipFill>
        <p:spPr>
          <a:xfrm>
            <a:off x="6858000" y="1828800"/>
            <a:ext cx="192708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380880" y="22860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edestinatio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0" y="213372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lvin believ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lvation through Pre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t birth it is decided if you will go to heaven or 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j0139019"/>
          <p:cNvPicPr/>
          <p:nvPr/>
        </p:nvPicPr>
        <p:blipFill>
          <a:blip r:embed="rId3"/>
          <a:stretch/>
        </p:blipFill>
        <p:spPr>
          <a:xfrm>
            <a:off x="4952880" y="4191120"/>
            <a:ext cx="2602080" cy="2398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j0114608"/>
          <p:cNvPicPr/>
          <p:nvPr/>
        </p:nvPicPr>
        <p:blipFill>
          <a:blip r:embed="rId4"/>
          <a:stretch/>
        </p:blipFill>
        <p:spPr>
          <a:xfrm>
            <a:off x="6324480" y="0"/>
            <a:ext cx="247824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0" y="1905120"/>
            <a:ext cx="8839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e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d knows everything that will happen in your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rified approach to lif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 drinking, swearing, card playing, gambling etc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WordArt 3"/>
          <p:cNvSpPr txBox="1"/>
          <p:nvPr/>
        </p:nvSpPr>
        <p:spPr>
          <a:xfrm>
            <a:off x="457200" y="228600"/>
            <a:ext cx="6095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lvin believed in: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228600" y="22860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LVINISM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3" name="Picture 3" descr="so02823_"/>
          <p:cNvPicPr/>
          <p:nvPr/>
        </p:nvPicPr>
        <p:blipFill>
          <a:blip r:embed="rId3"/>
          <a:stretch/>
        </p:blipFill>
        <p:spPr>
          <a:xfrm>
            <a:off x="6248520" y="2590920"/>
            <a:ext cx="2522520" cy="4038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j0161786"/>
          <p:cNvPicPr/>
          <p:nvPr/>
        </p:nvPicPr>
        <p:blipFill>
          <a:blip r:embed="rId4"/>
          <a:stretch/>
        </p:blipFill>
        <p:spPr>
          <a:xfrm>
            <a:off x="5504040" y="0"/>
            <a:ext cx="3639960" cy="22874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304920" y="1676520"/>
            <a:ext cx="8001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rted in Switzerland – Calvin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gland = Purit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cotland = Presbyter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lland = Dutch Re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ance = Huguen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rmany = Reform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19051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457200" y="228600"/>
            <a:ext cx="6095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enry VIII</a:t>
            </a:r>
            <a:endParaRPr b="0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38862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441360" y="1717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0" y="18702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was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on of the King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 his older brother was expec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gain the throne, Henry was educ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he goal of becoming a member of the chu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’s older brother died before their father,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was married to his brother’s widow at the age of 17.  The marriage was arranged to retain an alliance between England and Sp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19051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3"/>
          <p:cNvSpPr txBox="1"/>
          <p:nvPr/>
        </p:nvSpPr>
        <p:spPr>
          <a:xfrm>
            <a:off x="457200" y="228600"/>
            <a:ext cx="6095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enry VIII</a:t>
            </a:r>
            <a:endParaRPr b="0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6629400" y="0"/>
            <a:ext cx="2328840" cy="36576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"/>
          <p:cNvSpPr/>
          <p:nvPr/>
        </p:nvSpPr>
        <p:spPr>
          <a:xfrm>
            <a:off x="441360" y="1717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0" y="1870200"/>
            <a:ext cx="91440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was a practicing Catho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given the title “Defender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aith” by the Pope for his work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ending the Catholic church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tin Luther’ critic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wrote a book that denounced the teachings of Martin Luther and other refor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2"/>
          <p:cNvSpPr txBox="1"/>
          <p:nvPr/>
        </p:nvSpPr>
        <p:spPr>
          <a:xfrm>
            <a:off x="1295280" y="228600"/>
            <a:ext cx="6096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therine of Aragon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0" y="1523880"/>
            <a:ext cx="9144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herine of Aragon was Henry’s 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herine failed to produce a male heir, only having one child who survived infancy– Mary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nry wanted to marry another woman, Anne Boleyn (who he thought would be able to give him a male he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asked the pope to annul his marriage (An annulment would have let him re-marry; the Catholic church did not allow divor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3"/>
          <p:cNvSpPr txBox="1"/>
          <p:nvPr/>
        </p:nvSpPr>
        <p:spPr>
          <a:xfrm>
            <a:off x="304920" y="304920"/>
            <a:ext cx="8610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4040"/>
                </a:solidFill>
                <a:latin typeface="Times New Roman"/>
              </a:rPr>
              <a:t>Causes of the Re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04040"/>
              </a:solidFill>
              <a:latin typeface="Times New Roman"/>
              <a:ea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2673360"/>
            <a:ext cx="9144000" cy="3601800"/>
          </a:xfrm>
          <a:prstGeom prst="rect">
            <a:avLst/>
          </a:prstGeom>
          <a:solidFill>
            <a:srgbClr val="ffffff">
              <a:alpha val="5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Crusades and 100 Years W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Black De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Scientific Advances which contradicted the Chu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"/>
              </a:rPr>
              <a:t>The Corruption within the Catholic Chu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0" y="1403280"/>
            <a:ext cx="91440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e Clement VII wouldn’t annul the marriage (Catherine was the aunt of Holy Roman Emperor, Charles V &amp; the Pope didn’t want to anger Char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nry, trying to get Church to do what he wanted, appointed Sir Thomas More as English Cardinal in the hopes that he could convince the Pope to change his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, however, wouldn’t support Henry’s attempt to annul his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WordArt 5"/>
          <p:cNvSpPr txBox="1"/>
          <p:nvPr/>
        </p:nvSpPr>
        <p:spPr>
          <a:xfrm>
            <a:off x="1295280" y="228600"/>
            <a:ext cx="6096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flict with the Church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0" y="1854360"/>
            <a:ext cx="9144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nry proceeded to dissolve England’s ties to the Catholic Church, starting in 15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nry VIII took control of the English clergy and had himself appointed the head of the Church of Eng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divorced Catherine and married Anne Boley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WordArt 3"/>
          <p:cNvSpPr txBox="1"/>
          <p:nvPr/>
        </p:nvSpPr>
        <p:spPr>
          <a:xfrm>
            <a:off x="1295280" y="228600"/>
            <a:ext cx="6096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glish Reformation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685800" y="2006640"/>
          <a:ext cx="7696080" cy="4851360"/>
        </p:xfrm>
        <a:graphic>
          <a:graphicData uri="http://schemas.openxmlformats.org/drawingml/2006/table">
            <a:tbl>
              <a:tblPr/>
              <a:tblGrid>
                <a:gridCol w="2819520"/>
                <a:gridCol w="1218960"/>
                <a:gridCol w="3657600"/>
              </a:tblGrid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 of Annan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 all payment to the Catholic Chu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 of Appea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d Rome’s Religious hold on Eng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 of Suprema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Henry VIII the head of the Church of Eng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subject who wouldn’t denounce the Catholic Chu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7772400" y="5562720"/>
          <a:ext cx="838080" cy="5173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WordArt 31"/>
          <p:cNvSpPr txBox="1"/>
          <p:nvPr/>
        </p:nvSpPr>
        <p:spPr>
          <a:xfrm>
            <a:off x="609480" y="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enry VIII Establishes the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hurch of England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7772400" y="5562720"/>
          <a:ext cx="838080" cy="5173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WordArt 30"/>
          <p:cNvSpPr txBox="1"/>
          <p:nvPr/>
        </p:nvSpPr>
        <p:spPr>
          <a:xfrm>
            <a:off x="609480" y="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enry VIII Establishes the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hurch of England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Text Box 31"/>
          <p:cNvSpPr/>
          <p:nvPr/>
        </p:nvSpPr>
        <p:spPr>
          <a:xfrm>
            <a:off x="0" y="1854360"/>
            <a:ext cx="9144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did not do away with “Catholic” practices; in fact he maintained most traditional Catholic practices in the Church of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nry didn’t allow many Protestant reforms during his 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 the reign of subsequent monarchs, however, Protestant practices and styles of worship were incorporated into the Church of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3"/>
          <p:cNvSpPr txBox="1"/>
          <p:nvPr/>
        </p:nvSpPr>
        <p:spPr>
          <a:xfrm>
            <a:off x="1523880" y="457200"/>
            <a:ext cx="5639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hristianity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Line 4"/>
          <p:cNvSpPr/>
          <p:nvPr/>
        </p:nvSpPr>
        <p:spPr>
          <a:xfrm flipH="1">
            <a:off x="2514600" y="1752480"/>
            <a:ext cx="190512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4419720" y="1752480"/>
            <a:ext cx="1752480" cy="1143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WordArt 6"/>
          <p:cNvSpPr txBox="1"/>
          <p:nvPr/>
        </p:nvSpPr>
        <p:spPr>
          <a:xfrm>
            <a:off x="380880" y="3048120"/>
            <a:ext cx="2514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tholic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4800600" y="297180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testant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Line 8"/>
          <p:cNvSpPr/>
          <p:nvPr/>
        </p:nvSpPr>
        <p:spPr>
          <a:xfrm flipH="1">
            <a:off x="4495320" y="4038480"/>
            <a:ext cx="1295640" cy="3812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5866920" y="4038480"/>
            <a:ext cx="685800" cy="53352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10"/>
          <p:cNvSpPr txBox="1"/>
          <p:nvPr/>
        </p:nvSpPr>
        <p:spPr>
          <a:xfrm>
            <a:off x="2819520" y="4343400"/>
            <a:ext cx="165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thera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1"/>
          <p:cNvSpPr txBox="1"/>
          <p:nvPr/>
        </p:nvSpPr>
        <p:spPr>
          <a:xfrm>
            <a:off x="4876920" y="4648320"/>
            <a:ext cx="1866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lvinism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Line 12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571500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6553080" y="5257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4572000" y="5486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uri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4800600" y="5943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ugeun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181480" y="649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esbyter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7315200" y="4038480"/>
            <a:ext cx="533520" cy="1295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WordArt 19"/>
          <p:cNvSpPr txBox="1"/>
          <p:nvPr/>
        </p:nvSpPr>
        <p:spPr>
          <a:xfrm>
            <a:off x="7010280" y="5410080"/>
            <a:ext cx="1866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glica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62626"/>
                </a:solidFill>
                <a:latin typeface="Arial"/>
              </a:rPr>
              <a:t>Results of the Reformation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Provided religious choices to Europeans who had previously had n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Caused the “Catholic Reformation,” an attempt by the Catholic church to stop the spread of Protestantism-this “counter-reformation” helped return the Catholic church to a more spiritual 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Inquisition-the Catholic church began to search out and persecute “heretic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62626"/>
                </a:solidFill>
                <a:latin typeface="Arial"/>
              </a:rPr>
              <a:t>Results of the Reformation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A set of religious wars took place in Europe that would shape its’ hi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Education became even more important, as more an more people learned to read in order to study the bible and determine (on their own) what “type” of Christianity was b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Increased the power of the National governments, and decreased the power of the Catholic church and the po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3"/>
          <p:cNvSpPr txBox="1"/>
          <p:nvPr/>
        </p:nvSpPr>
        <p:spPr>
          <a:xfrm>
            <a:off x="380880" y="304920"/>
            <a:ext cx="82296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4040"/>
                </a:solidFill>
                <a:latin typeface="Arial Black"/>
              </a:rPr>
              <a:t>What was the Protestant Reformatio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04040"/>
              </a:solidFill>
              <a:latin typeface="Arial Black"/>
              <a:ea typeface="Arial Black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0" y="1747800"/>
            <a:ext cx="9144000" cy="4014360"/>
          </a:xfrm>
          <a:prstGeom prst="rect">
            <a:avLst/>
          </a:prstGeom>
          <a:solidFill>
            <a:srgbClr val="ffffff">
              <a:alpha val="5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or to the Reformation all (European) Christians were Roman Catho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eformation was an attempt to reform the Catholic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ople like Martin Luther wanted to get rid of the corruption and restore the people’s faith in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>
            <a:off x="380880" y="304920"/>
            <a:ext cx="82296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4040"/>
                </a:solidFill>
                <a:latin typeface="Arial Black"/>
              </a:rPr>
              <a:t>What was the Protestant Reformatio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04040"/>
              </a:solidFill>
              <a:latin typeface="Arial Black"/>
              <a:ea typeface="Arial Black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0" y="2209680"/>
            <a:ext cx="9144000" cy="2785320"/>
          </a:xfrm>
          <a:prstGeom prst="rect">
            <a:avLst/>
          </a:prstGeom>
          <a:solidFill>
            <a:srgbClr val="ffffff">
              <a:alpha val="5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the end the reformers, like Luther, established their ow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eformation caused a split within Christian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th the formation of these new Protestant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219320" y="228600"/>
            <a:ext cx="6629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Reformer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3880" y="2438280"/>
            <a:ext cx="7391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Martin Lu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John Calv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Henry VII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286000" y="30492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rtin Luthe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1" name="Picture 3" descr="rf_luther1"/>
          <p:cNvPicPr/>
          <p:nvPr/>
        </p:nvPicPr>
        <p:blipFill>
          <a:blip r:embed="rId3"/>
          <a:stretch/>
        </p:blipFill>
        <p:spPr>
          <a:xfrm>
            <a:off x="0" y="0"/>
            <a:ext cx="2163600" cy="26668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242" name="Text Box 4"/>
          <p:cNvSpPr/>
          <p:nvPr/>
        </p:nvSpPr>
        <p:spPr>
          <a:xfrm>
            <a:off x="0" y="2743200"/>
            <a:ext cx="81532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ived from 1483-1546 in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His father encouraged him to study la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 sudden religious experience inspired him to become a mo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5" descr="luthers seal"/>
          <p:cNvPicPr/>
          <p:nvPr/>
        </p:nvPicPr>
        <p:blipFill>
          <a:blip r:embed="rId4"/>
          <a:stretch/>
        </p:blipFill>
        <p:spPr>
          <a:xfrm>
            <a:off x="7545240" y="5029200"/>
            <a:ext cx="159876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2286000" y="30492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rtin Luthe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2755800"/>
            <a:ext cx="7924680" cy="352692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 became troubled over the possibility of not going to heav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 turned to the Bible, and confession for 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the Bible he found the answer he was looking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4" descr="luthers seal"/>
          <p:cNvPicPr/>
          <p:nvPr/>
        </p:nvPicPr>
        <p:blipFill>
          <a:blip r:embed="rId3"/>
          <a:stretch/>
        </p:blipFill>
        <p:spPr>
          <a:xfrm>
            <a:off x="7545240" y="5029200"/>
            <a:ext cx="159876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rf_luther1"/>
          <p:cNvPicPr/>
          <p:nvPr/>
        </p:nvPicPr>
        <p:blipFill>
          <a:blip r:embed="rId4"/>
          <a:stretch/>
        </p:blipFill>
        <p:spPr>
          <a:xfrm>
            <a:off x="0" y="0"/>
            <a:ext cx="2163600" cy="26668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j0194124"/>
          <p:cNvPicPr/>
          <p:nvPr/>
        </p:nvPicPr>
        <p:blipFill>
          <a:blip r:embed="rId1"/>
          <a:stretch/>
        </p:blipFill>
        <p:spPr>
          <a:xfrm>
            <a:off x="5715000" y="3759120"/>
            <a:ext cx="3429000" cy="3098880"/>
          </a:xfrm>
          <a:prstGeom prst="rect">
            <a:avLst/>
          </a:prstGeom>
          <a:ln w="0">
            <a:noFill/>
          </a:ln>
        </p:spPr>
      </p:pic>
      <p:sp>
        <p:nvSpPr>
          <p:cNvPr id="249" name="WordArt 3"/>
          <p:cNvSpPr txBox="1"/>
          <p:nvPr/>
        </p:nvSpPr>
        <p:spPr>
          <a:xfrm>
            <a:off x="609480" y="457200"/>
            <a:ext cx="3505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MANS 1:17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28600" y="1371600"/>
            <a:ext cx="8686800" cy="333396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ighteous shall by his faith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uther believed that only faith (in the ultimate goodness of Jesus), not good deeds, could save a person.  No good works, rituals, etc. would save a person if they did not beli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914400" y="304920"/>
            <a:ext cx="7238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ther's 95 These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609480" y="1905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0" y="16002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list of things he thought were wrong with the Catholic Church (95 Compla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 criticiz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Power of the P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Extreme Wealth of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ulgences (Catholic concept of Salv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8:50:44Z</dcterms:created>
  <dc:creator>Preferred Customer</dc:creator>
  <dc:description/>
  <dc:language>en-US</dc:language>
  <cp:lastModifiedBy>Debes John</cp:lastModifiedBy>
  <cp:lastPrinted>2015-01-21T10:52:11Z</cp:lastPrinted>
  <dcterms:modified xsi:type="dcterms:W3CDTF">2015-01-21T10:52:29Z</dcterms:modified>
  <cp:revision>72</cp:revision>
  <dc:subject/>
  <dc:title>PowerPoint Presentation</dc:title>
</cp:coreProperties>
</file>