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C985-5BA6-47EC-A5DD-5706A336A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9205-DCC1-4AC6-8154-67E9E8749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C808-CF04-4BA9-BD1A-7CF13309E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737C-83FB-46A7-BC05-465561A16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40DFE-8B2D-4622-9931-03BFA4723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5A629-46C9-49A6-9162-21FD1891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6E2E0-D227-439E-83D1-7061E7F7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FC87-6F9D-4B4F-997D-221A6335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298B-E0AE-44DE-89BB-3251F5925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552C3-091B-4846-891D-262A6A31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1C7E-7E3B-48E1-BC6E-F1C5CD5F2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CF10-18B5-4D27-AB3E-CDF9D2990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2B2C-2423-48AB-887A-350F414E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4DD3-3F5A-40B3-995A-165B326DD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28C0F-3E16-4C81-9A0F-665BA191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17AC8-1165-4C90-BDC7-0C01143E6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FE9E422C-05F1-4531-B169-2304EBF4B1DC}"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80"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23DB6CB5-1A59-45DA-A6D7-1D44D0C5102F}"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1"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3"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98BD-E21D-42DF-8651-475CC284CE6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79B9-6CD1-4FEE-B0DF-0BD6EE5675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7"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6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63"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65"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67"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68"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70"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72"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74"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76"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77"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13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7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81"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8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8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87"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89"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9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3"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5"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96"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97" name="Picture 1029" descr="c14_s04_p419_ford_rev"/>
          <p:cNvPicPr/>
          <p:nvPr/>
        </p:nvPicPr>
        <p:blipFill>
          <a:blip r:embed="rId1"/>
          <a:stretch/>
        </p:blipFill>
        <p:spPr>
          <a:xfrm>
            <a:off x="5384880" y="2481120"/>
            <a:ext cx="3759120" cy="3187800"/>
          </a:xfrm>
          <a:prstGeom prst="rect">
            <a:avLst/>
          </a:prstGeom>
          <a:ln w="0">
            <a:noFill/>
          </a:ln>
        </p:spPr>
      </p:pic>
      <p:sp>
        <p:nvSpPr>
          <p:cNvPr id="198"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200"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136"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137" name="Picture 8" descr="c14_s02_p405"/>
          <p:cNvPicPr/>
          <p:nvPr/>
        </p:nvPicPr>
        <p:blipFill>
          <a:blip r:embed="rId1"/>
          <a:stretch/>
        </p:blipFill>
        <p:spPr>
          <a:xfrm>
            <a:off x="6248520" y="1030320"/>
            <a:ext cx="2895480" cy="46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c14_s04_p419_chart"/>
          <p:cNvPicPr/>
          <p:nvPr/>
        </p:nvPicPr>
        <p:blipFill>
          <a:blip r:embed="rId1"/>
          <a:stretch/>
        </p:blipFill>
        <p:spPr>
          <a:xfrm>
            <a:off x="304920" y="109440"/>
            <a:ext cx="8610480" cy="6696000"/>
          </a:xfrm>
          <a:prstGeom prst="rect">
            <a:avLst/>
          </a:prstGeom>
          <a:ln w="0">
            <a:noFill/>
          </a:ln>
        </p:spPr>
      </p:pic>
      <p:sp>
        <p:nvSpPr>
          <p:cNvPr id="202"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203"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20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207"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208"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210" name="PlaceHolder 2"/>
          <p:cNvSpPr>
            <a:spLocks noGrp="1"/>
          </p:cNvSpPr>
          <p:nvPr>
            <p:ph/>
          </p:nvPr>
        </p:nvSpPr>
        <p:spPr>
          <a:xfrm>
            <a:off x="0" y="990720"/>
            <a:ext cx="9144000" cy="49068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the President can either accept all of a bill or reject all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ine-item veto power would give the President the ability to sign a bill into law, while rejecting certain parts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ers argue that this would cut down on wasteful federal spending.</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nents argue that the line-item veto would shift too much power from the legislative branch to the executive branch.</a:t>
            </a:r>
            <a:endParaRPr b="0" lang="en-US" sz="26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212" name="PlaceHolder 2"/>
          <p:cNvSpPr>
            <a:spLocks noGrp="1"/>
          </p:cNvSpPr>
          <p:nvPr>
            <p:ph/>
          </p:nvPr>
        </p:nvSpPr>
        <p:spPr>
          <a:xfrm>
            <a:off x="0" y="114300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said a constitutional amendment would be necessary to give the President such power.</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4" name="PlaceHolder 2"/>
          <p:cNvSpPr>
            <a:spLocks noGrp="1"/>
          </p:cNvSpPr>
          <p:nvPr>
            <p:ph/>
          </p:nvPr>
        </p:nvSpPr>
        <p:spPr>
          <a:xfrm>
            <a:off x="15840" y="990720"/>
            <a:ext cx="9144000" cy="4906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reprieves, commutations, or amnesty in federal cases.</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can pardon people, that is forgive them for their crimes. even before they have even been tried or convicted, though this is rare.</a:t>
            </a: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Gerald Ford famously pardoned former President Nixon in 1974 before Nixon had </a:t>
            </a:r>
            <a:br>
              <a:rPr sz="2400"/>
            </a:br>
            <a:r>
              <a:rPr b="0" lang="en-US" sz="2400" spc="-1" strike="noStrike">
                <a:solidFill>
                  <a:srgbClr val="000000"/>
                </a:solidFill>
                <a:latin typeface="Arial"/>
              </a:rPr>
              <a:t>been tried. </a:t>
            </a:r>
            <a:endParaRPr b="0" lang="en-US" sz="24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erson must accept a pardon for it to go </a:t>
            </a:r>
            <a:br>
              <a:rPr sz="2600"/>
            </a:br>
            <a:r>
              <a:rPr b="0" lang="en-US" sz="2600" spc="-1" strike="noStrike">
                <a:solidFill>
                  <a:srgbClr val="000000"/>
                </a:solidFill>
                <a:latin typeface="Arial"/>
              </a:rPr>
              <a:t>into effect. </a:t>
            </a:r>
            <a:endParaRPr b="0" lang="en-US" sz="2600" spc="-1" strike="noStrike">
              <a:solidFill>
                <a:srgbClr val="000000"/>
              </a:solidFill>
              <a:latin typeface="Arial"/>
            </a:endParaRPr>
          </a:p>
          <a:p>
            <a:pPr lvl="2" marL="1062720" indent="-2124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preme Court upheld this rule in 1915.</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6" name="PlaceHolder 2"/>
          <p:cNvSpPr>
            <a:spLocks noGrp="1"/>
          </p:cNvSpPr>
          <p:nvPr>
            <p:ph/>
          </p:nvPr>
        </p:nvSpPr>
        <p:spPr>
          <a:xfrm>
            <a:off x="15840" y="990720"/>
            <a:ext cx="9144000" cy="4906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 reprieves, he is cancelling the enforcement of an individual’s sentenc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resident commutes a sentence, he changes a mandated punishment to a less severe punishmen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mnesty to a person or group, he is essentially saying he/they did nothing wrong.</a:t>
            </a:r>
            <a:endParaRPr b="0" lang="en-US" sz="2800" spc="-1" strike="noStrike">
              <a:solidFill>
                <a:srgbClr val="000000"/>
              </a:solidFill>
              <a:latin typeface="Arial"/>
            </a:endParaRPr>
          </a:p>
          <a:p>
            <a:pPr lvl="1" marL="698400" indent="-2685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slightly different than a pardon, because when a pardon is granted, the action that is being pardoned is acknowledged as wrong, but is being forgive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4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45"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4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51"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55"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9T10:48:31Z</cp:lastPrinted>
  <dcterms:modified xsi:type="dcterms:W3CDTF">2016-02-09T18:24:32Z</dcterms:modified>
  <cp:revision>96</cp:revision>
  <dc:subject/>
  <dc:title>Slide 1</dc:title>
</cp:coreProperties>
</file>