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BE30E-6D07-412C-879D-99962F5B6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4C40-096C-4A47-BDB8-E16B656A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914C-F1C0-4919-B8B7-4EBCD0F16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28133-E7EC-4FC1-9F12-C8CDC5828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1734F-DB7A-4AF7-9862-8B260A19E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AA462-E24D-4182-9A5B-D748251A0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54935-A7B7-449F-92A3-3F4FABB67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A06A6-AFB6-4CBE-98D3-95AED6FE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3CCF-5282-472E-885C-5616E1FD7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97C28-0B10-4B5D-8092-29AB48068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53427-BE90-4A08-A32F-56FC1721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2B43-326E-4BD6-90D1-84A63C20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9C987-A1EC-478C-B576-DA47AF8E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84194-097A-4112-AF43-90546903F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414D3-9E4A-4854-948B-2AD3F6931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FA9C3-B570-46D3-B2B5-748C54C90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B1FE6-BC91-4A74-891D-19EC316EC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6F2BC-8456-4DCA-B0B7-D7B94A482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61EC2-5FCB-4F53-B38E-ABD6C3E79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93C5D-0F53-4C28-8692-47198741F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1F394-F84A-4584-86AE-87228552D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E3F35-4E98-49E4-9167-FF1D0A929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A7AB-61B1-4F76-BB1A-4DF72F3B8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33F29-08C7-409C-8F5F-F6D0DBC84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1E1DB-960A-43BE-B912-1130792D3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E8AF0-AEDC-44F6-B4AA-D83FB6D95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AE963-0394-41C2-87C5-86EEF6155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DB08C-9627-436B-A52D-50216623A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9EC9D8-29D6-4CE7-A5A3-1DCD55A2F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89E36-4A58-4083-A9B9-8786796D29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54008F-B662-4FC5-B1CB-B1C00FE2F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47B52-E4EA-4208-866B-3B7BCF84C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36C5B-22E7-463F-AF06-1F9E4BA48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5A68-0125-487F-A42F-CC75AD90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1CFA7-C01E-44F9-A977-064E32132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D1F9C-4AB4-4310-B690-6FF1D59A1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1DEB5-5103-49D9-9523-3D734DF4D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36755-6359-4730-8930-4C85F9724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53FCF-52CB-4D66-A6CC-4309D752E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C0438-F6EE-4879-AF66-6CC7B9A8A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1E2A8-3B6F-44FC-BBE0-C4EE5A2F3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511071-E9D1-462E-8988-254E7D5133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642574-4D4C-49ED-9331-5AE40C2C36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89282-5964-4E74-AB89-1B3F113C8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B497A-5614-4E78-ACAB-82468A0C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9E819-B72F-475D-B54E-67F0FEFFC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E472F-608D-4260-B040-66A52902D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3C262-9AFC-4FFA-AF9C-619C0024B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F7604-B400-4101-BDE3-08EA4CFFE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C5D69-9F48-4E2A-AB97-BE857F102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3F60A-6E87-4862-8354-25D99EE72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EB8F5-48D8-46A1-9E38-8EAF969C1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7C217-803A-4DE9-80A9-EE5BA7F61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618ED-86F9-4236-800F-4EA18B2DF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20B97-AAA2-46C6-8591-2A8E9FDE91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D2BC-E060-4908-AE45-F58B3D44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09C33B-16A3-44C8-9655-8BCFA9DF2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2244-F764-4BF2-83F4-B0259D6D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2CFB-2760-49A2-91D3-AD98CF3E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BDD3-420B-4C39-A2C6-578E46955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EAE4-D165-434E-8A94-081AF06BD6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9EB6-A620-4425-A683-CD5BB0DC1F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511A-4548-4004-B545-6532FE6721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2E84-1932-4978-B8CC-DB80CECBB32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FBEA-F788-4632-B8C8-510EDAC7B9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733560"/>
            <a:ext cx="8610480" cy="19047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Franklin Gothic Book"/>
              </a:rPr>
              <a:t>Six Goals of the Preamble</a:t>
            </a:r>
            <a:endParaRPr b="0" lang="en-US" sz="6000" spc="-1" strike="noStrike">
              <a:solidFill>
                <a:srgbClr val="696464"/>
              </a:solidFill>
              <a:latin typeface="Franklin Gothic Book"/>
            </a:endParaRPr>
          </a:p>
        </p:txBody>
      </p:sp>
      <p:pic>
        <p:nvPicPr>
          <p:cNvPr id="229" name="Picture 4" descr="C:\CD Data US His\Constitution\Data\Clip Art\flag1.jpg"/>
          <p:cNvPicPr/>
          <p:nvPr/>
        </p:nvPicPr>
        <p:blipFill>
          <a:blip r:embed="rId1"/>
          <a:stretch/>
        </p:blipFill>
        <p:spPr>
          <a:xfrm>
            <a:off x="2362320" y="228600"/>
            <a:ext cx="4114800" cy="250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7200"/>
            <a:ext cx="8686800" cy="17524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Preamble:</a:t>
            </a:r>
            <a:endParaRPr b="0" lang="en-US" sz="4800" spc="-1" strike="noStrike">
              <a:solidFill>
                <a:srgbClr val="696464"/>
              </a:solidFill>
              <a:latin typeface="Franklin Gothic Book"/>
            </a:endParaRPr>
          </a:p>
        </p:txBody>
      </p:sp>
      <p:sp>
        <p:nvSpPr>
          <p:cNvPr id="231" name=""/>
          <p:cNvSpPr txBox="1"/>
          <p:nvPr/>
        </p:nvSpPr>
        <p:spPr>
          <a:xfrm>
            <a:off x="228600" y="2895480"/>
            <a:ext cx="8686800" cy="3733920"/>
          </a:xfrm>
          <a:prstGeom prst="rect">
            <a:avLst/>
          </a:prstGeom>
          <a:noFill/>
          <a:ln w="0">
            <a:noFill/>
          </a:ln>
        </p:spPr>
        <p:txBody>
          <a:bodyPr anchor="t">
            <a:normAutofit fontScale="89000"/>
          </a:bodyPr>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a:t>
            </a:r>
            <a:r>
              <a:rPr b="1" lang="en-US" sz="3200" spc="-1" strike="noStrike">
                <a:solidFill>
                  <a:srgbClr val="000000"/>
                </a:solidFill>
                <a:latin typeface="Perpetua"/>
              </a:rPr>
              <a:t>We the people of the United States, in order to form a more perfect Union, establish justice, e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495288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Goal- Number One</a:t>
            </a:r>
            <a:endParaRPr b="0" lang="en-US" sz="3600" spc="-1" strike="noStrike">
              <a:solidFill>
                <a:srgbClr val="696464"/>
              </a:solidFill>
              <a:latin typeface="Franklin Gothic Book"/>
            </a:endParaRPr>
          </a:p>
        </p:txBody>
      </p:sp>
      <p:sp>
        <p:nvSpPr>
          <p:cNvPr id="233" name=""/>
          <p:cNvSpPr txBox="1"/>
          <p:nvPr/>
        </p:nvSpPr>
        <p:spPr>
          <a:xfrm>
            <a:off x="0" y="990360"/>
            <a:ext cx="4114800" cy="5257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Form A More Perfect Union</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 Constitution was written the states saw themselves as separate natio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ounders (framers) </a:t>
            </a:r>
            <a:r>
              <a:rPr b="0" lang="en-US" sz="2400" spc="-1" strike="noStrike">
                <a:solidFill>
                  <a:srgbClr val="191919"/>
                </a:solidFill>
                <a:latin typeface="Perpetua"/>
              </a:rPr>
              <a:t>wanted the states to work together.</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Postal Syste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U.S. coins and paper money</a:t>
            </a:r>
            <a:endParaRPr b="0" lang="en-US" sz="2400" spc="-1" strike="noStrike">
              <a:solidFill>
                <a:srgbClr val="000000"/>
              </a:solidFill>
              <a:latin typeface="Perpetua"/>
            </a:endParaRPr>
          </a:p>
          <a:p>
            <a:pPr lvl="1" marL="54756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34" name="Picture 4" descr="C:\Program Files\Common Files\Microsoft Shared\Clipart\cagcat50\bd06990_.wmf"/>
          <p:cNvPicPr/>
          <p:nvPr/>
        </p:nvPicPr>
        <p:blipFill>
          <a:blip r:embed="rId1"/>
          <a:stretch/>
        </p:blipFill>
        <p:spPr>
          <a:xfrm>
            <a:off x="2743200" y="4572000"/>
            <a:ext cx="2438280" cy="2070000"/>
          </a:xfrm>
          <a:prstGeom prst="rect">
            <a:avLst/>
          </a:prstGeom>
          <a:ln w="0">
            <a:noFill/>
          </a:ln>
        </p:spPr>
      </p:pic>
      <p:sp>
        <p:nvSpPr>
          <p:cNvPr id="235" name="Rectangle 4"/>
          <p:cNvSpPr/>
          <p:nvPr/>
        </p:nvSpPr>
        <p:spPr>
          <a:xfrm>
            <a:off x="5334120" y="228600"/>
            <a:ext cx="3581280" cy="88722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The Framers were dissatisfied with the United States under the Articles of Confederation, but they felt that what they had was the best they could have, up to now. They were striving for something better. The Articles of Confederation had been a grand experiment that had worked well up to a point, but now, less than ten years into that experiment, cracks were showing. The new United States, under this new Constitution, would be more perfect. Not </a:t>
            </a:r>
            <a:r>
              <a:rPr b="0" i="1" lang="en-US" sz="2400" spc="-1" strike="noStrike">
                <a:solidFill>
                  <a:srgbClr val="191919"/>
                </a:solidFill>
                <a:latin typeface="Perpetua"/>
              </a:rPr>
              <a:t>perfect</a:t>
            </a:r>
            <a:r>
              <a:rPr b="0" lang="en-US" sz="2400" spc="-1" strike="noStrike">
                <a:solidFill>
                  <a:srgbClr val="191919"/>
                </a:solidFill>
                <a:latin typeface="Perpetua"/>
              </a:rPr>
              <a:t>, but more per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4343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wo</a:t>
            </a:r>
            <a:endParaRPr b="0" lang="en-US" sz="4000" spc="-1" strike="noStrike">
              <a:solidFill>
                <a:srgbClr val="696464"/>
              </a:solidFill>
              <a:latin typeface="Franklin Gothic Book"/>
            </a:endParaRPr>
          </a:p>
        </p:txBody>
      </p:sp>
      <p:sp>
        <p:nvSpPr>
          <p:cNvPr id="237" name=""/>
          <p:cNvSpPr txBox="1"/>
          <p:nvPr/>
        </p:nvSpPr>
        <p:spPr>
          <a:xfrm>
            <a:off x="0" y="1143000"/>
            <a:ext cx="4495680" cy="41148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o Establish Justice</a:t>
            </a:r>
            <a:endParaRPr b="0" lang="en-US" sz="24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nation needed a uniform system to settle legal dispute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Perpetua"/>
              </a:rPr>
              <a:t>Make laws and set up courts that are fair</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Laws</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Court System</a:t>
            </a:r>
            <a:endParaRPr b="0" lang="en-US" sz="30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Perpetua"/>
              </a:rPr>
              <a:t>Jury Trials</a:t>
            </a:r>
            <a:endParaRPr b="0" lang="en-US" sz="3000" spc="-1" strike="noStrike">
              <a:solidFill>
                <a:srgbClr val="000000"/>
              </a:solidFill>
              <a:latin typeface="Perpetua"/>
            </a:endParaRPr>
          </a:p>
          <a:p>
            <a:pPr lvl="1" marL="531000" indent="-221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
        <p:nvSpPr>
          <p:cNvPr id="238" name="Rectangle 4"/>
          <p:cNvSpPr/>
          <p:nvPr/>
        </p:nvSpPr>
        <p:spPr>
          <a:xfrm>
            <a:off x="4572000" y="533520"/>
            <a:ext cx="4267080" cy="74674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justice, unfairness of laws and in trade, was of great concern to the people of 1787. People looked forward to a nation with a level playing field, where courts were established with uniformity and where trade within and outside the borders of the country would be fair and unmolested. Today, we enjoy a system of justice that is one of the fairest in the world. It has not always been so — only through great struggle can we now say that every citizen has the opportunity for a fair trial and for equal treatment, and even today there still exists discrimination. But we still strive for the justice that the Framers wrote about.</a:t>
            </a:r>
            <a:endParaRPr b="0" lang="en-US" sz="2200" spc="-1" strike="noStrike">
              <a:solidFill>
                <a:srgbClr val="000000"/>
              </a:solidFill>
              <a:latin typeface="Times New Roman"/>
            </a:endParaRPr>
          </a:p>
        </p:txBody>
      </p:sp>
      <p:pic>
        <p:nvPicPr>
          <p:cNvPr id="239" name="Picture 6" descr="http://bloximages.chicago2.vip.townnews.com/host.madison.com/content/tncms/assets/v3/editorial/e/9b/e9b5da76-3af7-11e0-90f0-001cc4c03286/4d5dc0602548c.image.jpg"/>
          <p:cNvPicPr/>
          <p:nvPr/>
        </p:nvPicPr>
        <p:blipFill>
          <a:blip r:embed="rId1"/>
          <a:stretch/>
        </p:blipFill>
        <p:spPr>
          <a:xfrm>
            <a:off x="2743200" y="4267080"/>
            <a:ext cx="161928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228240"/>
            <a:ext cx="495288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Three</a:t>
            </a:r>
            <a:endParaRPr b="0" lang="en-US" sz="4000" spc="-1" strike="noStrike">
              <a:solidFill>
                <a:srgbClr val="696464"/>
              </a:solidFill>
              <a:latin typeface="Franklin Gothic Book"/>
            </a:endParaRPr>
          </a:p>
        </p:txBody>
      </p:sp>
      <p:sp>
        <p:nvSpPr>
          <p:cNvPr id="241" name=""/>
          <p:cNvSpPr txBox="1"/>
          <p:nvPr/>
        </p:nvSpPr>
        <p:spPr>
          <a:xfrm>
            <a:off x="4800240" y="875880"/>
            <a:ext cx="4343400" cy="25146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Domestic Tranquility</a:t>
            </a:r>
            <a:endParaRPr b="0" lang="en-US" sz="26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keep peace and order inside America.</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BI, CIA, DEA, ATF, etc</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 Guard  (Little Rock 9)</a:t>
            </a:r>
            <a:endParaRPr b="0" lang="en-US" sz="24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deral Marshals on planes</a:t>
            </a:r>
            <a:endParaRPr b="0" lang="en-US" sz="2400" spc="-1" strike="noStrike">
              <a:solidFill>
                <a:srgbClr val="000000"/>
              </a:solidFill>
              <a:latin typeface="Perpetua"/>
            </a:endParaRPr>
          </a:p>
          <a:p>
            <a:pPr lvl="2" marL="707040" indent="-1965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2" name="Picture 6" descr="http://teacherweb.sewanhaka.k12.ny.us/~careylibrary/warimage003.jpg"/>
          <p:cNvPicPr/>
          <p:nvPr/>
        </p:nvPicPr>
        <p:blipFill>
          <a:blip r:embed="rId1"/>
          <a:stretch/>
        </p:blipFill>
        <p:spPr>
          <a:xfrm>
            <a:off x="228600" y="304920"/>
            <a:ext cx="2852640" cy="2666880"/>
          </a:xfrm>
          <a:prstGeom prst="rect">
            <a:avLst/>
          </a:prstGeom>
          <a:ln w="0">
            <a:noFill/>
          </a:ln>
        </p:spPr>
      </p:pic>
      <p:pic>
        <p:nvPicPr>
          <p:cNvPr id="243" name="Picture 8" descr="http://static.howstuffworks.com/gif/us-marshal-7.jpg"/>
          <p:cNvPicPr/>
          <p:nvPr/>
        </p:nvPicPr>
        <p:blipFill>
          <a:blip r:embed="rId2"/>
          <a:stretch/>
        </p:blipFill>
        <p:spPr>
          <a:xfrm>
            <a:off x="5562720" y="4191120"/>
            <a:ext cx="3311280" cy="2209680"/>
          </a:xfrm>
          <a:prstGeom prst="rect">
            <a:avLst/>
          </a:prstGeom>
          <a:ln w="0">
            <a:noFill/>
          </a:ln>
        </p:spPr>
      </p:pic>
      <p:sp>
        <p:nvSpPr>
          <p:cNvPr id="244" name="Rectangle 5"/>
          <p:cNvSpPr/>
          <p:nvPr/>
        </p:nvSpPr>
        <p:spPr>
          <a:xfrm>
            <a:off x="228600" y="3733920"/>
            <a:ext cx="5181480" cy="375300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One of the events that caused the Convention to be held was the revolt of Massachusetts farmers known as Shays' Rebellion. The taking up of arms by war veterans revolting against the state government was a shock to the system. The keeping of the peace was on everyone's mind, and the maintenance of tranquility at home was a prime concern. The framers hoped that the new powers given the federal government would prevent any such rebellions in the fu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51920"/>
            <a:ext cx="77724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our</a:t>
            </a:r>
            <a:endParaRPr b="0" lang="en-US" sz="4000" spc="-1" strike="noStrike">
              <a:solidFill>
                <a:srgbClr val="696464"/>
              </a:solidFill>
              <a:latin typeface="Franklin Gothic Book"/>
            </a:endParaRPr>
          </a:p>
        </p:txBody>
      </p:sp>
      <p:sp>
        <p:nvSpPr>
          <p:cNvPr id="246" name=""/>
          <p:cNvSpPr txBox="1"/>
          <p:nvPr/>
        </p:nvSpPr>
        <p:spPr>
          <a:xfrm>
            <a:off x="0" y="838080"/>
            <a:ext cx="4952880" cy="5181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ovide for the Common Defens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Perpetua"/>
              </a:rPr>
              <a:t>Protect the United States from foreign attac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nited States government has the power to raise  armies and navi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rmy, Navy, Air Force, Marin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Trade agreeme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Alliance</a:t>
            </a:r>
            <a:endParaRPr b="0" lang="en-US" sz="2400" spc="-1" strike="noStrike">
              <a:solidFill>
                <a:srgbClr val="000000"/>
              </a:solidFill>
              <a:latin typeface="Perpetua"/>
            </a:endParaRPr>
          </a:p>
        </p:txBody>
      </p:sp>
      <p:pic>
        <p:nvPicPr>
          <p:cNvPr id="247" name="Picture 6" descr="http://1.bp.blogspot.com/_iWKSACvVRvw/SRot3581S4I/AAAAAAAAInc/QT1dEsWwgeM/s400/vetsday08-lo-1.jpg"/>
          <p:cNvPicPr/>
          <p:nvPr/>
        </p:nvPicPr>
        <p:blipFill>
          <a:blip r:embed="rId1"/>
          <a:stretch/>
        </p:blipFill>
        <p:spPr>
          <a:xfrm>
            <a:off x="5772240" y="0"/>
            <a:ext cx="3371760" cy="4294080"/>
          </a:xfrm>
          <a:prstGeom prst="rect">
            <a:avLst/>
          </a:prstGeom>
          <a:ln w="0">
            <a:noFill/>
          </a:ln>
        </p:spPr>
      </p:pic>
      <p:sp>
        <p:nvSpPr>
          <p:cNvPr id="248" name="Rectangle 5"/>
          <p:cNvSpPr/>
          <p:nvPr/>
        </p:nvSpPr>
        <p:spPr>
          <a:xfrm>
            <a:off x="243000" y="4572000"/>
            <a:ext cx="8686800" cy="265428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ew nation was fearful of attack from all sides — and no one state was really capable of fending off an attack from land or sea by itself. With a wary eye on Britain and Spain, and ever-watchful for Indian attack, no one of the United States could go it alone. They needed each other to survive in the harsh world of international politics of the 18th cent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0"/>
            <a:ext cx="419112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Five</a:t>
            </a:r>
            <a:endParaRPr b="0" lang="en-US" sz="4000" spc="-1" strike="noStrike">
              <a:solidFill>
                <a:srgbClr val="696464"/>
              </a:solidFill>
              <a:latin typeface="Franklin Gothic Book"/>
            </a:endParaRPr>
          </a:p>
        </p:txBody>
      </p:sp>
      <p:sp>
        <p:nvSpPr>
          <p:cNvPr id="250" name=""/>
          <p:cNvSpPr txBox="1"/>
          <p:nvPr/>
        </p:nvSpPr>
        <p:spPr>
          <a:xfrm>
            <a:off x="4343040" y="0"/>
            <a:ext cx="48006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o Promote the General Welfar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ational government has the power to </a:t>
            </a:r>
            <a:r>
              <a:rPr b="0" lang="en-US" sz="2400" spc="-1" strike="noStrike">
                <a:solidFill>
                  <a:srgbClr val="7030a0"/>
                </a:solidFill>
                <a:latin typeface="Perpetua"/>
              </a:rPr>
              <a:t>promote </a:t>
            </a:r>
            <a:r>
              <a:rPr b="0" lang="en-US" sz="2400" spc="-1" strike="noStrike">
                <a:solidFill>
                  <a:srgbClr val="191919"/>
                </a:solidFill>
                <a:latin typeface="Perpetua"/>
              </a:rPr>
              <a:t>the well-being of its citize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rth certificat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Marriage Licens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lean ai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etter Road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Education</a:t>
            </a:r>
            <a:endParaRPr b="0" lang="en-US" sz="2400" spc="-1" strike="noStrike">
              <a:solidFill>
                <a:srgbClr val="000000"/>
              </a:solidFill>
              <a:latin typeface="Perpetua"/>
            </a:endParaRPr>
          </a:p>
        </p:txBody>
      </p:sp>
      <p:pic>
        <p:nvPicPr>
          <p:cNvPr id="251" name="Picture 4" descr="C:\Program Files\Common Files\Microsoft Shared\Clipart\cagcat50\pe02716_.wmf"/>
          <p:cNvPicPr/>
          <p:nvPr/>
        </p:nvPicPr>
        <p:blipFill>
          <a:blip r:embed="rId1"/>
          <a:stretch/>
        </p:blipFill>
        <p:spPr>
          <a:xfrm>
            <a:off x="609480" y="1143000"/>
            <a:ext cx="3254400" cy="2743200"/>
          </a:xfrm>
          <a:prstGeom prst="rect">
            <a:avLst/>
          </a:prstGeom>
          <a:ln w="0">
            <a:noFill/>
          </a:ln>
        </p:spPr>
      </p:pic>
      <p:sp>
        <p:nvSpPr>
          <p:cNvPr id="252" name="Rectangle 4"/>
          <p:cNvSpPr/>
          <p:nvPr/>
        </p:nvSpPr>
        <p:spPr>
          <a:xfrm>
            <a:off x="228600" y="4495680"/>
            <a:ext cx="8686800" cy="277524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and the next part of the Preamble, are the culmination of everything that came before it — the whole point of having tranquility, justice, and defense was to promote the general welfare — to allow every state and every citizen of those states to benefit from what the government could provide. The framers looked forward to the expansion of land holdings, industry, and investment, and they knew that a strong national government would be the beginning of th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95320" y="0"/>
            <a:ext cx="40388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Goal- Number Six</a:t>
            </a:r>
            <a:endParaRPr b="0" lang="en-US" sz="4000" spc="-1" strike="noStrike">
              <a:solidFill>
                <a:srgbClr val="696464"/>
              </a:solidFill>
              <a:latin typeface="Franklin Gothic Book"/>
            </a:endParaRPr>
          </a:p>
        </p:txBody>
      </p:sp>
      <p:sp>
        <p:nvSpPr>
          <p:cNvPr id="254" name=""/>
          <p:cNvSpPr txBox="1"/>
          <p:nvPr/>
        </p:nvSpPr>
        <p:spPr>
          <a:xfrm>
            <a:off x="-360" y="228600"/>
            <a:ext cx="4876920" cy="51055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ecure the Blessings of Liberty</a:t>
            </a:r>
            <a:endParaRPr b="0" lang="en-US" sz="28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amers remembered all the patriots that died fighting for freedom.</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overnments job is to protect freedom for all citizen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Bill of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Commission on Civil Right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Perpetua"/>
              </a:rPr>
              <a:t>National Council on Disability</a:t>
            </a:r>
            <a:endParaRPr b="0" lang="en-US" sz="2400" spc="-1" strike="noStrike">
              <a:solidFill>
                <a:srgbClr val="000000"/>
              </a:solidFill>
              <a:latin typeface="Perpetua"/>
            </a:endParaRPr>
          </a:p>
        </p:txBody>
      </p:sp>
      <p:pic>
        <p:nvPicPr>
          <p:cNvPr id="255" name="Picture 5" descr="C:\CD Data US His\Constitution\Data\Photos\bell3.jpg"/>
          <p:cNvPicPr/>
          <p:nvPr/>
        </p:nvPicPr>
        <p:blipFill>
          <a:blip r:embed="rId1"/>
          <a:stretch/>
        </p:blipFill>
        <p:spPr>
          <a:xfrm>
            <a:off x="228600" y="4876920"/>
            <a:ext cx="4114800" cy="1770120"/>
          </a:xfrm>
          <a:prstGeom prst="rect">
            <a:avLst/>
          </a:prstGeom>
          <a:ln w="0">
            <a:noFill/>
          </a:ln>
        </p:spPr>
      </p:pic>
      <p:sp>
        <p:nvSpPr>
          <p:cNvPr id="256" name="Rectangle 4"/>
          <p:cNvSpPr/>
          <p:nvPr/>
        </p:nvSpPr>
        <p:spPr>
          <a:xfrm>
            <a:off x="4952880" y="990720"/>
            <a:ext cx="3962520" cy="7132320"/>
          </a:xfrm>
          <a:prstGeom prst="rect">
            <a:avLst/>
          </a:prstGeom>
          <a:solidFill>
            <a:srgbClr val="ffffff"/>
          </a:solidFill>
          <a:ln w="12600">
            <a:solidFill>
              <a:srgbClr val="9b2d1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and in hand with the general welfare, the framers looked forward to the blessings of liberty — something they had all fought hard for just a decade before. They were very concerned that they were creating a nation that would resemble something of a paradise for liberty, as opposed to the tyranny of a monarchy, where citizens could look forward to being free as opposed to looking out for the interests of a king. And more than for themselves, they wanted to be sure that the future generations of Americans would enjoy the sa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1:31:48Z</dcterms:created>
  <dc:creator>Melanie Thomas</dc:creator>
  <dc:description/>
  <dc:language>en-US</dc:language>
  <cp:lastModifiedBy>Debes John</cp:lastModifiedBy>
  <dcterms:modified xsi:type="dcterms:W3CDTF">2017-11-06T16:56:48Z</dcterms:modified>
  <cp:revision>32</cp:revision>
  <dc:subject/>
  <dc:title>Six Goals of the Pream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Resource Type">
    <vt:lpwstr>;#Academic;#Pre AP;#</vt:lpwstr>
  </property>
</Properties>
</file>