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 id="307" r:id="rId92"/>
    <p:sldId id="308" r:id="rId93"/>
    <p:sldId id="309" r:id="rId94"/>
    <p:sldId id="310" r:id="rId95"/>
    <p:sldId id="311" r:id="rId96"/>
    <p:sldId id="312" r:id="rId97"/>
    <p:sldId id="313" r:id="rId98"/>
    <p:sldId id="314" r:id="rId99"/>
    <p:sldId id="315" r:id="rId100"/>
    <p:sldId id="316" r:id="rId101"/>
    <p:sldId id="317" r:id="rId102"/>
    <p:sldId id="318" r:id="rId103"/>
    <p:sldId id="319" r:id="rId104"/>
    <p:sldId id="320" r:id="rId105"/>
    <p:sldId id="321" r:id="rId106"/>
    <p:sldId id="322" r:id="rId107"/>
    <p:sldId id="323" r:id="rId108"/>
    <p:sldId id="324" r:id="rId109"/>
    <p:sldId id="325" r:id="rId110"/>
    <p:sldId id="326" r:id="rId111"/>
    <p:sldId id="327" r:id="rId112"/>
    <p:sldId id="328" r:id="rId113"/>
    <p:sldId id="329"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slide" Target="slides/slide52.xml"/><Relationship Id="rId93" Type="http://schemas.openxmlformats.org/officeDocument/2006/relationships/slide" Target="slides/slide53.xml"/><Relationship Id="rId94" Type="http://schemas.openxmlformats.org/officeDocument/2006/relationships/slide" Target="slides/slide54.xml"/><Relationship Id="rId95" Type="http://schemas.openxmlformats.org/officeDocument/2006/relationships/slide" Target="slides/slide55.xml"/><Relationship Id="rId96" Type="http://schemas.openxmlformats.org/officeDocument/2006/relationships/slide" Target="slides/slide56.xml"/><Relationship Id="rId97" Type="http://schemas.openxmlformats.org/officeDocument/2006/relationships/slide" Target="slides/slide57.xml"/><Relationship Id="rId98" Type="http://schemas.openxmlformats.org/officeDocument/2006/relationships/slide" Target="slides/slide58.xml"/><Relationship Id="rId99" Type="http://schemas.openxmlformats.org/officeDocument/2006/relationships/slide" Target="slides/slide59.xml"/><Relationship Id="rId100" Type="http://schemas.openxmlformats.org/officeDocument/2006/relationships/slide" Target="slides/slide60.xml"/><Relationship Id="rId101" Type="http://schemas.openxmlformats.org/officeDocument/2006/relationships/slide" Target="slides/slide61.xml"/><Relationship Id="rId102" Type="http://schemas.openxmlformats.org/officeDocument/2006/relationships/slide" Target="slides/slide62.xml"/><Relationship Id="rId103" Type="http://schemas.openxmlformats.org/officeDocument/2006/relationships/slide" Target="slides/slide63.xml"/><Relationship Id="rId104" Type="http://schemas.openxmlformats.org/officeDocument/2006/relationships/slide" Target="slides/slide64.xml"/><Relationship Id="rId105" Type="http://schemas.openxmlformats.org/officeDocument/2006/relationships/slide" Target="slides/slide65.xml"/><Relationship Id="rId106" Type="http://schemas.openxmlformats.org/officeDocument/2006/relationships/slide" Target="slides/slide66.xml"/><Relationship Id="rId107" Type="http://schemas.openxmlformats.org/officeDocument/2006/relationships/slide" Target="slides/slide67.xml"/><Relationship Id="rId108" Type="http://schemas.openxmlformats.org/officeDocument/2006/relationships/slide" Target="slides/slide68.xml"/><Relationship Id="rId109" Type="http://schemas.openxmlformats.org/officeDocument/2006/relationships/slide" Target="slides/slide69.xml"/><Relationship Id="rId110" Type="http://schemas.openxmlformats.org/officeDocument/2006/relationships/slide" Target="slides/slide70.xml"/><Relationship Id="rId111" Type="http://schemas.openxmlformats.org/officeDocument/2006/relationships/slide" Target="slides/slide71.xml"/><Relationship Id="rId112" Type="http://schemas.openxmlformats.org/officeDocument/2006/relationships/slide" Target="slides/slide72.xml"/><Relationship Id="rId113" Type="http://schemas.openxmlformats.org/officeDocument/2006/relationships/slide" Target="slides/slide73.xml"/><Relationship Id="rId114" Type="http://schemas.openxmlformats.org/officeDocument/2006/relationships/slide" Target="slides/slide74.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PlaceHolder 2"/>
          <p:cNvSpPr>
            <a:spLocks noGrp="1"/>
          </p:cNvSpPr>
          <p:nvPr>
            <p:ph type="dt" idx="11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5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5" name="PlaceHolder 5"/>
          <p:cNvSpPr>
            <a:spLocks noGrp="1"/>
          </p:cNvSpPr>
          <p:nvPr>
            <p:ph type="ftr" idx="1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PlaceHolder 6"/>
          <p:cNvSpPr>
            <a:spLocks noGrp="1"/>
          </p:cNvSpPr>
          <p:nvPr>
            <p:ph type="sldNum" idx="11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89F1-F96D-47C3-A564-611F237BC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D298-E763-46FA-872D-4FCE44262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D723-2BE0-48A0-9D96-704A474E2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D939F-970C-4333-A31F-18412CAA0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1CBAE-6321-49AA-BA17-99D36C0DD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D46DB8-0443-49C1-B39D-92DDC6F0C6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86823C-475C-4AB6-88BA-BD6B7E29F4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7F7A25-4FCE-4F1C-B67C-95CDD56BC5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B909BC-ABE8-4C47-B5D7-F803B2F134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1A002-47C2-44DC-B4FF-6B4AC375AC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C2F65A-4DB4-40F7-AB8B-0115BC9D4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B765DD-9162-4F20-8040-F1906B8D34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12FAFB-AF7A-4797-87B6-29A762DF30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CBCDA4-37E1-45D2-B93F-B32FA4955A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ABB6E0-ECC7-45A9-951D-0FA8B1EFDC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4D065-F08F-4313-9B8C-AEE8EDBE2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2BACAE-9802-476C-A3D2-0F0CA122B2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6508D5-943A-4C55-8195-EB56EBA476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BF5177-FBB4-4479-90B9-11EE9C1B69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416F4E-E0F7-45F5-8EE9-F9BCC1DABE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83E468-0A2D-4C5E-A1CA-0A83D18AF7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A0D12A-EC9D-42D1-9E94-335C1679F3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2DED23-A42B-411D-B736-A42C0293AA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C08090-2DB5-446C-B61F-8F22230504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1DC431-033A-4788-B0AC-5CD1C9C96D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C5FF04-FA42-46C8-9BAA-7500DD16B7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BB79A-A99B-41FD-9A8C-EE0C3B67D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6544F6-9B28-4B9A-A4C2-8199A261A2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A20404-E5FF-421C-903A-46F5C3699C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1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3E59CD-D085-4EC4-937A-95C189B706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D831EE-B6EA-45C8-8376-774F531118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37C198-7B60-473E-AD8A-D9FE71559A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7E462A-3FA1-4F8B-A1B9-A5A0D80691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4FAE5F-29CC-44A9-973B-171ECE4E62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999678-E239-40DA-B403-0A53E9A6BD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0F3369-1CB7-4A35-98DB-1E97E74B03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B32D32-C93C-495C-BFC2-18CD249D76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3DCA5-43BC-423B-9536-B53B9B6D1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E01D7B-AAC7-4DC9-BC89-2E1BDB57DA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358320-1A4A-4007-8478-75C2B46C4D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036517-C50E-432A-99D9-7FD8E79113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B4EE7E-CA4A-4780-89EA-C305DBF886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77899B-90F2-4FDE-867F-BEA2EE7EDD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4E11AD-0942-4A6D-A17E-B2CEE29069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B66894-4750-42F7-B4D7-23B7085E59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D71963-49B0-41D8-A948-BEE76393E9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71BE6C-C3C2-49E2-81D4-AA9FB78067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13429F-23EE-416D-ABDC-98A853967E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1AFF4-0352-4A5C-A1E5-8543067ED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1B2E8C-D339-4127-A8A5-2C2F7D7CB3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C1E5B0-C065-4AE9-A544-FA55828A82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1FAD26-84AC-4144-9C04-4AE2A635B9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3EFA61-8E2B-4261-8AD4-5B497A05C1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577A2D-B3B5-4B0E-9356-F21CAFCFD7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5B28E97-C1B2-49DD-867B-940D302874F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8033CA-6C46-4C05-B131-E83B437F32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737584-C05E-4598-A1D6-A5C2DF1925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8D55E4-4758-4528-B215-FC696B956C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9D9152-29EB-408A-8E97-EF9DAA6C58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A6ADA-0DEE-4AE1-BE68-E291EABB8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4493BF-F611-441E-82DC-556E2C6AF4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A32DC7-DC8E-407E-88F6-A2F50A6F5D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13F41F-E220-4641-ACD4-B8221C9259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B2C01A-B4E3-4C99-9D52-32B093A2C4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9218B8-2ED4-4942-9784-F9219DE1AD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B995A6-57E3-4845-84E1-D09B271812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117993-83E2-4C99-B2D4-FAE2998141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A1A3CAD-A7DA-48EE-BACF-06BE2E0A801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7EBDD5-322A-49B8-A42F-B9ABE20CCD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9AC0B4-452E-42BB-BCA2-97F85793ED9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23930-55C3-4E42-93C3-C2F985F50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C62BAF-E1EF-4259-9F99-E86F436F89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B3A6F9-63FD-48C1-AEE0-FF7B24A8B8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4B1EA4-D8BC-40B6-A583-21CDB38420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33EBDC-4B25-4860-99D9-9EF25E2ADC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B2ED71-D5D9-49F2-9B9B-2DA32D1CF7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523408-21F3-42D3-810D-FEE67EFF88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C9D2CA-E188-4E98-9E6F-537548B0DF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C385C49-1CA0-4B29-90EA-6454C3B11F1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DB015B5-3960-4344-8361-936F3D8387B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ECCB9F-6953-42A4-96CC-28787BF8083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287DC-0EC1-43E4-80AE-6B495E6E6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5A4B89-7A27-4F7B-97F0-865B45FF4E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0325E8-2574-4EBB-B39B-3A8A632897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BCD5C16-3127-4432-B5CB-75CBC5E1AA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8F5347-CB10-4017-BA7A-0B1F414CA7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C4AF22-A352-4042-AF4E-E96A9C37784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3CAAB5-6383-4BA6-B589-F1C887652B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336002-B5F3-4B98-943D-9E8B1D06E1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4CE36F-6CE2-41ED-B61E-23A5168EC1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37EF6F-FA50-487F-8D9A-FC9A04EF63D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ACE8DC4-6E90-42CF-BC91-82FED3EC72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06C8D-D8D4-43E8-ADAC-D4778A82E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F510376-DD3F-4CBB-8666-82DA1776530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FAB0FFF-3D33-46AA-8643-C74B57B6FE4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2AA762-FCED-49BF-9869-646688656A0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2DF04F2-6196-4F4F-8B8A-4D335ECC385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7988FBE-0D7B-4D89-A911-CFD1F0124AB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CD83DD-444A-4ACE-A16D-07DAD0CBB9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4B4B4C-1A6B-46D5-9A12-9EC34E98076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30FDC5-D047-4994-AD14-58442CFECE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AF47C7-0C23-42AD-B370-FEAC564754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8AA8C5-C1E8-4B74-BA18-64E3D8F3DA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2221F-80A5-4645-81DA-A963C1F19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82BFC3-0AD5-4BD6-AEFD-C7343FF66B6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EA2BC61-1B29-4850-97BB-A11FE688C0B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3B2240F-C80B-4560-9070-AF2F7ACD3A7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44B6585-B33B-4EFB-8C3E-C9416298CEC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069DA01-8871-4121-8DEF-60E7ECD381D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4EC501-C057-4944-A34B-725806ECA45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CAB87CC-6CB4-4218-8149-167F1F5CC5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A67AD8F-F58B-4E46-8D79-C074AAACA6C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C3FFF99-2B4F-48C6-999C-083849DEE0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E66FC5-47E9-44A0-AA83-0959776989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0C996-C6C6-4081-AEE1-5919FB590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14B22-92AD-4931-A35D-C54233DD2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BCC0558-43C8-4FE7-BF7A-1A2FD24BD3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DC9312-33D8-48E4-8604-83BFBC9A82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BC2D626-7265-461E-8626-7295ED7D26A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F170566-DB98-4C10-8509-FEEA62909AC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71963B5-57C3-41E4-9038-A2C58EC1C26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52257B2-AECA-4228-A37F-D6FF88FB959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3339D90-C517-401E-B43A-88BAA6AA906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453ECF3-C3AC-493B-B3E4-6C0A6528894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59C88B2-7B66-4909-958B-7EB0D4D572A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33CE38B-AA9B-47AE-BCC1-B10842F1018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E43D9-9D25-4AB8-A917-9B8763C1F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EA40D96-8AA9-4886-BA0F-4110AB03841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324A4D-C0D9-4D86-920B-71952F43941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359B7F-DBCF-4117-ACD8-D394653095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D751425-A0C0-4CFA-964F-BB5C2ABD62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58AB9A4-0C3F-4F85-A6EA-B3650B7CCA5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2483E23-40D1-44B2-B7F3-77084E920BA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80AA09A-4AF3-4082-8930-63CF400CC94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1170988-250F-45F4-AACE-24AB4289413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785178F-6718-409C-A8FE-755CDC8860E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B3E6648-6608-4B3E-B6CE-BF4A554E628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B09E9-F7B5-4342-BC3F-7AC4FFD23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F5D9143-4537-4244-BC24-3DB5C657AA1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53F880-F041-49A0-A125-C8AA02D0BA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E521B03-50F3-4795-84F7-6A47F6819FB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4010026-10AA-4B16-A641-9F7DA9D8A23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81F3BC-5617-4106-822E-CC596D6FBB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817F89-C0F3-4A63-B0FB-E08E488E028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63759F-CCEA-4856-857C-0C79D30C5B7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B8CA374-784A-4577-9DA1-3D00698C343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478A5E9-C5D2-4AEB-A5DB-0BB0C036030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76F0D0C-295B-439D-BD6F-0A325582060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06E5D-4BD2-4B1E-9CAA-20792DA2D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CE71BA8-3DAD-4742-BDCC-6C03CE2D66D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5F9652-8FFA-48A6-8C04-B34AC8322F9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5FB897E-0F13-4D4C-88B2-54EF385E689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8F53BD3-DC25-4D51-B5DA-6F4DD4A8832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3597503-2A85-4394-8596-76578C58B29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A986C45-A25F-4D4E-B1C8-2597DFA5A8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EEF2774-7FCE-4BF1-B3C3-AFB3D81E205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962F21-CA77-4B97-A006-5C8F1A25402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42143F6-96AF-48E9-A9C6-BC3C6C5CD26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FF7FDEC-3E24-498B-BEE2-D6A39D2768E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DFDCB-195D-4745-8357-99C367898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801054D-3750-406F-A245-8BC6AB52632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4B06BBB-E957-4494-8F5B-90C335E5EBB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2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CC16A90-922B-45E8-BD9A-4917FBF7E02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BF3E63D-C196-4ED2-89DC-4158A8F474C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7BD43FB-C5D9-44CE-B48E-302E91D441F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D79E194-9B58-43DD-9DA2-42E3538F600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CF80DAA-2B0F-4246-A6D1-CF1EF1787FE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1699D22-6116-4D3C-9C02-9E58FDA7CA6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F5AA6DB-DC8A-4624-A452-BF550C56CF2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20BEFF6-7205-452C-8051-E957690D4FE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7A3CB8-97A6-4807-B04E-F74FC03B18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C907770-CAE8-4D01-9948-A7F73403EB3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BCF9FEA-3916-4DB3-A93A-E6AB195791B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EC74DA4-C92E-4AA0-BBD6-D090D61D5B8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A51B0D4-60B9-468B-8255-01B1CFAC5E2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6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6106D04-3C5A-4527-8E19-982A44CAC78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75FEA5A-38EF-4FE6-932A-69B0251F2C1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E45E6E7-908C-4C67-B8B6-6C912253083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0684CE4-0522-44C6-AB74-4E5DCBCE3C9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92CFAA6-3F7B-40F6-8362-7A60F3CA4C7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EF5CE35-FB89-453C-B1E9-254997721E0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D7B49-AB4C-48A0-A3CB-E44A243D45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4C99A08-62BD-43BA-AD90-969F199BFAF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68BCFC7-D911-4799-BB2E-95426E7B39C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F02D2C7-66A0-478D-98BA-8D3ABA67C15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45A7AA0-0A98-4915-BA36-F4CCB5AF07C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154B2CF-3B78-442D-9892-0C5A733F5DA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6432EF7-9B11-4316-89DB-B9E6C629296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4063176-81B4-4B90-8ED6-9BEC81B463C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A27369E-6483-4AF0-B2B0-36DCCDAE601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405F182-A269-49D4-BD67-47A590BA808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A8A5519-8ED1-487C-9FD6-461E15B67C2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BBF75-A130-4292-92F4-57DDE147AC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8879F59-F814-420B-BBCA-BDC37F05647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67AD2D3-75D8-49C6-B3C6-0A36D5D8AC7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0C916FB-23CA-4851-A5B6-B72B6EAC673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5198BF1-3117-450E-B230-483875959A7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4ADD4A1-9B09-46FC-AF5D-FCB5BA5D6FE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609C3A1-B44D-4C04-8867-E49AC412180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079A053-84D1-4749-A993-1CE6437059A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E27667D-F8ED-461B-A605-A1E094D01F1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85E8BB0-9FA1-4B55-A687-B0A3A03DA30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8C2011C-4EE9-4069-8B5F-C8A7D34A132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6EA920-364B-47A7-80E3-DC66FEB6C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E7F8BB0-04F3-4D1F-9E65-73F53375499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301C74F-288F-490D-A09B-B9479CF4E6B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B80CC0D-5D01-4C3D-8228-4C3D7998898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70E02C8-B3FF-4D1D-8C83-44946C43FAF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BB4891-175A-414D-87CE-00175DC637A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CB2AAAE-0E0E-4E27-B191-8373C11FDED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B19EE6A-ADFF-41B7-83E2-B4AE414E068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032D8C9-67B3-46EB-A4AB-99903DB4519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B62DA9D-1E5D-4EB4-A3FC-5DB17C9B0E7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A585353-60B2-420A-8372-3CE62AD8487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0E465-0683-4DAD-A500-32041F314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641B65D-FAA3-4F6A-9281-A13220A1EE8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A59CA98-E513-471F-9FF1-49C0B5CF516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03ECCC7-9F87-4CE8-B364-85ABFE0B99B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BAFAF66-3830-4767-8C87-3461557169A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1590ABD-F42F-4BCB-A162-8E3401F0A26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BF526CF-2136-4956-B222-538C42BADFE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458C89E-1714-426F-A615-184B46AE973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DFBA1BF-344A-4897-ADCC-F8316E10B63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91A7318-8B88-4B22-A204-593AED1A278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5FFFA6E-40DC-4837-86DB-D7EF3CC35D2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15122-D933-4556-A338-E29CBFBEE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28DDB3-849E-4456-ACB2-F1F3A1B6F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55D4C00-C091-4642-9019-BE076E506DB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4D1CE14-639E-4A07-8BA9-1067FFB6472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C4E294F-2960-45DA-A84B-11C2093C362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5876A86-2055-4782-AD5E-AD137A217EC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A0E0074-0105-481E-BC59-D972464C61E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B534E55-0945-4E6B-9F8E-6AB9EB53EDC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ACBE089-479B-4A82-802A-8ACCE06BBF4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F9B239E-6DEB-42C1-A0BE-8D1672FF70F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6A30664-47A7-4882-BE9E-F51063D4B3D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7C37DFC-9E27-4424-BEBB-805E90BA64B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219CC-265B-4064-BFB4-48921C58F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2AF0BF4-0599-4872-B437-C250D3EE624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0D33BDC-0364-4758-B05A-0B89634ED84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F40497B-8528-421E-80DB-BF8618A926E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4F19516-251B-4029-A2AA-8222B7AB6C8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6059030-D4BE-4B90-B3FE-37B52779D42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C3706A3-CC59-4A4F-9BDF-5FD7C0D10CD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016EAEC-20CB-42C6-8542-293A2EFCA9C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0006C10-C471-4AC7-911E-504743F49CB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C0C8288-425C-46B1-8C16-98DC0360997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A879442-F295-4AED-A3B9-5C9E5F3A88E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D80FE-FF65-4FA6-BD78-49433F667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8584F08-1805-45AE-8F4B-56C2B2E3FA8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9EF6AB8-D901-46AC-9974-C4012DE4D6D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FBA28CA-EDEF-4E9E-8F96-02E97EFB9BD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2B6BE19-7C29-4967-8BE3-982650E9361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10859C0-8D0B-459A-B6F1-E7ACB6D0220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36DB9AC-5C80-476F-A023-8A240CACE73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9055CED-9689-4F98-A45E-DB6EC76D3B3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FFDBFDB-1F30-49D3-9989-FDE2AFF67A4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05B949C-AC14-4DED-B377-39A1238D378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0510884-A995-458D-9221-C0BF84ED1E3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7B82E-D666-4C6F-AD7E-278F9B643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D4B7850-9F81-4729-9840-FD87EFD68AF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AB90E5E-E9D1-4907-B435-57EADACE334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660F640-C240-487C-894B-704ADD09327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4051BA0-BBFC-4B0E-9DC2-09E298CEE80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98877AB-517F-404C-848E-48827A7C61F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7812DB5-6370-4847-B150-B53A8374253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C01128F-2AB6-42C9-9166-F9A1A7BD2B3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EC50C28-8B03-4933-A6AC-E1A46CB9414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BA07068-7137-4BE5-A69D-A635F0E9CA2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0531403-5DD7-4CDA-887A-07079175507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6D241-DCAD-42EF-BB6F-8ACA08D4C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0B7B1C5-6CAC-44DF-B5C9-AF5EB679D79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9FB520D-F8BC-46DC-AC45-1AA05534D5E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9F2CC32-5608-43C1-A41E-DCB2246D950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626D720-C103-494E-BD58-5C4EAE3CCF5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91E88DF-4887-4BC4-B0B7-2661C957C10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82E0397-9613-4389-A47D-405C31D9C30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A7F536C-3915-4742-8600-6E5B9284B8D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5BC79DE-A523-4062-9CF2-865166FA630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A07D0F1-7B0C-415E-A9AA-3BCBB03D397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ABB16F6-8583-4A7C-8CBE-208C16BBA82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80CE8-9475-4FDA-A879-64B227A15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A97EA84-8C47-440D-9F53-8B92EF29041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E4E8A69-1DD1-4AA1-BD50-30EFD842574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8477FFC-7F8F-4E30-9D36-9BC52B9ED55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1DA6A2C-8FF8-449F-A83F-9ACFBAC4858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703018-EB5E-4156-9755-E6D5834E81D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23F0193-9B0D-49CE-A0BE-47E9C6A384D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7CB4A8C-D372-4B20-A3F9-CFAEFFEE443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3082F63-0EC4-4D02-9CF9-A530119BB20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29FA142-AF49-475C-8EC4-5192FE48034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90E3770-5403-4058-9FBB-105A5E4EB2B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A91FC9-5B1B-4F73-A94C-A45702527F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E020F25-7982-4E7E-94CB-134F18E5CF1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385414C-BC13-45C7-B4EB-05FE2D42A86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3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D34CD22-6774-4DA8-B874-96937E719F2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997CDFD-9C8A-47EF-AFB1-44C4F1C6366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798887D-0273-496B-BD42-3C1A3661A58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B742074-EC04-4036-B879-A2C632B5CBC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833EF98-50BA-4989-A1EF-2977DFEBFF8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2D3E4A5-6343-4E3D-8651-179F92437B5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365545F-3174-4D5D-94FF-FCE33A59310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D4F9DCF-FD7E-4998-AD12-A22B1398940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3FEA9C-4BB9-4B6C-BF6E-B29209E869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6CDE245-6F4A-438C-BCBB-34824644B44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DF8C94E-9527-49D8-BBB3-2C1FB7B9E2E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4DBF377-2E3F-4232-950E-CB26DF67060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DED975B-8DF3-4E18-8814-CF4E69C1D13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7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2D73AD7-1914-4A99-9D90-D0AE933E936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20785A9-E76E-40C9-A3EF-7A8C8843C49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37620BE-36E7-4B19-849B-9710760F1AD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8C1F2D3-D117-4295-AA2A-690F85936D0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BA1D1F1-55CF-4857-97E2-A7B348F82DF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7744654-70E5-4BA2-A143-BEC23F5FDFD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AFB2A-9A1B-488E-8B7A-1E06DBCE5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3108149-3B44-4400-97A7-B563EFDAB3F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2319EB0-C0CF-4341-9172-29C2904415F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09DBBD9-82BD-4F7B-BDA6-082C3BADD12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E0F11D8-8A13-4949-8320-C5FDD38656D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A58F51F-B585-4E77-9615-5DB07ECC367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78B280D-A8D4-4241-8909-F59D4107C846}"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852621B-81DE-462E-BA81-8A1D9321A8D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0A3D85B-6061-4013-A9DF-D38FA8FE72E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9B40A4A-29A9-467F-B535-21640EECD75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3E7AD2B-B75D-417C-A169-94B8E26DC69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56D8B-B133-4E31-96EA-AAB677DC6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3038248-1A60-4693-831A-D6E47DDFA5C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64B30E3-F844-4238-8461-76019F1BACF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FDE16FD-0E3C-47D8-88F8-9DC6F33486E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9085AEE-AF97-4C20-9E1C-D88EF8903AA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013EAB1-D7AF-4006-9075-FB80BC20D35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9617AD5-EEC4-4E86-B616-8A5566CA51A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6C70EE3-C83E-4987-82ED-78CBC613ABD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69E9700-F4A6-4EBE-8B2D-F986883CD5A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B65F541-65BD-49BC-907E-FFD9B149D07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EEAA33C-C7B9-4B81-93F5-182AB5053AD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5556A-34DF-4964-BD7D-2C62C0FA7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0F6BE-2FE5-42E1-A0AB-8BD7FA82C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7E664A6-6CC7-4E85-8F4F-5ACD142D99E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9E89537-A808-4A15-9243-3D9ED56987B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A73C3F9-1089-445F-B3C1-A1697BC1345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6094C12-DD73-437B-96C3-C982989FD13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05B8156-9414-4D9F-8239-A7903C54015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E3F4704-DD48-4EBB-AADB-C21FEE1903D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923C39E-4A77-4002-8599-D9C1CCE6681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1BBF1B1-6993-4831-BF82-3E295C662C53}"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CA86594-667B-434F-9117-DB2C33DAD96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7FDFB9D-3245-48B5-9D29-0348293468C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BC39E9-062D-4B4E-B039-D240CF6A3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5958CA1-60F4-4269-B5CC-1155D63DD12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572E585-E056-4E7B-9EEC-F896CBDDF0C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7F712A5-9E96-4C08-8AC7-48DD6D335C1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F63C333-9226-4A99-9E05-3E202F42613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BD99543-486D-4F82-81BE-73BBB29FFDB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B218D42-9911-4EEA-B2E2-75C6A5B22B6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24AA0DC-DABC-47B1-BD9A-2EB51444620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1ADCA57-A7F8-4CC0-930C-E44BAB41AE5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B695C90-F455-4A5E-8E42-E9BD2898F53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97F61B6-0ECA-42A8-9A41-974DC448EB6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413863-09F1-43B8-BA67-978CC7F3B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B8B1E0AB-288A-415C-87E3-65E9B228FAE4}"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9D0215D3-6D0D-49AF-B3C6-581B36CB73D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038446F-A6AF-4320-8580-50B3DC74C78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1913910-B0A5-44DB-95FE-40BB3EEB589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10C0E07-AE1D-4851-A5C0-4EFEDE8973B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C7A8746-0522-419C-8628-36F1A879540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099FBC0-8971-440E-AF18-60C029B0CDC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F1B3EFA-3C16-494D-88B7-583BA1FCFA9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3459B0D-1DCC-4F5C-9F9A-AD860F58905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7CD0B4D-E122-4843-B7A2-25A5E46AF75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4F403-FD88-4D7B-86C3-FF7FD01B1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EE738FE-9C08-4738-8337-199C016A141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44FB562-AFAC-4DF1-84B2-C99B7764203B}"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218BEC9-BADB-48DC-BA11-CCEC15CC30A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F4C38810-6EE9-41C8-A73B-7D56B69619C4}"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680F44E-EC39-41BC-B2DC-A453D350A10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7CD37CA-5188-479E-9E52-B4D606E42FD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5CA60D2-7879-4E40-ADCB-ECB2608CA17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1139C2F-398F-4434-ABC9-4416415F21E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B394C96-77F2-430B-AC56-194CB9AF288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D4CA53F-8C38-4392-B853-8E035FBF766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3704B-65FC-48E3-BC4B-94DCCA8A8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170C919-8FC0-465A-9801-220E4CBCF62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EA05F47-EFF7-4313-BFDA-C04A1448F4C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D05036C-6406-4BDD-BA51-CF37593B765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C508611-0A01-4680-BBCF-E7D54CF1ECFC}"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967CAFB-9CD6-42DB-83FF-62C5C659205D}"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87358474-3AE2-47FA-9D51-D14FCC557B71}"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A5A57E4-E38E-49B4-BF58-8900F21F66B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5F6F992-625F-47E0-81C1-84FB3BF5459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5631A8F-6727-45E8-9FB4-CBE35FAF1E5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C8949F4-62CE-4111-985F-68FBE3F1491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EF8FD-8719-4AFF-BF46-38B944478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9340D6C-D511-46F7-8567-0998BACC83C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DE13056-EEC1-471A-8350-0520DB7112E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A7A5AD0-BD0F-46FC-84FE-8D1906BF838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7523E25-5D26-4522-9625-E13DC19158A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5CE4099-7D9A-4156-9902-FC3342BFB5B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A7EB255-D066-4574-950E-CFEBDB044903}"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5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EB1F2C70-C68C-4D29-9FEB-9B10CA2C2CB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EE5BF1-E6E7-4380-AFC0-1BE708850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ABEFC3-FC82-4929-88E4-B56623171B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B5E8BE-CD05-4685-BF4E-31581BA28C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73962B-F604-43CA-8340-817B562656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249EB-468A-447C-ACF2-9381D1ED9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19744-7F1A-4872-810B-D6A261D55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B81069-89CF-427A-993E-57D1501A1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B4A89-F015-4D77-87BE-5BAD592A15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F5AD8-6177-4E6B-A978-54F639FEA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C71FD-0BBD-4A37-A8F2-B6C7B4B41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39B7A-5BFB-4EBE-87A2-322A37583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F7EEF-7C8D-4658-920C-2E44DFBCE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CAE9C-9E1D-4727-81FF-2F65C40AB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A5D85-757E-4204-BF12-3CEFA4CF26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75B377-80A7-4E96-BA9D-36A412544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009B4-4672-421A-A330-509DB41E7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7F8DF2-3914-4C0C-A14C-48238406A5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6B870A-3706-43D6-A72D-FC2309FE57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60A812-3399-4C16-957D-442CC6960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744BFF-11C5-4D07-B3DB-DFB67454B1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0112F5-0081-4904-9211-8CA116094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09CEE-217A-403D-843E-D4F5DD6027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75A2BD-4598-4FBB-BD7F-2452BCB0E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F278D-31AB-4768-A5B5-9BE40372B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5941A-3E6B-4983-9224-47FE2E292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35F006-66FC-4096-99F3-601BD6427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C5EC4-0F16-4656-8135-777CCCC91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567939-84CD-408B-92C8-CFB536EAC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F4453F-A14D-4DCA-936F-E1951AE956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D241BB-0857-41FE-ADC8-51E004BEBA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B8A1E0-822F-4A18-8AE5-9F23AFCB80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46441F-EB33-4F6F-B68A-BBAFECA04B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F0E2E7-0B01-42F9-BDD5-56A92046DF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96823A-30C4-4957-B42D-43C8DBBA1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5E6037-86E2-404D-B16C-11C8F05E4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2D48C2-2741-4037-8AF3-5D2A73AA82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C4F1E1-21E2-4284-BBC5-130E35BF8F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2C42-C045-4EE4-A2D5-2A4FB42D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1486FF-2F50-44B8-A19A-032A36D606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36D25F-6825-456A-B5E2-FFC8ED93A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2E922-24DE-43C5-A550-0F97292CB3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4BB202-1858-4AE5-A313-9AA5723DAC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02A5BA-4C3C-4F21-8843-6547053E5A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DE86B4-230B-4532-BD1D-66662A9D47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74155-AA1D-405D-B4F1-B4718C7470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A20661-F659-49D1-8E99-3BD22CE8DD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58C8C-7AD2-4F73-9544-274F40D1E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473B76-2D63-406D-B968-9ABDB10AA3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35DEE-478C-4298-A449-E645112D5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A233FD-1E77-42F4-9A62-72A68B5B98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A1985A-C5A0-4F9A-BB96-6E492AD40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F129B-C28E-46B0-A5AB-9AAEE83482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A2700A-66BC-4B75-B0C1-B3CB110FB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4F3A7F-5F20-4728-A050-EFFC2020E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3E7697-4CE2-487B-B08E-73929E4F31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BC6782-A276-49BB-9166-1A642C4BE7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CACD6B-B4A6-4D97-9272-D7A9BD0813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4CE6CB-B861-4519-9116-8466FA34E7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52F70D-BE17-48E3-A5B8-38683AB718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D48D-356F-4B1C-9E5C-487EC0D5390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C479-EFB5-48C2-B4A1-E4F3386FC8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5B09-BD1D-45AF-8F78-B45EBD7B8B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636C-7695-4638-AACE-553C421B30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CB47-2B2F-4D9B-B5F3-345FF4BD6E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D2B1-220E-4240-B48E-B3A5FDEF81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F0D4-82CB-4B14-8C4B-E86B82F9EC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1100-8F89-4B50-B23F-994EE6F0F4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0"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61"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A952-A13B-44EF-B06F-0B5DD170D8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1"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7FFD-9967-4890-B858-29786CAEEB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2"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20A8-B421-4A1B-B262-C7F2B501E5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33A5-2A6E-4F62-87B9-B8D3799ACA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8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BE8B-FC36-48A8-B05B-70DDD184F5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2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0964-B7D2-455F-AD0E-8E4C46D503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5"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6"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67EB-48D0-4645-A28D-C8FF7F51FD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6"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7"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95F7-08B4-4D6C-B873-E58D8DEE6F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9E43-2E76-48EE-9981-7274B3DF05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8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D819-06C4-4A78-A4C0-9647BF4007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9"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0"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A441-E829-461E-A9E8-E6FFE596C6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0"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71"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02D1-A4AF-458F-9F00-37F247B7E1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1"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12"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F950-02EC-4666-9E05-C662A1A2B3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2"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53"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7DF4-5DC8-4884-988D-68B884DCB2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6386-8994-4BE3-BCC7-880B272465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3"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94"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3813-5387-4EC1-9A33-81150BB756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4"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35"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9359-92FC-40AE-9001-42202C186D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5"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76"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1999-5B21-4095-A382-145645D6CD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6"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7"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2108-69DA-43F8-90FB-178D3EB0E0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7"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8"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BD27-181A-4EEC-8435-C1A15A6A8F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99"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20F4-2F1B-4DD9-93AE-100FDD0982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9"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40"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4660-B072-406B-BF51-49FECF88ED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0"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81"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A088-14F7-41D7-9698-55DBF6315D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1"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22"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122E-7954-4794-AF03-3C00C43166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7E4D-52E7-4C2E-9C52-D9D0DA61AA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7" descr="paint"/>
          <p:cNvPicPr/>
          <p:nvPr/>
        </p:nvPicPr>
        <p:blipFill>
          <a:blip r:embed="rId2"/>
          <a:stretch/>
        </p:blipFill>
        <p:spPr>
          <a:xfrm>
            <a:off x="914400" y="1828800"/>
            <a:ext cx="8229600" cy="384120"/>
          </a:xfrm>
          <a:prstGeom prst="rect">
            <a:avLst/>
          </a:prstGeom>
          <a:ln w="0">
            <a:noFill/>
          </a:ln>
        </p:spPr>
      </p:pic>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8" name="PlaceHolder 3"/>
          <p:cNvSpPr>
            <a:spLocks noGrp="1"/>
          </p:cNvSpPr>
          <p:nvPr>
            <p:ph type="dt" idx="13"/>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4"/>
          <p:cNvSpPr>
            <a:spLocks noGrp="1"/>
          </p:cNvSpPr>
          <p:nvPr>
            <p:ph type="ftr" idx="1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5"/>
          <p:cNvSpPr>
            <a:spLocks noGrp="1"/>
          </p:cNvSpPr>
          <p:nvPr>
            <p:ph type="sldNum" idx="1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45DB-8631-429C-9E49-21513D93E13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DE50-C26D-435C-BC10-A50D6D6EA0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2A78-ECDB-4912-98B0-EF3E23670A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E197-FED4-4D04-9F17-A766C651E0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E270-2A68-48F2-8AE7-CB1C70CD78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56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and learn how our attitudes, attribution, and actions affect our behavior and the way we think in different situation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social psychologists focus 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tuations and social influences that explain why the same person acts differently in different situations.</a:t>
            </a: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68">
                                            <p:txEl>
                                              <p:pRg st="2" end="2"/>
                                            </p:txEl>
                                          </p:spTgt>
                                        </p:tgtEl>
                                        <p:attrNameLst>
                                          <p:attrName>style.visibility</p:attrName>
                                        </p:attrNameLst>
                                      </p:cBhvr>
                                      <p:to>
                                        <p:strVal val="visible"/>
                                      </p:to>
                                    </p:set>
                                    <p:animEffect filter="fade" transition="in">
                                      <p:cBhvr additive="repl">
                                        <p:cTn id="7" dur="500"/>
                                        <p:tgtEl>
                                          <p:spTgt spid="1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38052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3" name="PlaceHolder 2"/>
          <p:cNvSpPr>
            <a:spLocks noGrp="1"/>
          </p:cNvSpPr>
          <p:nvPr>
            <p:ph/>
          </p:nvPr>
        </p:nvSpPr>
        <p:spPr>
          <a:xfrm>
            <a:off x="609120" y="1828800"/>
            <a:ext cx="8178840" cy="44956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gnitive Dissonance Theory</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ct to reduce the discomfort (dissonance) we feel when two of our thoughts (cognitions) are inconsisten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we become aware that our attitudes and our actions clash, we can reduce the resulting dissonance by changing our attitudes</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5" name="PlaceHolder 2"/>
          <p:cNvSpPr>
            <a:spLocks noGrp="1"/>
          </p:cNvSpPr>
          <p:nvPr>
            <p:ph/>
          </p:nvPr>
        </p:nvSpPr>
        <p:spPr>
          <a:xfrm>
            <a:off x="609120" y="1523520"/>
            <a:ext cx="8178840" cy="6858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gnitive dissonance</a:t>
            </a:r>
            <a:endParaRPr b="0" lang="en-US" sz="3600" spc="-1" strike="noStrike">
              <a:solidFill>
                <a:srgbClr val="000000"/>
              </a:solidFill>
              <a:latin typeface="Tahoma"/>
            </a:endParaRPr>
          </a:p>
        </p:txBody>
      </p:sp>
      <p:pic>
        <p:nvPicPr>
          <p:cNvPr id="1606" name="Picture 6" descr=""/>
          <p:cNvPicPr/>
          <p:nvPr/>
        </p:nvPicPr>
        <p:blipFill>
          <a:blip r:embed="rId1"/>
          <a:stretch/>
        </p:blipFill>
        <p:spPr>
          <a:xfrm>
            <a:off x="228600" y="2133720"/>
            <a:ext cx="8535960" cy="472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08"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plain the foot-in-the-door phenomenon in your own words.</a:t>
            </a:r>
            <a:endParaRPr b="0" lang="en-US" sz="40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0"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Straight Connector 10"/>
          <p:cNvSpPr/>
          <p:nvPr/>
        </p:nvSpPr>
        <p:spPr>
          <a:xfrm flipV="1">
            <a:off x="739764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Straight Connector 11"/>
          <p:cNvSpPr/>
          <p:nvPr/>
        </p:nvSpPr>
        <p:spPr>
          <a:xfrm flipV="1">
            <a:off x="5029200" y="1828800"/>
            <a:ext cx="0" cy="365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Straight Connector 12"/>
          <p:cNvSpPr/>
          <p:nvPr/>
        </p:nvSpPr>
        <p:spPr>
          <a:xfrm flipV="1">
            <a:off x="6248520" y="380880"/>
            <a:ext cx="0" cy="5105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5"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Straight Connector 10"/>
          <p:cNvSpPr/>
          <p:nvPr/>
        </p:nvSpPr>
        <p:spPr>
          <a:xfrm flipV="1">
            <a:off x="502920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Straight Connector 11"/>
          <p:cNvSpPr/>
          <p:nvPr/>
        </p:nvSpPr>
        <p:spPr>
          <a:xfrm flipV="1">
            <a:off x="7391520" y="685440"/>
            <a:ext cx="0" cy="480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Straight Connector 12"/>
          <p:cNvSpPr/>
          <p:nvPr/>
        </p:nvSpPr>
        <p:spPr>
          <a:xfrm flipV="1">
            <a:off x="6248520" y="228240"/>
            <a:ext cx="0" cy="525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20"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Straight Connector 10"/>
          <p:cNvSpPr/>
          <p:nvPr/>
        </p:nvSpPr>
        <p:spPr>
          <a:xfrm flipV="1">
            <a:off x="6248520" y="107748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Straight Connector 11"/>
          <p:cNvSpPr/>
          <p:nvPr/>
        </p:nvSpPr>
        <p:spPr>
          <a:xfrm flipV="1">
            <a:off x="5029200" y="213336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Straight Connector 12"/>
          <p:cNvSpPr/>
          <p:nvPr/>
        </p:nvSpPr>
        <p:spPr>
          <a:xfrm flipV="1">
            <a:off x="7416720" y="1676160"/>
            <a:ext cx="0" cy="380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25"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BAT test the Solomon Asch experiment and take notes on conformity and obedienc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it called to feel what others are feeling?</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ormit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ath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edience</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mative Social Influence</a:t>
            </a:r>
            <a:endParaRPr b="0" lang="en-US" sz="28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10">
                                  <p:stCondLst>
                                    <p:cond delay="0"/>
                                  </p:stCondLst>
                                  <p:childTnLst>
                                    <p:animEffect filter="fade" transition="out">
                                      <p:cBhvr additive="repl">
                                        <p:cTn id="13" dur="500"/>
                                        <p:tgtEl>
                                          <p:spTgt spid="1625">
                                            <p:txEl>
                                              <p:pRg st="2" end="2"/>
                                            </p:txEl>
                                          </p:spTgt>
                                        </p:tgtEl>
                                      </p:cBhvr>
                                    </p:animEffect>
                                    <p:set>
                                      <p:cBhvr>
                                        <p:cTn id="14" dur="1" fill="hold">
                                          <p:stCondLst>
                                            <p:cond delay="499"/>
                                          </p:stCondLst>
                                        </p:cTn>
                                        <p:tgtEl>
                                          <p:spTgt spid="1625">
                                            <p:txEl>
                                              <p:pRg st="2" end="2"/>
                                            </p:txEl>
                                          </p:spTgt>
                                        </p:tgtEl>
                                        <p:attrNameLst>
                                          <p:attrName>style.visibility</p:attrName>
                                        </p:attrNameLst>
                                      </p:cBhvr>
                                      <p:to>
                                        <p:strVal val="hidden"/>
                                      </p:to>
                                    </p:set>
                                  </p:childTnLst>
                                </p:cTn>
                              </p:par>
                              <p:par>
                                <p:cTn id="15" nodeType="withEffect" fill="hold" presetClass="exit" presetID="10">
                                  <p:stCondLst>
                                    <p:cond delay="0"/>
                                  </p:stCondLst>
                                  <p:childTnLst>
                                    <p:animEffect filter="fade" transition="out">
                                      <p:cBhvr additive="repl">
                                        <p:cTn id="16" dur="500"/>
                                        <p:tgtEl>
                                          <p:spTgt spid="1625">
                                            <p:txEl>
                                              <p:pRg st="4" end="4"/>
                                            </p:txEl>
                                          </p:spTgt>
                                        </p:tgtEl>
                                      </p:cBhvr>
                                    </p:animEffect>
                                    <p:set>
                                      <p:cBhvr>
                                        <p:cTn id="17" dur="1" fill="hold">
                                          <p:stCondLst>
                                            <p:cond delay="499"/>
                                          </p:stCondLst>
                                        </p:cTn>
                                        <p:tgtEl>
                                          <p:spTgt spid="1625">
                                            <p:txEl>
                                              <p:pRg st="4" end="4"/>
                                            </p:txEl>
                                          </p:spTgt>
                                        </p:tgtEl>
                                        <p:attrNameLst>
                                          <p:attrName>style.visibility</p:attrName>
                                        </p:attrNameLst>
                                      </p:cBhvr>
                                      <p:to>
                                        <p:strVal val="hidden"/>
                                      </p:to>
                                    </p:set>
                                  </p:childTnLst>
                                </p:cTn>
                              </p:par>
                              <p:par>
                                <p:cTn id="18" nodeType="withEffect" fill="hold" presetClass="exit" presetID="10">
                                  <p:stCondLst>
                                    <p:cond delay="0"/>
                                  </p:stCondLst>
                                  <p:childTnLst>
                                    <p:animEffect filter="fade" transition="out">
                                      <p:cBhvr additive="repl">
                                        <p:cTn id="19" dur="500"/>
                                        <p:tgtEl>
                                          <p:spTgt spid="1625">
                                            <p:txEl>
                                              <p:pRg st="5" end="5"/>
                                            </p:txEl>
                                          </p:spTgt>
                                        </p:tgtEl>
                                      </p:cBhvr>
                                    </p:animEffect>
                                    <p:set>
                                      <p:cBhvr>
                                        <p:cTn id="20" dur="1" fill="hold">
                                          <p:stCondLst>
                                            <p:cond delay="499"/>
                                          </p:stCondLst>
                                        </p:cTn>
                                        <p:tgtEl>
                                          <p:spTgt spid="1625">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5</a:t>
            </a:r>
            <a:endParaRPr b="0" lang="en-US" sz="5400" spc="-1" strike="noStrike">
              <a:solidFill>
                <a:srgbClr val="000000"/>
              </a:solidFill>
              <a:latin typeface="Arial Black"/>
            </a:endParaRPr>
          </a:p>
        </p:txBody>
      </p:sp>
      <p:sp>
        <p:nvSpPr>
          <p:cNvPr id="1627" name="PlaceHolder 2"/>
          <p:cNvSpPr>
            <a:spLocks noGrp="1"/>
          </p:cNvSpPr>
          <p:nvPr>
            <p:ph type="subTitle"/>
          </p:nvPr>
        </p:nvSpPr>
        <p:spPr>
          <a:xfrm>
            <a:off x="941400" y="2438280"/>
            <a:ext cx="6400800" cy="177192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Conformity &amp; Obedience </a:t>
            </a:r>
            <a:endParaRPr b="0" lang="en-US" sz="6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29"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utomatic Mimic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natural mimics. We take on the emotional tones of those that surround us. We unconsciously mimic others postures, expressions and voice tone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ya Chartrand and John Bargh captured this mimicry and called in the </a:t>
            </a:r>
            <a:r>
              <a:rPr b="0" i="1" lang="en-US" sz="2800" spc="-1" strike="noStrike">
                <a:solidFill>
                  <a:srgbClr val="000000"/>
                </a:solidFill>
                <a:latin typeface="Tahoma"/>
              </a:rPr>
              <a:t>Chameleon Effect.</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1" name="PlaceHolder 2"/>
          <p:cNvSpPr>
            <a:spLocks noGrp="1"/>
          </p:cNvSpPr>
          <p:nvPr>
            <p:ph/>
          </p:nvPr>
        </p:nvSpPr>
        <p:spPr>
          <a:xfrm>
            <a:off x="533160" y="1523520"/>
            <a:ext cx="8178840" cy="4953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The Chameleon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worked alongside another person who was a confederate for the experiment and they would rub their face or shake their foot and the student would often repeat that action. </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4</a:t>
            </a:r>
            <a:endParaRPr b="0" lang="en-US" sz="5400" spc="-1" strike="noStrike">
              <a:solidFill>
                <a:srgbClr val="000000"/>
              </a:solidFill>
              <a:latin typeface="Arial Black"/>
            </a:endParaRPr>
          </a:p>
        </p:txBody>
      </p:sp>
      <p:sp>
        <p:nvSpPr>
          <p:cNvPr id="1570" name="PlaceHolder 2"/>
          <p:cNvSpPr>
            <a:spLocks noGrp="1"/>
          </p:cNvSpPr>
          <p:nvPr>
            <p:ph type="subTitle"/>
          </p:nvPr>
        </p:nvSpPr>
        <p:spPr>
          <a:xfrm>
            <a:off x="609480" y="2590560"/>
            <a:ext cx="6400800" cy="335268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46ac"/>
                </a:solidFill>
                <a:latin typeface="Arial Black"/>
              </a:rPr>
              <a:t>Attributions, Attitudes &amp; Actions</a:t>
            </a:r>
            <a:endParaRPr b="0" lang="en-US" sz="5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3" name="PlaceHolder 2"/>
          <p:cNvSpPr>
            <a:spLocks noGrp="1"/>
          </p:cNvSpPr>
          <p:nvPr>
            <p:ph/>
          </p:nvPr>
        </p:nvSpPr>
        <p:spPr>
          <a:xfrm>
            <a:off x="533160" y="1752480"/>
            <a:ext cx="8178840" cy="4724640"/>
          </a:xfrm>
          <a:prstGeom prst="rect">
            <a:avLst/>
          </a:prstGeom>
          <a:noFill/>
          <a:ln w="0">
            <a:noFill/>
          </a:ln>
        </p:spPr>
        <p:txBody>
          <a:bodyPr anchor="t">
            <a:normAutofit fontScale="95000"/>
          </a:bodyPr>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Conformity</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justing one’s behavior or thinking to coincide with a group standard</a:t>
            </a:r>
            <a:endParaRPr b="0" lang="en-US" sz="3600" spc="-1" strike="noStrike">
              <a:solidFill>
                <a:srgbClr val="000000"/>
              </a:solidFill>
              <a:latin typeface="Tahoma"/>
            </a:endParaRPr>
          </a:p>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Normative Social Influence</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luence resulting from a person’s desire to gain approval or avoid disapproval</a:t>
            </a:r>
            <a:endParaRPr b="0" lang="en-US" sz="3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3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sensitive to social norms – understood rules for accepted and expected behavior – because the price we pay for different can be severe. We need to belong. To get along we go along. </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7" name="PlaceHolder 2"/>
          <p:cNvSpPr>
            <a:spLocks noGrp="1"/>
          </p:cNvSpPr>
          <p:nvPr>
            <p:ph/>
          </p:nvPr>
        </p:nvSpPr>
        <p:spPr>
          <a:xfrm>
            <a:off x="533160" y="175212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ch’s conformity experiments</a:t>
            </a:r>
            <a:endParaRPr b="0" lang="en-US" sz="2800" spc="-1" strike="noStrike">
              <a:solidFill>
                <a:srgbClr val="000000"/>
              </a:solidFill>
              <a:latin typeface="Tahoma"/>
            </a:endParaRPr>
          </a:p>
        </p:txBody>
      </p:sp>
      <p:pic>
        <p:nvPicPr>
          <p:cNvPr id="1638" name="Picture 4" descr="18-3"/>
          <p:cNvPicPr/>
          <p:nvPr/>
        </p:nvPicPr>
        <p:blipFill>
          <a:blip r:embed="rId1"/>
          <a:stretch/>
        </p:blipFill>
        <p:spPr>
          <a:xfrm>
            <a:off x="380880" y="2286000"/>
            <a:ext cx="838224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0"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most likely to conform when we</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made to feel incompetent or insecur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ith at least 3 peopl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hich everyone else agree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re the groups status and attractivenes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that others will observe our behavior</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om a culture that strongly encourages respect from social standards. </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2" name="PlaceHolder 2"/>
          <p:cNvSpPr>
            <a:spLocks noGrp="1"/>
          </p:cNvSpPr>
          <p:nvPr>
            <p:ph/>
          </p:nvPr>
        </p:nvSpPr>
        <p:spPr>
          <a:xfrm>
            <a:off x="609120" y="1752120"/>
            <a:ext cx="8153640" cy="38862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Informational Social Influenc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uence resulting from one’s willingness to accept others’ opinions about reality</a:t>
            </a:r>
            <a:endParaRPr b="0" lang="en-US" sz="2800" spc="-1" strike="noStrike">
              <a:solidFill>
                <a:srgbClr val="000000"/>
              </a:solidFill>
              <a:latin typeface="Tahoma"/>
            </a:endParaRPr>
          </a:p>
        </p:txBody>
      </p:sp>
      <p:pic>
        <p:nvPicPr>
          <p:cNvPr id="1643" name="Picture 9" descr="figure 18-05-photo"/>
          <p:cNvPicPr/>
          <p:nvPr/>
        </p:nvPicPr>
        <p:blipFill>
          <a:blip r:embed="rId1"/>
          <a:stretch/>
        </p:blipFill>
        <p:spPr>
          <a:xfrm>
            <a:off x="380880" y="3708360"/>
            <a:ext cx="7975800" cy="3149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Milgram experimen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ed to see if people would obey rules even if they were immoral. He had people ask someone questions and if they got them wrong they would be shocked. The person being shocked would cry in pain but they were still asked to continue. More than 60 percent of people complied fully.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7" name="PlaceHolder 2"/>
          <p:cNvSpPr>
            <a:spLocks noGrp="1"/>
          </p:cNvSpPr>
          <p:nvPr>
            <p:ph/>
          </p:nvPr>
        </p:nvSpPr>
        <p:spPr>
          <a:xfrm>
            <a:off x="533520" y="1752120"/>
            <a:ext cx="807696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lgram’s follow-up obedience experiment</a:t>
            </a:r>
            <a:endParaRPr b="0" lang="en-US" sz="2800" spc="-1" strike="noStrike">
              <a:solidFill>
                <a:srgbClr val="000000"/>
              </a:solidFill>
              <a:latin typeface="Tahoma"/>
            </a:endParaRPr>
          </a:p>
        </p:txBody>
      </p:sp>
      <p:pic>
        <p:nvPicPr>
          <p:cNvPr id="1648" name="Picture 57" descr=""/>
          <p:cNvPicPr/>
          <p:nvPr/>
        </p:nvPicPr>
        <p:blipFill>
          <a:blip r:embed="rId1"/>
          <a:stretch/>
        </p:blipFill>
        <p:spPr>
          <a:xfrm>
            <a:off x="0" y="2209680"/>
            <a:ext cx="9144000" cy="4648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50"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ive 3 reasons of times we are most likely to conform. </a:t>
            </a:r>
            <a:endParaRPr b="0" lang="en-US" sz="4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52" name=""/>
          <p:cNvSpPr txBox="1"/>
          <p:nvPr/>
        </p:nvSpPr>
        <p:spPr>
          <a:xfrm>
            <a:off x="406080" y="1828800"/>
            <a:ext cx="8178840" cy="46483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BAT discuss how the presence of others affect our behaviors and discuss the cognitive roots of prejudice. </a:t>
            </a:r>
            <a:endParaRPr b="0" lang="en-US" sz="36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a stereotype?</a:t>
            </a:r>
            <a:endParaRPr b="0" lang="en-US" sz="3600" spc="-1" strike="noStrike">
              <a:solidFill>
                <a:srgbClr val="000000"/>
              </a:solidFill>
              <a:latin typeface="Tahoma"/>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a:t>
            </a:r>
            <a:r>
              <a:rPr b="0" lang="en-US" sz="3600" spc="-1" strike="noStrike">
                <a:solidFill>
                  <a:srgbClr val="000000"/>
                </a:solidFill>
                <a:latin typeface="Tahoma"/>
              </a:rPr>
              <a:t>generalized belief about a group of people. </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6</a:t>
            </a:r>
            <a:endParaRPr b="0" lang="en-US" sz="4000" spc="-1" strike="noStrike">
              <a:solidFill>
                <a:srgbClr val="000000"/>
              </a:solidFill>
              <a:latin typeface="Arial Black"/>
            </a:endParaRPr>
          </a:p>
        </p:txBody>
      </p:sp>
      <p:sp>
        <p:nvSpPr>
          <p:cNvPr id="1654" name="PlaceHolder 2"/>
          <p:cNvSpPr>
            <a:spLocks noGrp="1"/>
          </p:cNvSpPr>
          <p:nvPr>
            <p:ph type="subTitle"/>
          </p:nvPr>
        </p:nvSpPr>
        <p:spPr>
          <a:xfrm>
            <a:off x="1219320" y="2209320"/>
            <a:ext cx="6400800" cy="230508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Group Behavior</a:t>
            </a:r>
            <a:endParaRPr b="0" lang="en-US" sz="6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2" name="PlaceHolder 2"/>
          <p:cNvSpPr>
            <a:spLocks noGrp="1"/>
          </p:cNvSpPr>
          <p:nvPr>
            <p:ph/>
          </p:nvPr>
        </p:nvSpPr>
        <p:spPr>
          <a:xfrm>
            <a:off x="380520" y="2057040"/>
            <a:ext cx="8178840" cy="4800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Psycholog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tific study of how we think about, influence, and relate to one another.</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ribution Theo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to give a causal explanation for someone’s behavior, often by crediting either the situation or the person’s disposition.</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56" name="PlaceHolder 2"/>
          <p:cNvSpPr>
            <a:spLocks noGrp="1"/>
          </p:cNvSpPr>
          <p:nvPr>
            <p:ph/>
          </p:nvPr>
        </p:nvSpPr>
        <p:spPr>
          <a:xfrm>
            <a:off x="456840" y="1600200"/>
            <a:ext cx="8178840" cy="4952880"/>
          </a:xfrm>
          <a:prstGeom prst="rect">
            <a:avLst/>
          </a:prstGeom>
          <a:noFill/>
          <a:ln w="0">
            <a:noFill/>
          </a:ln>
        </p:spPr>
        <p:txBody>
          <a:bodyPr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Facilitation</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roved performance of tasks in the presence of others</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ccurs with simple or well-learned tasks but not with tasks that are difficult or not yet mastered</a:t>
            </a:r>
            <a:endParaRPr b="0" lang="en-US" sz="2600" spc="-1" strike="noStrike">
              <a:solidFill>
                <a:srgbClr val="000000"/>
              </a:solidFill>
              <a:latin typeface="Tahoma"/>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Loafing</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endency for people in a group to exert less effort when pooling their efforts toward attaining a common goal than when individually accountable</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Group tug of war</a:t>
            </a:r>
            <a:endParaRPr b="0" lang="en-US" sz="26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58"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Deindividu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esence of others can arouse others or diminish their feelings of responsibility. Sometimes the presence of others does both.</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self-awareness and self-restraint in group situations that foster arousal and anonymity</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0" name="PlaceHolder 2"/>
          <p:cNvSpPr>
            <a:spLocks noGrp="1"/>
          </p:cNvSpPr>
          <p:nvPr>
            <p:ph/>
          </p:nvPr>
        </p:nvSpPr>
        <p:spPr>
          <a:xfrm>
            <a:off x="762120" y="1828440"/>
            <a:ext cx="7772400" cy="44197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oup Polariz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liefs and attitudes we bring to a group grow stronger as we discuss them with like minded others.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ment of a group’s prevailing attitudes through discussion within the group</a:t>
            </a:r>
            <a:endParaRPr b="0" lang="en-US" sz="32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62" name="PlaceHolder 2"/>
          <p:cNvSpPr>
            <a:spLocks noGrp="1"/>
          </p:cNvSpPr>
          <p:nvPr>
            <p:ph/>
          </p:nvPr>
        </p:nvSpPr>
        <p:spPr>
          <a:xfrm>
            <a:off x="6248520" y="2209680"/>
            <a:ext cx="3124080" cy="42674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group is like-minded, discussion strengthens its prevailing opinions</a:t>
            </a:r>
            <a:endParaRPr b="0" lang="en-US" sz="2800" spc="-1" strike="noStrike">
              <a:solidFill>
                <a:srgbClr val="000000"/>
              </a:solidFill>
              <a:latin typeface="Tahoma"/>
            </a:endParaRPr>
          </a:p>
        </p:txBody>
      </p:sp>
      <p:pic>
        <p:nvPicPr>
          <p:cNvPr id="1663" name="Picture 21" descr=""/>
          <p:cNvPicPr/>
          <p:nvPr/>
        </p:nvPicPr>
        <p:blipFill>
          <a:blip r:embed="rId1"/>
          <a:stretch/>
        </p:blipFill>
        <p:spPr>
          <a:xfrm>
            <a:off x="0" y="1676520"/>
            <a:ext cx="6324480" cy="5181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Group Behavior</a:t>
            </a:r>
            <a:endParaRPr b="0" lang="en-US" sz="4000" spc="-1" strike="noStrike">
              <a:solidFill>
                <a:srgbClr val="000000"/>
              </a:solidFill>
              <a:latin typeface="Arial Black"/>
            </a:endParaRPr>
          </a:p>
        </p:txBody>
      </p:sp>
      <p:sp>
        <p:nvSpPr>
          <p:cNvPr id="166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Groupthink</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 of thinking that occurs when the desire for harmony in a decision-making group overrides realistic appraisal of alternative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body speaks against an idea everyone will assume it’s the right idea.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ositive or negative. </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7" name=""/>
          <p:cNvSpPr txBox="1"/>
          <p:nvPr/>
        </p:nvSpPr>
        <p:spPr>
          <a:xfrm>
            <a:off x="456840" y="1885680"/>
            <a:ext cx="81788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Culture</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haviors, ideas, attitudes, values, and traditions shared by a group of people and transmitted from one generation to the nex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or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understood rule for accepted and expected behavior.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Proper” behavior</a:t>
            </a: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Module 77</a:t>
            </a:r>
            <a:endParaRPr b="0" lang="en-US" sz="6000" spc="-1" strike="noStrike">
              <a:solidFill>
                <a:srgbClr val="000000"/>
              </a:solidFill>
              <a:latin typeface="Arial Black"/>
            </a:endParaRPr>
          </a:p>
        </p:txBody>
      </p:sp>
      <p:sp>
        <p:nvSpPr>
          <p:cNvPr id="1669" name="PlaceHolder 2"/>
          <p:cNvSpPr>
            <a:spLocks noGrp="1"/>
          </p:cNvSpPr>
          <p:nvPr>
            <p:ph type="subTitle"/>
          </p:nvPr>
        </p:nvSpPr>
        <p:spPr>
          <a:xfrm>
            <a:off x="914400" y="2209680"/>
            <a:ext cx="6400800" cy="2438640"/>
          </a:xfrm>
          <a:prstGeom prst="rect">
            <a:avLst/>
          </a:prstGeom>
          <a:noFill/>
          <a:ln w="0">
            <a:noFill/>
          </a:ln>
        </p:spPr>
        <p:txBody>
          <a:bodyPr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Prejudice and Discrimination </a:t>
            </a:r>
            <a:endParaRPr b="0" lang="en-US" sz="6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1" name="PlaceHolder 2"/>
          <p:cNvSpPr>
            <a:spLocks noGrp="1"/>
          </p:cNvSpPr>
          <p:nvPr>
            <p:ph/>
          </p:nvPr>
        </p:nvSpPr>
        <p:spPr>
          <a:xfrm>
            <a:off x="457200" y="1447560"/>
            <a:ext cx="8305920" cy="525780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a:t>
            </a:r>
            <a:r>
              <a:rPr b="0" lang="en-US" sz="3200" spc="-1" strike="noStrike">
                <a:solidFill>
                  <a:srgbClr val="000000"/>
                </a:solidFill>
                <a:latin typeface="Tahoma"/>
              </a:rPr>
              <a:t> </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and usually negative) attitude toward a group and its member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ll attitudes prejudice is a 3-part mixture of: Beliefs (stereotypes),  emotions and predisposition to action.</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tereotype</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eneralized (sometimes accurate, but often overgeneralized) belief about a group of people.</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Discrimination</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negative behavior toward a group &amp; its members.</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3"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example of prejudice is ethnocentrism, the belief that one ethnicity is superior to another or somehow inferior or threatening. </a:t>
            </a:r>
            <a:endParaRPr b="0" lang="en-US" sz="3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 vs. Discrimin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judice is a negative attitud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imination is a negative behavior.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808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4"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Dispositional Attribution</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traits</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ituational Attribu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situation.</a:t>
            </a:r>
            <a:endParaRPr b="0" lang="en-US" sz="3200" spc="-1" strike="noStrike">
              <a:solidFill>
                <a:srgbClr val="000000"/>
              </a:solidFill>
              <a:latin typeface="Tahoma"/>
            </a:endParaRPr>
          </a:p>
          <a:p>
            <a:pPr lvl="2" marL="1143000" indent="-228600">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06440" y="2282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7" name="PlaceHolder 2"/>
          <p:cNvSpPr>
            <a:spLocks noGrp="1"/>
          </p:cNvSpPr>
          <p:nvPr>
            <p:ph/>
          </p:nvPr>
        </p:nvSpPr>
        <p:spPr>
          <a:xfrm>
            <a:off x="457200" y="1752120"/>
            <a:ext cx="8229600" cy="41720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Us”-  people with whom one shares a common identity</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Out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m”- those perceived as different or apart from one’s ingroup</a:t>
            </a:r>
            <a:endParaRPr b="0" lang="en-US" sz="3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380880" y="140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9"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 Bias</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to favor one’s own group.</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end to naturally like people that look or sound like u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capegoat Theory</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ry that prejudice provides an outlet for anger by providing someone to blame.</a:t>
            </a:r>
            <a:r>
              <a:rPr b="0" lang="en-US" sz="3600" spc="-1" strike="noStrike">
                <a:solidFill>
                  <a:srgbClr val="000000"/>
                </a:solidFill>
                <a:latin typeface="Tahoma"/>
              </a:rPr>
              <a:t> </a:t>
            </a:r>
            <a:endParaRPr b="0" lang="en-US" sz="36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81" name=""/>
          <p:cNvSpPr txBox="1"/>
          <p:nvPr/>
        </p:nvSpPr>
        <p:spPr>
          <a:xfrm>
            <a:off x="456840" y="1904760"/>
            <a:ext cx="8178840" cy="472428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Tahoma"/>
              </a:rPr>
              <a:t>Just-World Phenomenon</a:t>
            </a:r>
            <a:endParaRPr b="0" lang="en-US" sz="30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of people to believe the world is just</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get what they deserve and deserve what they ge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Other race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ndency to be able to recall faces of ones own race more accurately than faces of other races.</a:t>
            </a:r>
            <a:endParaRPr b="0" lang="en-US" sz="2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83"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is the difference between prejudice and discrimination? </a:t>
            </a:r>
            <a:endParaRPr b="0" lang="en-US" sz="40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85" name=""/>
          <p:cNvSpPr txBox="1"/>
          <p:nvPr/>
        </p:nvSpPr>
        <p:spPr>
          <a:xfrm>
            <a:off x="456840" y="188568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how psychology’s definition of aggression differs from everyday usage and why we tend to befriend and fall in love with some but not other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ggress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85">
                                            <p:txEl>
                                              <p:pRg st="2" end="2"/>
                                            </p:txEl>
                                          </p:spTgt>
                                        </p:tgtEl>
                                        <p:attrNameLst>
                                          <p:attrName>style.visibility</p:attrName>
                                        </p:attrNameLst>
                                      </p:cBhvr>
                                      <p:to>
                                        <p:strVal val="visible"/>
                                      </p:to>
                                    </p:set>
                                    <p:animEffect filter="fade" transition="in">
                                      <p:cBhvr additive="repl">
                                        <p:cTn id="27" dur="500"/>
                                        <p:tgtEl>
                                          <p:spTgt spid="16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8</a:t>
            </a:r>
            <a:endParaRPr b="0" lang="en-US" sz="4000" spc="-1" strike="noStrike">
              <a:solidFill>
                <a:srgbClr val="000000"/>
              </a:solidFill>
              <a:latin typeface="Arial Black"/>
            </a:endParaRPr>
          </a:p>
        </p:txBody>
      </p:sp>
      <p:sp>
        <p:nvSpPr>
          <p:cNvPr id="1687" name=""/>
          <p:cNvSpPr txBox="1"/>
          <p:nvPr/>
        </p:nvSpPr>
        <p:spPr>
          <a:xfrm>
            <a:off x="456840" y="2285640"/>
            <a:ext cx="8178840" cy="4172040"/>
          </a:xfrm>
          <a:prstGeom prst="rect">
            <a:avLst/>
          </a:prstGeom>
          <a:noFill/>
          <a:ln w="0">
            <a:noFill/>
          </a:ln>
        </p:spPr>
        <p:txBody>
          <a:bodyPr anchor="t">
            <a:normAutofit/>
          </a:bodyPr>
          <a:p>
            <a:pP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7946ac"/>
                </a:solidFill>
                <a:latin typeface="Arial Black"/>
              </a:rPr>
              <a:t>Aggression </a:t>
            </a:r>
            <a:endParaRPr b="0" lang="en-US" sz="8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89" name="PlaceHolder 2"/>
          <p:cNvSpPr>
            <a:spLocks noGrp="1"/>
          </p:cNvSpPr>
          <p:nvPr>
            <p:ph/>
          </p:nvPr>
        </p:nvSpPr>
        <p:spPr>
          <a:xfrm>
            <a:off x="456840" y="1752480"/>
            <a:ext cx="8178840" cy="47246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ggress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ology influences aggression. The 3 levels are genetic, neural and biochemical. </a:t>
            </a:r>
            <a:endParaRPr b="0" lang="en-US" sz="32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ggression</a:t>
            </a:r>
            <a:endParaRPr b="0" lang="en-US" sz="4000" spc="-1" strike="noStrike">
              <a:solidFill>
                <a:srgbClr val="000000"/>
              </a:solidFill>
              <a:latin typeface="Arial Black"/>
            </a:endParaRPr>
          </a:p>
        </p:txBody>
      </p:sp>
      <p:sp>
        <p:nvSpPr>
          <p:cNvPr id="1691" name=""/>
          <p:cNvSpPr txBox="1"/>
          <p:nvPr/>
        </p:nvSpPr>
        <p:spPr>
          <a:xfrm>
            <a:off x="533160" y="1752120"/>
            <a:ext cx="8178840" cy="47055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logy influences</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s influence aggression. Some animals are bred for aggressiveness for sports and research.</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if one identical twin is aggressive the other one is too.</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continue to search for the genetic markers in those who commit to the most violence. </a:t>
            </a:r>
            <a:endParaRPr b="0" lang="en-US" sz="2800" spc="-1" strike="noStrike">
              <a:solidFill>
                <a:srgbClr val="000000"/>
              </a:solidFill>
              <a:latin typeface="Tahoma"/>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ried by the Y Chromosome. </a:t>
            </a:r>
            <a:endParaRPr b="0" lang="en-US" sz="24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3"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eural Influences</a:t>
            </a:r>
            <a:r>
              <a:rPr b="0" lang="en-US" sz="3200" spc="-1" strike="noStrike">
                <a:solidFill>
                  <a:srgbClr val="7946ac"/>
                </a:solidFill>
                <a:latin typeface="Tahoma"/>
              </a:rPr>
              <a:t>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one spot I the brain that controls aggression. Aggression is a complex behavior that occurs in certain context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s and human brains have neural systems that will either inhibit or facilitate aggressive behavior when provoked.  </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5"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chemical Influences</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osterone is a hormone that influences neural systems that control aggression.</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mans are less sensitive to hormonal changes but as men age their testosterone and aggression levels decrease. </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olent criminals are typically muscular young males with above average testosterone levels. </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6" name="PlaceHolder 2"/>
          <p:cNvSpPr>
            <a:spLocks noGrp="1"/>
          </p:cNvSpPr>
          <p:nvPr>
            <p:ph/>
          </p:nvPr>
        </p:nvSpPr>
        <p:spPr>
          <a:xfrm>
            <a:off x="380520" y="1752120"/>
            <a:ext cx="8178840" cy="4953240"/>
          </a:xfrm>
          <a:prstGeom prst="rect">
            <a:avLst/>
          </a:prstGeom>
          <a:noFill/>
          <a:ln w="0">
            <a:noFill/>
          </a:ln>
        </p:spPr>
        <p:txBody>
          <a:bodyPr anchor="t">
            <a:normAutofit fontScale="97000"/>
          </a:bodyPr>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Fundamental Attribution Error</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overestimate the influence of personality &amp; underestimate the influence of situations.</a:t>
            </a:r>
            <a:endParaRPr b="0" lang="en-US" sz="2800" spc="-1" strike="noStrike">
              <a:solidFill>
                <a:srgbClr val="000000"/>
              </a:solidFill>
              <a:latin typeface="Tahoma"/>
            </a:endParaRPr>
          </a:p>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itude</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lief and feeling that predisposes one to respond in a particular way to objects, people and events.</a:t>
            </a:r>
            <a:endParaRPr b="0" lang="en-US" sz="2800" spc="-1" strike="noStrike">
              <a:solidFill>
                <a:srgbClr val="000000"/>
              </a:solidFill>
              <a:latin typeface="Tahoma"/>
            </a:endParaRPr>
          </a:p>
          <a:p>
            <a:pPr lvl="3" marL="1551960" indent="-2214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 If we believe someone is threatening us, we may feel fear &amp; anger towards the person &amp; act defensively. </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97" name=""/>
          <p:cNvSpPr txBox="1"/>
          <p:nvPr/>
        </p:nvSpPr>
        <p:spPr>
          <a:xfrm>
            <a:off x="456840" y="1885680"/>
            <a:ext cx="8178840" cy="4172040"/>
          </a:xfrm>
          <a:prstGeom prst="rect">
            <a:avLst/>
          </a:prstGeom>
          <a:noFill/>
          <a:ln w="0">
            <a:noFill/>
          </a:ln>
        </p:spPr>
        <p:txBody>
          <a:bodyPr anchor="t">
            <a:normAutofit fontScale="97000"/>
          </a:bodyPr>
          <a:p>
            <a:pPr marL="332640" indent="-3326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rustration-Aggression Principle</a:t>
            </a:r>
            <a:endParaRPr b="0" lang="en-US" sz="36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le that frustration – the blocking of an attempt to achieve some goal – creates anger, which can generate aggression.</a:t>
            </a:r>
            <a:endParaRPr b="0" lang="en-US" sz="32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Hot temperatures, physical pain, personal insults, foul odors, crowds, cigarette smoke.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9"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Reinforcement and modeling</a:t>
            </a:r>
            <a:endParaRPr b="0" lang="en-US" sz="3600" spc="-1" strike="noStrike">
              <a:solidFill>
                <a:srgbClr val="000000"/>
              </a:solidFill>
              <a:latin typeface="Tahoma"/>
            </a:endParaRPr>
          </a:p>
          <a:p>
            <a:pPr lvl="1" marL="727920" indent="-280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can alter natural reactions, we learn when our behavior is reinforced and we learn by watching others. </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a child’s aggression intimidates another child they may do it more frequently</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701"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 scripts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lturally modeled guide for how to act in various situations.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V, video games, and movies sometimes show large amounts of violence which when viewed often can teach Social scripts. </a:t>
            </a:r>
            <a:endParaRPr b="0" lang="en-US" sz="32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9</a:t>
            </a:r>
            <a:endParaRPr b="0" lang="en-US" sz="4000" spc="-1" strike="noStrike">
              <a:solidFill>
                <a:srgbClr val="000000"/>
              </a:solidFill>
              <a:latin typeface="Arial Black"/>
            </a:endParaRPr>
          </a:p>
        </p:txBody>
      </p:sp>
      <p:sp>
        <p:nvSpPr>
          <p:cNvPr id="1703" name=""/>
          <p:cNvSpPr txBox="1"/>
          <p:nvPr/>
        </p:nvSpPr>
        <p:spPr>
          <a:xfrm>
            <a:off x="380520" y="2514240"/>
            <a:ext cx="8178840" cy="4172040"/>
          </a:xfrm>
          <a:prstGeom prst="rect">
            <a:avLst/>
          </a:prstGeom>
          <a:noFill/>
          <a:ln w="0">
            <a:noFill/>
          </a:ln>
        </p:spPr>
        <p:txBody>
          <a:bodyPr anchor="t">
            <a:norm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00cc"/>
                </a:solidFill>
                <a:latin typeface="Arial Black"/>
              </a:rPr>
              <a:t>Attraction </a:t>
            </a:r>
            <a:endParaRPr b="0" lang="en-US" sz="96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5" name=""/>
          <p:cNvSpPr txBox="1"/>
          <p:nvPr/>
        </p:nvSpPr>
        <p:spPr>
          <a:xfrm>
            <a:off x="456840" y="1828440"/>
            <a:ext cx="8178840" cy="4629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ximity – Geographic nearness – is friendships most powerful predictor. Proximity provides opportunities for aggression but often breeds liking.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y’s show that people are most inclined to like and even to marry those that live in the same neighborhood or sit nearby in class or work in the same office. </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7" name="PlaceHolder 2"/>
          <p:cNvSpPr>
            <a:spLocks noGrp="1"/>
          </p:cNvSpPr>
          <p:nvPr>
            <p:ph/>
          </p:nvPr>
        </p:nvSpPr>
        <p:spPr>
          <a:xfrm>
            <a:off x="380880" y="1600200"/>
            <a:ext cx="8229600" cy="1828800"/>
          </a:xfrm>
          <a:prstGeom prst="rect">
            <a:avLst/>
          </a:prstGeom>
          <a:noFill/>
          <a:ln w="0">
            <a:noFill/>
          </a:ln>
        </p:spPr>
        <p:txBody>
          <a:bodyPr anchor="t">
            <a:normAutofit fontScale="79000"/>
          </a:bodyPr>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ahoma"/>
              </a:rPr>
              <a:t>Mere Exposure Effect</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ated exposure to novel stimuli increases liking of them</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iarity breeds fondness </a:t>
            </a:r>
            <a:endParaRPr b="0" lang="en-US" sz="2800" spc="-1" strike="noStrike">
              <a:solidFill>
                <a:srgbClr val="000000"/>
              </a:solidFill>
              <a:latin typeface="Tahoma"/>
            </a:endParaRPr>
          </a:p>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ions of attractiveness vary by culture</a:t>
            </a:r>
            <a:endParaRPr b="0" lang="en-US" sz="2800" spc="-1" strike="noStrike">
              <a:solidFill>
                <a:srgbClr val="000000"/>
              </a:solidFill>
              <a:latin typeface="Tahoma"/>
            </a:endParaRPr>
          </a:p>
        </p:txBody>
      </p:sp>
      <p:pic>
        <p:nvPicPr>
          <p:cNvPr id="1708" name="Picture 6" descr="un18-p679-bottom"/>
          <p:cNvPicPr/>
          <p:nvPr/>
        </p:nvPicPr>
        <p:blipFill>
          <a:blip r:embed="rId1"/>
          <a:stretch/>
        </p:blipFill>
        <p:spPr>
          <a:xfrm>
            <a:off x="4680" y="3809880"/>
            <a:ext cx="9144000" cy="32004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0"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roximity, physical attraction affects our first impressions of someone.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tractiveness predicts how often people date and how popular they feel. We perceive attractive people as happier, healthier, more sensitive, more successful and more socially skilled.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hysical appearance we tend to like people who we are similar to. </a:t>
            </a:r>
            <a:endParaRPr b="0" lang="en-US" sz="2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2" name="PlaceHolder 2"/>
          <p:cNvSpPr>
            <a:spLocks noGrp="1"/>
          </p:cNvSpPr>
          <p:nvPr>
            <p:ph/>
          </p:nvPr>
        </p:nvSpPr>
        <p:spPr>
          <a:xfrm>
            <a:off x="456840" y="1676520"/>
            <a:ext cx="8178840" cy="50292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Pass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oused state of intense positive absorption in another</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present at the beginning of a love relationship</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mpan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ep affectionate attachment we feel for those with whom our lives are intertwined</a:t>
            </a:r>
            <a:endParaRPr b="0" lang="en-US" sz="32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4" name="PlaceHolder 2"/>
          <p:cNvSpPr>
            <a:spLocks noGrp="1"/>
          </p:cNvSpPr>
          <p:nvPr>
            <p:ph/>
          </p:nvPr>
        </p:nvSpPr>
        <p:spPr>
          <a:xfrm>
            <a:off x="456840" y="1676520"/>
            <a:ext cx="8178840" cy="49528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Equit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ondition in which people receive from a relationship in proportion to what they give to i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elf-Disclosur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aling intimate aspects of oneself to others</a:t>
            </a:r>
            <a:endParaRPr b="0" lang="en-US" sz="28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16"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are the 3 biological influences of aggression?</a:t>
            </a:r>
            <a:endParaRPr b="0" lang="en-US" sz="4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09680" y="45684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8" name="PlaceHolder 2"/>
          <p:cNvSpPr>
            <a:spLocks noGrp="1"/>
          </p:cNvSpPr>
          <p:nvPr>
            <p:ph/>
          </p:nvPr>
        </p:nvSpPr>
        <p:spPr>
          <a:xfrm>
            <a:off x="380520" y="1676520"/>
            <a:ext cx="8153640" cy="761760"/>
          </a:xfrm>
          <a:prstGeom prst="rect">
            <a:avLst/>
          </a:prstGeom>
          <a:noFill/>
          <a:ln w="0">
            <a:noFill/>
          </a:ln>
        </p:spPr>
        <p:txBody>
          <a:bodyPr anchor="t">
            <a:normAutofit fontScale="87000"/>
          </a:bodyPr>
          <a:p>
            <a:pPr marL="298440" indent="-2984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explain someone’s behavior affects how we react to it</a:t>
            </a:r>
            <a:r>
              <a:rPr b="0" lang="en-US" sz="2400" spc="-1" strike="noStrike">
                <a:solidFill>
                  <a:srgbClr val="000000"/>
                </a:solidFill>
                <a:latin typeface="Tahoma"/>
              </a:rPr>
              <a:t>  </a:t>
            </a:r>
            <a:endParaRPr b="0" lang="en-US" sz="2400" spc="-1" strike="noStrike">
              <a:solidFill>
                <a:srgbClr val="000000"/>
              </a:solidFill>
              <a:latin typeface="Tahoma"/>
            </a:endParaRPr>
          </a:p>
        </p:txBody>
      </p:sp>
      <p:grpSp>
        <p:nvGrpSpPr>
          <p:cNvPr id="1579" name="Group 13"/>
          <p:cNvGrpSpPr/>
          <p:nvPr/>
        </p:nvGrpSpPr>
        <p:grpSpPr>
          <a:xfrm>
            <a:off x="0" y="2362320"/>
            <a:ext cx="9144000" cy="4498200"/>
            <a:chOff x="0" y="2362320"/>
            <a:chExt cx="9144000" cy="4498200"/>
          </a:xfrm>
        </p:grpSpPr>
        <p:pic>
          <p:nvPicPr>
            <p:cNvPr id="1580" name="Picture 7" descr=""/>
            <p:cNvPicPr/>
            <p:nvPr/>
          </p:nvPicPr>
          <p:blipFill>
            <a:blip r:embed="rId1"/>
            <a:stretch/>
          </p:blipFill>
          <p:spPr>
            <a:xfrm>
              <a:off x="0" y="2438280"/>
              <a:ext cx="9144000" cy="4419720"/>
            </a:xfrm>
            <a:prstGeom prst="rect">
              <a:avLst/>
            </a:prstGeom>
            <a:ln w="0">
              <a:noFill/>
            </a:ln>
          </p:spPr>
        </p:pic>
        <p:sp>
          <p:nvSpPr>
            <p:cNvPr id="1581" name="Text Box 8"/>
            <p:cNvSpPr/>
            <p:nvPr/>
          </p:nvSpPr>
          <p:spPr>
            <a:xfrm>
              <a:off x="135360" y="3618000"/>
              <a:ext cx="2148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ve behavior</a:t>
              </a:r>
              <a:endParaRPr b="0" lang="en-US" sz="1800" spc="-1" strike="noStrike">
                <a:solidFill>
                  <a:srgbClr val="000000"/>
                </a:solidFill>
                <a:latin typeface="Times New Roman"/>
              </a:endParaRPr>
            </a:p>
          </p:txBody>
        </p:sp>
        <p:sp>
          <p:nvSpPr>
            <p:cNvPr id="1582" name="Text Box 9"/>
            <p:cNvSpPr/>
            <p:nvPr/>
          </p:nvSpPr>
          <p:spPr>
            <a:xfrm>
              <a:off x="2762640" y="2666880"/>
              <a:ext cx="2875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ybe that driver is ill.”</a:t>
              </a:r>
              <a:endParaRPr b="0" lang="en-US" sz="1800" spc="-1" strike="noStrike">
                <a:solidFill>
                  <a:srgbClr val="000000"/>
                </a:solidFill>
                <a:latin typeface="Times New Roman"/>
              </a:endParaRPr>
            </a:p>
          </p:txBody>
        </p:sp>
        <p:sp>
          <p:nvSpPr>
            <p:cNvPr id="1583" name="Text Box 10"/>
            <p:cNvSpPr/>
            <p:nvPr/>
          </p:nvSpPr>
          <p:spPr>
            <a:xfrm>
              <a:off x="2819160" y="6140520"/>
              <a:ext cx="28141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razy driver!”</a:t>
              </a:r>
              <a:endParaRPr b="0" lang="en-US" sz="1800" spc="-1" strike="noStrike">
                <a:solidFill>
                  <a:srgbClr val="000000"/>
                </a:solidFill>
                <a:latin typeface="Times New Roman"/>
              </a:endParaRPr>
            </a:p>
          </p:txBody>
        </p:sp>
        <p:sp>
          <p:nvSpPr>
            <p:cNvPr id="1584" name="Text Box 11"/>
            <p:cNvSpPr/>
            <p:nvPr/>
          </p:nvSpPr>
          <p:spPr>
            <a:xfrm>
              <a:off x="5873760" y="2362320"/>
              <a:ext cx="304128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erant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ed cautiously, all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 a wide berth)</a:t>
              </a:r>
              <a:endParaRPr b="0" lang="en-US" sz="1800" spc="-1" strike="noStrike">
                <a:solidFill>
                  <a:srgbClr val="000000"/>
                </a:solidFill>
                <a:latin typeface="Times New Roman"/>
              </a:endParaRPr>
            </a:p>
          </p:txBody>
        </p:sp>
        <p:sp>
          <p:nvSpPr>
            <p:cNvPr id="1585" name="Text Box 12"/>
            <p:cNvSpPr/>
            <p:nvPr/>
          </p:nvSpPr>
          <p:spPr>
            <a:xfrm>
              <a:off x="5715360" y="5943600"/>
              <a:ext cx="339624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favorable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up and race past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driver, give a dirty look)</a:t>
              </a:r>
              <a:endParaRPr b="0" lang="en-US" sz="18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 </a:t>
            </a:r>
            <a:endParaRPr b="0" lang="en-US" sz="4000" spc="-1" strike="noStrike">
              <a:solidFill>
                <a:srgbClr val="000000"/>
              </a:solidFill>
              <a:latin typeface="Arial Black"/>
            </a:endParaRPr>
          </a:p>
        </p:txBody>
      </p:sp>
      <p:sp>
        <p:nvSpPr>
          <p:cNvPr id="171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when people are most and least likely to help and on how conflicts are created and how we can use our conflicts to promote peace.</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confli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erceived incompatibility of actions, goals, or ideas. </a:t>
            </a:r>
            <a:endParaRPr b="0" lang="en-US" sz="2800" spc="-1" strike="noStrike">
              <a:solidFill>
                <a:srgbClr val="000000"/>
              </a:solidFill>
              <a:latin typeface="Tahoma"/>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18">
                                            <p:txEl>
                                              <p:pRg st="2" end="2"/>
                                            </p:txEl>
                                          </p:spTgt>
                                        </p:tgtEl>
                                        <p:attrNameLst>
                                          <p:attrName>style.visibility</p:attrName>
                                        </p:attrNameLst>
                                      </p:cBhvr>
                                      <p:to>
                                        <p:strVal val="visible"/>
                                      </p:to>
                                    </p:set>
                                    <p:animEffect filter="fade" transition="in">
                                      <p:cBhvr additive="repl">
                                        <p:cTn id="34" dur="500"/>
                                        <p:tgtEl>
                                          <p:spTgt spid="17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Module 80</a:t>
            </a:r>
            <a:endParaRPr b="0" lang="en-US" sz="4800" spc="-1" strike="noStrike">
              <a:solidFill>
                <a:srgbClr val="000000"/>
              </a:solidFill>
              <a:latin typeface="Arial Black"/>
            </a:endParaRPr>
          </a:p>
        </p:txBody>
      </p:sp>
      <p:sp>
        <p:nvSpPr>
          <p:cNvPr id="1720" name=""/>
          <p:cNvSpPr txBox="1"/>
          <p:nvPr/>
        </p:nvSpPr>
        <p:spPr>
          <a:xfrm>
            <a:off x="456840" y="1885680"/>
            <a:ext cx="8178840" cy="417204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Altruism, Conflict and Peacemaking </a:t>
            </a:r>
            <a:endParaRPr b="0" lang="en-US" sz="60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2"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ltruis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selfish regard for the welfare of other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Bystander Effec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any given bystander to be less likely to give aid if other bystanders are pres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3808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pic>
        <p:nvPicPr>
          <p:cNvPr id="1724" name="Picture 16" descr=""/>
          <p:cNvPicPr/>
          <p:nvPr/>
        </p:nvPicPr>
        <p:blipFill>
          <a:blip r:embed="rId1"/>
          <a:stretch/>
        </p:blipFill>
        <p:spPr>
          <a:xfrm>
            <a:off x="1600200" y="1638360"/>
            <a:ext cx="5410080" cy="5181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6"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y people are helpful people, is one of the most consistent findings in all of psychology.</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fulness also breeds happiness. Making charitable donations activates brain areas associated with reward. </a:t>
            </a:r>
            <a:endParaRPr b="0" lang="en-US" sz="32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8" name="PlaceHolder 2"/>
          <p:cNvSpPr>
            <a:spLocks noGrp="1"/>
          </p:cNvSpPr>
          <p:nvPr>
            <p:ph/>
          </p:nvPr>
        </p:nvSpPr>
        <p:spPr>
          <a:xfrm>
            <a:off x="533160" y="1676160"/>
            <a:ext cx="7924680" cy="510516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Exchange Theory</a:t>
            </a:r>
            <a:endParaRPr b="0" lang="en-US" sz="36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theory that our social behavior is an exchange process, the aim of which is to maximize benefits and minimize costs.</a:t>
            </a:r>
            <a:endParaRPr b="0" lang="en-US" sz="30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f you are pondering doing something helpful you weigh the costs and benefits, if the rewards exceed the costs, you will help. </a:t>
            </a:r>
            <a:endParaRPr b="0" lang="en-US" sz="3000" spc="-1" strike="noStrike">
              <a:solidFill>
                <a:srgbClr val="000000"/>
              </a:solidFill>
              <a:latin typeface="Tahoma"/>
            </a:endParaRPr>
          </a:p>
          <a:p>
            <a:pPr lvl="2" marL="1143000" indent="-228600">
              <a:spcBef>
                <a:spcPts val="64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Donating blood.</a:t>
            </a:r>
            <a:endParaRPr b="0" lang="en-US" sz="2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0" name=""/>
          <p:cNvSpPr txBox="1"/>
          <p:nvPr/>
        </p:nvSpPr>
        <p:spPr>
          <a:xfrm>
            <a:off x="380520" y="1600200"/>
            <a:ext cx="8255160" cy="51055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Reciproc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not hurt, those who have helped them.</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believed that we help because we are socialized to do so through norms that prescribe how we should behave. </a:t>
            </a:r>
            <a:endParaRPr b="0" lang="en-US" sz="2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responsibil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those in need of their help.</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Wesley Autrey jumped onto a man who collapsed onto train track and saved him from dying.</a:t>
            </a:r>
            <a:endParaRPr b="0" lang="en-US" sz="2600" spc="-1" strike="noStrike">
              <a:solidFill>
                <a:srgbClr val="000000"/>
              </a:solidFill>
              <a:latin typeface="Taho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2" name="PlaceHolder 2"/>
          <p:cNvSpPr>
            <a:spLocks noGrp="1"/>
          </p:cNvSpPr>
          <p:nvPr>
            <p:ph/>
          </p:nvPr>
        </p:nvSpPr>
        <p:spPr>
          <a:xfrm>
            <a:off x="304560" y="1447560"/>
            <a:ext cx="8178840" cy="5181480"/>
          </a:xfrm>
          <a:prstGeom prst="rect">
            <a:avLst/>
          </a:prstGeom>
          <a:noFill/>
          <a:ln w="0">
            <a:noFill/>
          </a:ln>
        </p:spPr>
        <p:txBody>
          <a:bodyPr anchor="t">
            <a:normAutofit fontScale="95000"/>
          </a:bodyPr>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nflict</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ived incompatibility of actions, goals, or ideas.</a:t>
            </a:r>
            <a:endParaRPr b="0" lang="en-US" sz="28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become enmeshed in potentially destructive processes that can lead to unwanted results including social traps.</a:t>
            </a:r>
            <a:endParaRPr b="0" lang="en-US" sz="28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Trap</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ituation in which the conflicting parties, by each rationally pursuing their self-interest, become caught in mutually destructive behavior</a:t>
            </a:r>
            <a:endParaRPr b="0" lang="en-US" sz="2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4" name=""/>
          <p:cNvSpPr txBox="1"/>
          <p:nvPr/>
        </p:nvSpPr>
        <p:spPr>
          <a:xfrm>
            <a:off x="380520" y="1523880"/>
            <a:ext cx="8255160" cy="510552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Mirror-image perceptions </a:t>
            </a:r>
            <a:endParaRPr b="0" lang="en-US" sz="36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tual feelings held by conflicting people.</a:t>
            </a:r>
            <a:endParaRPr b="0" lang="en-US" sz="2800" spc="-1" strike="noStrike">
              <a:solidFill>
                <a:srgbClr val="000000"/>
              </a:solidFill>
              <a:latin typeface="Tahoma"/>
            </a:endParaRPr>
          </a:p>
          <a:p>
            <a:pPr lvl="2" marL="1119960" indent="-22392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se in conflict create diabolical images of one another and they are often very similar.</a:t>
            </a:r>
            <a:endParaRPr b="0" lang="en-US" sz="28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elf-fulfilling prophecy</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belief that leads to its own fulfillment.</a:t>
            </a:r>
            <a:endParaRPr b="0" lang="en-US" sz="2800" spc="-1" strike="noStrike">
              <a:solidFill>
                <a:srgbClr val="000000"/>
              </a:solidFill>
              <a:latin typeface="Tahoma"/>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think someone is annoying to may do something to cause them to act in a way that justifies your perception. Perceptions can become self-fulfilling prophecies. </a:t>
            </a:r>
            <a:endParaRPr b="0" lang="en-US" sz="24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6" name=""/>
          <p:cNvSpPr txBox="1"/>
          <p:nvPr/>
        </p:nvSpPr>
        <p:spPr>
          <a:xfrm>
            <a:off x="456840" y="1885680"/>
            <a:ext cx="8178840" cy="4172040"/>
          </a:xfrm>
          <a:prstGeom prst="rect">
            <a:avLst/>
          </a:prstGeom>
          <a:noFill/>
          <a:ln w="0">
            <a:noFill/>
          </a:ln>
        </p:spPr>
        <p:txBody>
          <a:bodyPr anchor="t">
            <a:normAutofit fontScale="93000"/>
          </a:bodyPr>
          <a:p>
            <a:pPr marL="318960" indent="-31896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moting Peace</a:t>
            </a:r>
            <a:endParaRPr b="0" lang="en-US" sz="4000" spc="-1" strike="noStrike">
              <a:solidFill>
                <a:srgbClr val="000000"/>
              </a:solidFill>
              <a:latin typeface="Tahoma"/>
            </a:endParaRPr>
          </a:p>
          <a:p>
            <a:pPr lvl="1" marL="690840" indent="-2656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ct</a:t>
            </a:r>
            <a:endParaRPr b="0" lang="en-US" sz="32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 sometimes helps resolve problems between conflicting parties, especially when it is noncompetitive and between parties of equal status.</a:t>
            </a:r>
            <a:endParaRPr b="0" lang="en-US" sz="28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itially prejudiced co-workers of different races have usually come to accept one another.</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80600" y="4568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87" name="PlaceHolder 2"/>
          <p:cNvSpPr>
            <a:spLocks noGrp="1"/>
          </p:cNvSpPr>
          <p:nvPr>
            <p:ph/>
          </p:nvPr>
        </p:nvSpPr>
        <p:spPr>
          <a:xfrm>
            <a:off x="304920" y="1752480"/>
            <a:ext cx="8153280" cy="914400"/>
          </a:xfrm>
          <a:prstGeom prst="rect">
            <a:avLst/>
          </a:prstGeom>
          <a:noFill/>
          <a:ln w="0">
            <a:noFill/>
          </a:ln>
        </p:spPr>
        <p:txBody>
          <a:bodyPr anchor="t">
            <a:normAutofit fontScale="95000"/>
          </a:bodyPr>
          <a:p>
            <a:pPr marL="325800" indent="-3258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behavior is affected by our inner attitudes as well as by external social influences</a:t>
            </a:r>
            <a:endParaRPr b="0" lang="en-US" sz="2800" spc="-1" strike="noStrike">
              <a:solidFill>
                <a:srgbClr val="000000"/>
              </a:solidFill>
              <a:latin typeface="Tahoma"/>
            </a:endParaRPr>
          </a:p>
        </p:txBody>
      </p:sp>
      <p:grpSp>
        <p:nvGrpSpPr>
          <p:cNvPr id="1588" name="Group 17"/>
          <p:cNvGrpSpPr/>
          <p:nvPr/>
        </p:nvGrpSpPr>
        <p:grpSpPr>
          <a:xfrm>
            <a:off x="990720" y="2895480"/>
            <a:ext cx="7162200" cy="3581280"/>
            <a:chOff x="990720" y="2895480"/>
            <a:chExt cx="7162200" cy="3581280"/>
          </a:xfrm>
        </p:grpSpPr>
        <p:sp>
          <p:nvSpPr>
            <p:cNvPr id="1589" name="Rectangle 8"/>
            <p:cNvSpPr/>
            <p:nvPr/>
          </p:nvSpPr>
          <p:spPr>
            <a:xfrm>
              <a:off x="990720" y="2895480"/>
              <a:ext cx="2232360" cy="1492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a:t>
              </a:r>
              <a:endParaRPr b="0" lang="en-US" sz="2000" spc="-1" strike="noStrike">
                <a:solidFill>
                  <a:srgbClr val="000000"/>
                </a:solidFill>
                <a:latin typeface="Times New Roman"/>
              </a:endParaRPr>
            </a:p>
          </p:txBody>
        </p:sp>
        <p:sp>
          <p:nvSpPr>
            <p:cNvPr id="1590" name="Rectangle 10"/>
            <p:cNvSpPr/>
            <p:nvPr/>
          </p:nvSpPr>
          <p:spPr>
            <a:xfrm>
              <a:off x="5920560" y="2895480"/>
              <a:ext cx="2232360" cy="1492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a:t>
              </a:r>
              <a:endParaRPr b="0" lang="en-US" sz="2000" spc="-1" strike="noStrike">
                <a:solidFill>
                  <a:srgbClr val="000000"/>
                </a:solidFill>
                <a:latin typeface="Times New Roman"/>
              </a:endParaRPr>
            </a:p>
          </p:txBody>
        </p:sp>
        <p:sp>
          <p:nvSpPr>
            <p:cNvPr id="1591" name="Rectangle 11"/>
            <p:cNvSpPr/>
            <p:nvPr/>
          </p:nvSpPr>
          <p:spPr>
            <a:xfrm>
              <a:off x="3502080" y="4984560"/>
              <a:ext cx="2232360" cy="14922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havior</a:t>
              </a:r>
              <a:endParaRPr b="0" lang="en-US" sz="2000" spc="-1" strike="noStrike">
                <a:solidFill>
                  <a:srgbClr val="000000"/>
                </a:solidFill>
                <a:latin typeface="Times New Roman"/>
              </a:endParaRPr>
            </a:p>
          </p:txBody>
        </p:sp>
        <p:sp>
          <p:nvSpPr>
            <p:cNvPr id="1592" name="Line 12"/>
            <p:cNvSpPr/>
            <p:nvPr/>
          </p:nvSpPr>
          <p:spPr>
            <a:xfrm>
              <a:off x="99072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Line 13"/>
            <p:cNvSpPr/>
            <p:nvPr/>
          </p:nvSpPr>
          <p:spPr>
            <a:xfrm>
              <a:off x="3502080" y="498456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Line 14"/>
            <p:cNvSpPr/>
            <p:nvPr/>
          </p:nvSpPr>
          <p:spPr>
            <a:xfrm>
              <a:off x="592056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AutoShape 15"/>
            <p:cNvSpPr/>
            <p:nvPr/>
          </p:nvSpPr>
          <p:spPr>
            <a:xfrm flipV="1">
              <a:off x="1734840" y="4785120"/>
              <a:ext cx="1208880" cy="1292760"/>
            </a:xfrm>
            <a:custGeom>
              <a:avLst/>
              <a:gdLst>
                <a:gd name="textAreaLeft" fmla="*/ 695520 w 1208880"/>
                <a:gd name="textAreaRight" fmla="*/ 1020960 w 120888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AutoShape 16"/>
            <p:cNvSpPr/>
            <p:nvPr/>
          </p:nvSpPr>
          <p:spPr>
            <a:xfrm flipH="1" flipV="1">
              <a:off x="6291720" y="4785120"/>
              <a:ext cx="1209240" cy="1292760"/>
            </a:xfrm>
            <a:custGeom>
              <a:avLst/>
              <a:gdLst>
                <a:gd name="textAreaLeft" fmla="*/ 695520 w 1209240"/>
                <a:gd name="textAreaRight" fmla="*/ 1020960 w 120924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8" name=""/>
          <p:cNvSpPr txBox="1"/>
          <p:nvPr/>
        </p:nvSpPr>
        <p:spPr>
          <a:xfrm>
            <a:off x="456840" y="1523880"/>
            <a:ext cx="8178840" cy="5029200"/>
          </a:xfrm>
          <a:prstGeom prst="rect">
            <a:avLst/>
          </a:prstGeom>
          <a:noFill/>
          <a:ln w="0">
            <a:noFill/>
          </a:ln>
        </p:spPr>
        <p:txBody>
          <a:bodyPr anchor="t">
            <a:normAutofit fontScale="96000"/>
          </a:bodyPr>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on</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 Muzafer Sherif set up a conflict between 22 Oklahoma boys at camp and made them compete for prizes until they disliked each other. Sherif then gave them superordinate goals to get them to cooperate such as having to restore the failed water supply and move a stuck truck. </a:t>
            </a:r>
            <a:endParaRPr b="0" lang="en-US" sz="2800" spc="-1" strike="noStrike">
              <a:solidFill>
                <a:srgbClr val="000000"/>
              </a:solidFill>
              <a:latin typeface="Tahoma"/>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uperordinate Goals</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goals that override differences among people and require their cooperation.</a:t>
            </a:r>
            <a:endParaRPr b="0" lang="en-US" sz="2800" spc="-1" strike="noStrike">
              <a:solidFill>
                <a:srgbClr val="000000"/>
              </a:solidFill>
              <a:latin typeface="Tahom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0"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onflicts become intense a third party mediator may facilitate communication. Mediators help each party to voice their viewpoint and understand their needs and goals. They can replace a competitive win-lose orientation with a win-win orientation which leads to beneficial results. </a:t>
            </a:r>
            <a:endParaRPr b="0" lang="en-US" sz="28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2" name=""/>
          <p:cNvSpPr txBox="1"/>
          <p:nvPr/>
        </p:nvSpPr>
        <p:spPr>
          <a:xfrm>
            <a:off x="456840" y="159984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ili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ing and cooperation are most needed yet unlikely in times of anger. When conflicts intensify images become more stereotyped, judgments more rigid and communication more difficult. Small conciliatory gestures such as a smile, touch or apology can allow both parties to be less tense and allow communication and understanding to begin.  </a:t>
            </a:r>
            <a:endParaRPr b="0" lang="en-US" sz="28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4" name="PlaceHolder 2"/>
          <p:cNvSpPr>
            <a:spLocks noGrp="1"/>
          </p:cNvSpPr>
          <p:nvPr>
            <p:ph/>
          </p:nvPr>
        </p:nvSpPr>
        <p:spPr>
          <a:xfrm>
            <a:off x="456840" y="1752120"/>
            <a:ext cx="8381880" cy="4953240"/>
          </a:xfrm>
          <a:prstGeom prst="rect">
            <a:avLst/>
          </a:prstGeom>
          <a:noFill/>
          <a:ln w="0">
            <a:noFill/>
          </a:ln>
        </p:spPr>
        <p:txBody>
          <a:bodyPr anchor="t">
            <a:normAutofit fontScale="95000"/>
          </a:bodyPr>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psychologists Charles Osgood advocated GRIT. </a:t>
            </a:r>
            <a:endParaRPr b="0" lang="en-US" sz="32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aduated and Reciprocated Initiatives in Tension-reduction (GRIT)</a:t>
            </a:r>
            <a:endParaRPr b="0" lang="en-US" sz="3600" spc="-1" strike="noStrike">
              <a:solidFill>
                <a:srgbClr val="000000"/>
              </a:solidFill>
              <a:latin typeface="Tahoma"/>
            </a:endParaRPr>
          </a:p>
          <a:p>
            <a:pPr lvl="1" marL="705600" indent="-271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trategy designed to decrease international tensions</a:t>
            </a:r>
            <a:endParaRPr b="0" lang="en-US" sz="32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side announces recognition of mutual interests and initiates a small conciliatory act</a:t>
            </a:r>
            <a:endParaRPr b="0" lang="en-US" sz="28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door for reciprocation by other party</a:t>
            </a:r>
            <a:endParaRPr b="0" lang="en-US" sz="2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46"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en are people less likely to help someone in need? </a:t>
            </a:r>
            <a:endParaRPr b="0" lang="en-US" sz="4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09680" y="53316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98" name="PlaceHolder 2"/>
          <p:cNvSpPr>
            <a:spLocks noGrp="1"/>
          </p:cNvSpPr>
          <p:nvPr>
            <p:ph/>
          </p:nvPr>
        </p:nvSpPr>
        <p:spPr>
          <a:xfrm>
            <a:off x="6095520" y="2057040"/>
            <a:ext cx="3048120" cy="43434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itudes follow behavior</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actions feed mutual liking</a:t>
            </a:r>
            <a:endParaRPr b="0" lang="en-US" sz="3200" spc="-1" strike="noStrike">
              <a:solidFill>
                <a:srgbClr val="000000"/>
              </a:solidFill>
              <a:latin typeface="Tahoma"/>
            </a:endParaRPr>
          </a:p>
        </p:txBody>
      </p:sp>
      <p:pic>
        <p:nvPicPr>
          <p:cNvPr id="1599" name="Picture 15" descr="un18-p646"/>
          <p:cNvPicPr/>
          <p:nvPr/>
        </p:nvPicPr>
        <p:blipFill>
          <a:blip r:embed="rId1"/>
          <a:stretch/>
        </p:blipFill>
        <p:spPr>
          <a:xfrm>
            <a:off x="380880" y="1828800"/>
            <a:ext cx="5791320" cy="482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380520" y="609480"/>
            <a:ext cx="698508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1" name="PlaceHolder 2"/>
          <p:cNvSpPr>
            <a:spLocks noGrp="1"/>
          </p:cNvSpPr>
          <p:nvPr>
            <p:ph/>
          </p:nvPr>
        </p:nvSpPr>
        <p:spPr>
          <a:xfrm>
            <a:off x="380520" y="1676160"/>
            <a:ext cx="8178840" cy="51814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oot-in-the-Door Phenomen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people who have first agreed to a small request to comply later with a larger request.</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Rol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of expectations about a social posi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s how those in the position ought to behave.</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7T15:26:24Z</dcterms:created>
  <dc:creator>Preferred Customer</dc:creator>
  <dc:description/>
  <dc:language>en-US</dc:language>
  <cp:lastModifiedBy>Debes John</cp:lastModifiedBy>
  <dcterms:modified xsi:type="dcterms:W3CDTF">2016-03-30T10:14:47Z</dcterms:modified>
  <cp:revision>108</cp:revision>
  <dc:subject/>
  <dc:title>Introduction to Psychology</dc:title>
</cp:coreProperties>
</file>