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5B6A-3249-4C98-89DF-5F83AC3CA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F952-36E0-46EB-BA9E-99677B9844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A489-701B-408C-BC01-CA6F0DFB92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ED08-5105-4A44-AC94-833C5F0A6D6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890F-C24E-443C-B4CE-2484770384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D658-7611-4C67-BE93-74584C660F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0B91-472A-479C-8F38-DE27594518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5D63-5809-4EF6-A17C-60E8C12706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FE8C-B918-417B-B62A-1E93758587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803F-ECF6-407F-BFA4-B7945E3C94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1BE8-8FCB-4467-B3C8-2E2374890E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D125-941F-4A0A-AC47-AAC9E7E380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E1BC-1301-4774-A6A7-5E7AD91D30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F86-6E2D-4FFB-8189-5750B802556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FDA-C022-477F-8F31-2A86C56E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E14-FB54-447E-9898-BB5F59A2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93B-427C-45D9-BA29-87473634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6E4-6903-4344-A92E-5EF78889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0DC-9A66-44ED-A945-8D3B8677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0A7-CB25-42DA-AF40-8EBED1AE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8EB-98E7-4BC1-AC6C-689AD690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3DE-D553-4158-9CA9-5A85AB0E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EE3-F5C5-4DA8-A8D0-7E9EF405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A48-9024-4140-9872-41C54DAD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8D6-B946-4C2F-B78D-3152E4C8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4C4-EF43-4BBC-A003-74F54EB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52B4-D0C7-439C-BEE3-B56E638A10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French and Indian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england indian france"/>
          <p:cNvPicPr/>
          <p:nvPr/>
        </p:nvPicPr>
        <p:blipFill>
          <a:blip r:embed="rId1"/>
          <a:stretch/>
        </p:blipFill>
        <p:spPr>
          <a:xfrm>
            <a:off x="1447920" y="914400"/>
            <a:ext cx="6172200" cy="550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3680" y="-15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Treaty of Pari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76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he Treaty of Par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rked the end of France as a power in North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tinent was now divided between Great Britain and Spain with the Mississippi River marking the bound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ve Americans still living on the lands and were not given a section of it by the European agre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98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rouble on the Frontier After the French and Indian Wa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ritish victory over the French was a devastating blow to the Native Americans of the Ohio River val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d lost their French allies and trading part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began to trade with the British but saw them as enem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ritish raised prices of traded goods and unlike the French refused to pay Native Americans for the use of their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st of all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ritish settlers began moving into the valleys west of Pennsylvan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ontiac’s War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Chief Pontiac was the leader of an Ottawa village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 near Detroi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He recognized that the British settlers threatened the Native American way of lif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hief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Pontiac formed an alliance of the Shawnee and Delaware tribes to fight the British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pring 1763: They attacked British forts in the Great Lake reg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Summer 1763: The alliance of Native Americans kill settlers in Western PA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 and Virgini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These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raids became known as Pontiac’s War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Battle of Bushy Run- 1763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936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British Colonel Bouquet, on a mission to aid an embattled Fort Pitt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(which had been attacked by Pontiac and his followers),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was himself attacked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25 miles west of Fort Pitt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by Delaware, Shawnee and other Indians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 as part of the growing Pontiac’s Rebellion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The two day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battle was extremely costly for the British, but because of their manpower advantage to start, they were able to outlast the Native Americans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and win the victory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Pontiac would ultimately be forced to surrender (he would be pardoned by the British)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clamation of 176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s a result of Pontiac’s War, and to try to prevent more fighting King George halted English settler’s westward expansion with the Proclamation of 176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clamation of 1763 established the Appalachian Mountains as the temporary western boundary for the colon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gered colonists who were already living in the area, or who had recently purchased land in the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se colonists land claims were now not recogniz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clamation of 1763 created friction between the colonies and Great Bri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ould be one of the factors that led to the American Revolu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368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French and Indian Wa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r that raged in North America from 1754 to 176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art of a larger struggle between France and Engl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known a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ven Years’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North America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Native Americ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dians fough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 the side of the Fre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r began after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glish became alarmed at the Forts being built by the French in the Ohio River Valle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eorge Washing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dered to build a fort called Fort Necess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t “The Forks of the Ohio” (Point State Park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 defend the reg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Fre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ly of 175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rench and their Native American alli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rounded Fort Necessity &amp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rced Washington to surrender it to the Fre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is marked the beginnings of the French &amp; Indian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raddock Marches to Duquesne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ne 175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itish General Edward Braddock sets out from Virgin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about 1,400 red-coated British troops and a smaller number of blue-coated colonial militias including George Washington as one of his a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ddock’s arm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ok several weeks to trek through dense forest to Fort Duquesn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French fort built near the site of Washington’s surrender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rched in columns and rows, and took time out everyday to sit and have 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raddock Marches to Duquesn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ly 9, 175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ve Americ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rio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d French troops ambushed Braddo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his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ench and Native Americans hid behind trees and fired at the bright uniforms of the Brit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ritish confused and frightened could not even see their attac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itish lo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ly loos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arly 1,000 soldiers includ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Commander in Chief General Edwar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addo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British Lose to French and Indians During March to Duquesn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6" descr="braddock"/>
          <p:cNvPicPr/>
          <p:nvPr/>
        </p:nvPicPr>
        <p:blipFill>
          <a:blip r:embed="rId1"/>
          <a:stretch/>
        </p:blipFill>
        <p:spPr>
          <a:xfrm>
            <a:off x="990720" y="731880"/>
            <a:ext cx="71625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French and Indian War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rst years of the war went terrible for the British and their American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ench captured several British fort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ing forts at Lake Ontario and Lake Geo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ve American allies began staging raids on frontier farm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New York to what is now West Virgi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killed settlers, burned farmhouses and crops, and chased many families back to the co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itt Takes Charg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fter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William Pitt comes to power as secretary of state and then as prime minister for Great Britain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tide of the war begins to turn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favor of the British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illiam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Pitt was an outstanding military commander who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knew how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picked skilled leaders &amp; oversaw the war effort from Lond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avoid complaints from the colonist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Pitt decided to have England pay for the war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ever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he ran up a huge deb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ich would lead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more taxes on the colonies after the French and Indian Wa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British Under Pit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itt intend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not only defend British territory in North American, 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 conquer French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o so he sent British troops into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 175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British officers captured Fort Frontenac at Lake Ontario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captured Fort Duquesne (renaming it Fort Pit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Treaty of Pari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56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itish were able to capture the French cities of Quebec and Montre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devastating the French &amp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rcing peace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763: The Treaty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is-England receives Canada and most of France’s lands east of the Mississippi River, England also receives Florida from Frances’ ally, Spain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pain received French  land West of the Mississippi River (the Louisiana Territory) as well as the port of New Orle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nce retained control of some islands in the West In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3:32:55Z</dcterms:created>
  <dc:creator>Mike Kelman</dc:creator>
  <dc:description>The French and Indian War</dc:description>
  <cp:keywords>The French and Indian War</cp:keywords>
  <dc:language>en-US</dc:language>
  <cp:lastModifiedBy>Debes John</cp:lastModifiedBy>
  <dcterms:modified xsi:type="dcterms:W3CDTF">2015-03-30T10:36:05Z</dcterms:modified>
  <cp:revision>24</cp:revision>
  <dc:subject>The French and Indian War</dc:subject>
  <dc:title>The French and Indian War</dc:title>
</cp:coreProperties>
</file>