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343C-4094-4096-869E-EE0061401A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2C48-6691-4FBC-BBF1-0B17224C342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6017-8D6C-46FB-860B-FAB71C063D7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31B7-08EC-4AE3-8B6C-F62EC4F701D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251F-5A98-44A7-88B3-83049A648FE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61E5-9150-4408-B2CD-8BD074C1201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AAA1-9B39-4D81-A16F-4BE45494328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87E5-D462-4BB4-979C-C367D146F14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8E5F-3D50-4F1B-B579-2368B9B8FF8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3C8E-A767-4E2B-81C2-36B35916462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36A9-9181-4E9C-94E6-58B4EE92F4F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23A4-9FBB-4820-B5F5-81469369CE6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8425-7667-4788-971B-09B848AFDDF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F92E-D591-4ECE-8617-B4DA3B696FF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78D4-6A29-45C6-B953-8C749CFA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7097-546F-4EC5-AD34-0F221163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928F-7C67-4BA9-B256-9CB362184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F9AE-84BB-49DD-8783-E1215FA9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4510-58BD-40F4-8765-3EC37E19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8992-07D4-4FBF-A8FB-AA5B747D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AB2D-3DFF-49CB-9F84-555269B8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9983-A5C0-479F-902C-F2F1B483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2916-A01E-4829-9252-A1EC8B54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E636-693F-47CE-9256-2BEC2A6B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46EE-75C3-4109-B22D-380A82A0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5C04-3AF8-4249-99A8-94C2ABF5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6A7F-9B51-4A91-A91C-33DCB595F5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French and Indian W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5" descr="england indian france"/>
          <p:cNvPicPr/>
          <p:nvPr/>
        </p:nvPicPr>
        <p:blipFill>
          <a:blip r:embed="rId1"/>
          <a:stretch/>
        </p:blipFill>
        <p:spPr>
          <a:xfrm>
            <a:off x="1447920" y="914400"/>
            <a:ext cx="6172200" cy="5504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3680" y="-15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e Treaty of Pari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76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The Treaty of Par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arked the end of France as a power in North Ame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ntinent was now divided between Great Britain and Spain with the Mississippi River marking the bound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ative Americans still living on the lands and were not given a section of it by the European agree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98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98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98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98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rouble on the Frontier After the French and Indian Wa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ritish victory over the French was a devastating blow to the Native Americans of the Ohio River val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had lost their French allies and trading part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began to trade with the British but saw them as enem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ritish raised prices of traded goods and unlike the French refused to pay Native Americans for the use of their 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st of all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ritish settlers began moving into the valleys west of Pennsylvani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4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Pontiac’s War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ffff"/>
                </a:solidFill>
                <a:uFillTx/>
                <a:latin typeface="Tahoma"/>
              </a:rPr>
              <a:t>Chief Pontiac was the leader of an Ottawa village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 near Detroit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He recognized that the British settlers threatened the Native American way of life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Chief 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Tahoma"/>
              </a:rPr>
              <a:t>Pontiac formed an alliance of the Shawnee and Delaware tribes to fight the British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Spring 1763: They attacked British forts in the Great Lake region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ffff"/>
                </a:solidFill>
                <a:uFillTx/>
                <a:latin typeface="Tahoma"/>
              </a:rPr>
              <a:t>Summer 1763: The alliance of Native Americans kill settlers in Western PA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 and Virginia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These 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Tahoma"/>
              </a:rPr>
              <a:t>raids became known as Pontiac’s War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e Battle of Bushy Run- 1763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9360" y="9140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ffff"/>
                </a:solidFill>
                <a:uFillTx/>
                <a:latin typeface="Tahoma"/>
              </a:rPr>
              <a:t>British Colonel Bouquet, on a mission to aid an embattled Fort Pitt 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(which had been attacked by Pontiac and his followers), 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Tahoma"/>
              </a:rPr>
              <a:t>was himself attacked 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25 miles west of Fort Pitt 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Tahoma"/>
              </a:rPr>
              <a:t>by Delaware, Shawnee and other Indians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 as part of the growing Pontiac’s Rebellion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The two day 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Tahoma"/>
              </a:rPr>
              <a:t>battle was extremely costly for the British, but because of their manpower advantage to start, they were able to outlast the Native Americans 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and win the victory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Pontiac would ultimately be forced to surrender (he would be pardoned by the British)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roclamation of 176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s a result of Pontiac’s War, and to try to prevent more fighting King George halted English settler’s westward expansion with the Proclamation of 176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oclamation of 1763 established the Appalachian Mountains as the temporary western boundary for the colon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ngered colonists who were already living in the area, or who had recently purchased land in the ar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se colonists land claims were now not recogniz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oclamation of 1763 created friction between the colonies and Great Brit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ould be one of the factors that led to the American Revolu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7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2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7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368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French and Indian War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r that raged in North America from 1754 to 176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part of a larger struggle between France and Engla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known a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even Years’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North America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st Native America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dians fough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n the side of the Fren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ar began after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nglish became alarmed at the Forts being built by the French in the Ohio River Valle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George Washingt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rdered to build a fort called Fort Necess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t “The Forks of the Ohio” (Point State Park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o defend the reg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the Fren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ly of 175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rench and their Native American alli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rounded Fort Necessity &amp;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orced Washington to surrender it to the Fren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is marked the beginnings of the French &amp; Indian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Braddock Marches to Duquesne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June 175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ritish General Edward Braddock sets out from Virgin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ith about 1,400 red-coated British troops and a smaller number of blue-coated colonial militias including George Washington as one of his a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addock’s arm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ook several weeks to trek through dense forest to Fort Duquesn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French fort built near the site of Washington’s surrender)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marched in columns and rows, and took time out everyday to sit and have t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Braddock Marches to Duquesne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July 9, 175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ative America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rrior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nd French troops ambushed Braddoc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his 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rench and Native Americans hid behind trees and fired at the bright uniforms of the Brit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ritish confused and frightened could not even see their attack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ritish los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dly loosing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early 1,000 soldiers includ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ir Commander in Chief General Edwar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raddoc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British Lose to French and Indians During March to Duquesne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Picture 6" descr="braddock"/>
          <p:cNvPicPr/>
          <p:nvPr/>
        </p:nvPicPr>
        <p:blipFill>
          <a:blip r:embed="rId1"/>
          <a:stretch/>
        </p:blipFill>
        <p:spPr>
          <a:xfrm>
            <a:off x="990720" y="731880"/>
            <a:ext cx="716256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French and Indian War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rst years of the war went terrible for the British and their American colon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rench captured several British fort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luding forts at Lake Ontario and Lake Geor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nce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ative American allies began staging raids on frontier farm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rom New York to what is now West Virgi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killed settlers, burned farmhouses and crops, and chased many families back to the co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itt Takes Charg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fter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William Pitt comes to power as secretary of state and then as prime minister for Great Britain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, th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tide of the war begins to turn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 favor of the British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illiam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Pitt was an outstanding military commander who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knew how to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picked skilled leaders &amp; oversaw the war effort from Lond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o avoid complaints from the colonists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Pitt decided to have England pay for the war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ever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he ran up a huge debt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ich would lead to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more taxes on the colonies after the French and Indian Wa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e British Under Pit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itt intende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not only defend British territory in North American, b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o conquer French Can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do so he sent British troops into Can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 1758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the British officers captured Fort Frontenac at Lake Ontario,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captured Fort Duquesne (renaming it Fort Pit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e Treaty of Paris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056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ritish were able to capture the French cities of Quebec and Montre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devastating the French &amp;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rcing peace tal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763: The Treaty of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is-England receives Canada and most of France’s lands east of the Mississippi River, England also receives Florida from Frances’ ally, Spain;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pain received French  land West of the Mississippi River (the Louisiana Territory) as well as the port of New Orlea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rance retained control of some islands in the West Ind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23:32:55Z</dcterms:created>
  <dc:creator>Mike Kelman</dc:creator>
  <dc:description>The French and Indian War</dc:description>
  <cp:keywords>The French and Indian War</cp:keywords>
  <dc:language>en-US</dc:language>
  <cp:lastModifiedBy>Debes John</cp:lastModifiedBy>
  <dcterms:modified xsi:type="dcterms:W3CDTF">2015-03-30T10:36:05Z</dcterms:modified>
  <cp:revision>24</cp:revision>
  <dc:subject>The French and Indian War</dc:subject>
  <dc:title>The French and Indian War</dc:title>
</cp:coreProperties>
</file>