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B8BB-FEFA-42B0-AA07-6579A33A8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BF5-3C5B-4D9A-B53E-B0D8698236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6781-CA17-4868-B9C7-9159160FA9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45C9-05FB-42F5-9FF6-4A5CA285F2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CC1-FB92-464A-9A41-52D4184CC2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ADC-4493-4107-961E-6DEBC7FAAC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88D-1072-4881-B61C-E71539B549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68C-DEF7-4A47-8C61-612B5B44D8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6EF-C3C9-40FC-A776-73A8EFED93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32CF-4D1D-4554-913C-FDDCB97303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955F-5B70-40D7-B3CC-C027C34184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802A-137F-48BE-A176-BF2FB1549C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3A4-FFA4-4BAC-A5DD-6F055FCB4C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B04-C305-4592-AD6A-F685E9AFAB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D04-60FF-46CA-BE50-E2B1BA00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8FE-5CED-48FA-B332-38864E5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089-4D24-4851-9958-C2B3EF7E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3C4-C994-4B16-A008-86D9C0D3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2C8-1116-4C04-A99D-1B7226AF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F25-B188-4606-99D2-4123F56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178-074C-4EFE-85CF-7D5ED62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25A-49A8-4A95-86E4-2CB123A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236-2786-4AAF-87EB-71DB87B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1CA-0201-46DD-AF47-A109837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46-02B2-4AE2-AC9F-9C8F01AE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4DD-73F9-4C87-813B-56703D4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174-F8B6-49C4-A561-F6B98CB52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england indian france"/>
          <p:cNvPicPr/>
          <p:nvPr/>
        </p:nvPicPr>
        <p:blipFill>
          <a:blip r:embed="rId1"/>
          <a:stretch/>
        </p:blipFill>
        <p:spPr>
          <a:xfrm>
            <a:off x="1447920" y="914400"/>
            <a:ext cx="6172200" cy="550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3680" y="-15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Treaty of Par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rked the end of France as a power in North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tinent was now divided between Great Britain and Spain with the Mississippi River marking the bound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s still living on the lands and were not given a section of it by the European agre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ouble on the Frontier After the French and Indian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victory over the French was a devastating blow to the Native Americans of the Ohio River val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d lost their French allies and trading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began to trade with the British but saw them as ene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itish raised prices of traded goods and unlike the French refused to pay Native Americans for the use of their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st of all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itish settlers began moving into the valleys west of Pennsylva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ontiac’s War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Chief Pontiac was the leader of an Ottawa village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near Detroi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He recognized that the British settlers threatened the Native American way of lif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hief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Pontiac formed an alliance of the Shawnee and Delaware tribes to fight the British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pring 1763: They attacked British forts in the Great Lake reg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Summer 1763: The alliance of Native Americans kill settlers in Western PA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nd Virgin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se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raids became known as Pontiac’s War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attle of Bushy Run- 1763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936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ritish Colonel Bouquet, on a mission to aid an embattled Fort Pitt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(which had been attacked by Pontiac and his followers),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was himself attacked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25 miles west of Fort Pitt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y Delaware, Shawnee and other Indians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 as part of the growing Pontiac’s Rebell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The two day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battle was extremely costly for the British, but because of their manpower advantage to start, they were able to outlast the Native Americans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nd win the victory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ontiac would ultimately be forced to surrender (he would be pardoned by the British)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clamation of 176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s a result of Pontiac’s War, and to try to prevent more fighting King George halted English settler’s westward expansion with the Proclamation of 176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established the Appalachian Mountains as the temporary western boundary for the col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gered colonists who were already living in the area, or who had recently purchased land in th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se colonists land claims were now not recogniz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lamation of 1763 created friction between the colonies and Great Bri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ould be one of the factors that led to the American Revolu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rench and Indian Wa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 that raged in North America from 1754 to 176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art of a larger struggle between France and Engl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known 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ven Years’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North America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Native Americ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ians fou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 the side of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r began afte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glish became alarmed at the Forts being built by the French in the Ohio River Vall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orge Washing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dered to build a fort called Fort Necess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 “The Forks of the Ohio” (Point State Park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defend the reg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ly of 175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nch and their Native American alli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rounded Fort Necessity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ced Washington to surrender it to the Fre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is marked the beginnings of the French &amp; Indi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ne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General Edward Braddock sets out from Virgi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about 1,400 red-coated British troops and a smaller number of blue-coated colonial militias including George Washington as one of his a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ddock’s ar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ok several weeks to trek through dense forest to Fort Duques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rench fort built near the site of Washington’s surrender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rched in columns and rows, and took time out everyday to sit and have 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addock Marches to Duquesn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ly 9, 175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rio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d French troops ambushed 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his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ench and Native Americans hid behind trees and fired at the bright uniforms of the Brit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itish confused and frightened could not even see their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l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ly loo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arly 1,000 soldiers includ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mmander in Chief General Edwar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add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British Lose to French and Indians During March to Duquesn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braddock"/>
          <p:cNvPicPr/>
          <p:nvPr/>
        </p:nvPicPr>
        <p:blipFill>
          <a:blip r:embed="rId1"/>
          <a:stretch/>
        </p:blipFill>
        <p:spPr>
          <a:xfrm>
            <a:off x="990720" y="731880"/>
            <a:ext cx="71625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French and Indian War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rst years of the war went terrible for the British and their American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nch captured several British for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ing forts at Lake Ontario and Lake Geo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 American allies began staging raids on frontier far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New York to what is now West Virgi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killed settlers, burned farmhouses and crops, and chased many families back to the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itt Takes Char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ft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William Pitt comes to power as secretary of state and then as prime minister for Great Britai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ide of the war begins to turn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favor of the British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lliam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was an outstanding military commander wh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knew how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cked skilled leaders &amp; oversaw the war effort from Lond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avoid complaints from the colonist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itt decided to have England pay for the war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ever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he ran up a huge deb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ich would lead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ore taxes on the colonies after the French and Indian W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ritish Under Pit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itt inten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not only defend British territory in North American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 conquer French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o so he sent British troops into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175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British officers captured Fort Frontenac at Lake Ontario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aptured Fort Duquesne (renaming it Fort Pi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reaty of Pari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6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itish were able to capture the French cities of Quebec and Mont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evastating the French 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cing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763: The Treaty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is-England receives Canada and most of France’s lands east of the Mississippi River, England also receives Florida from Frances’ ally, Spain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ain received French  land West of the Mississippi River (the Louisiana Territory) as well as the port of New Orl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nce retained control of some islands in the West In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3:32:55Z</dcterms:created>
  <dc:creator>Mike Kelman</dc:creator>
  <dc:description>The French and Indian War</dc:description>
  <cp:keywords>The French and Indian War</cp:keywords>
  <dc:language>en-US</dc:language>
  <cp:lastModifiedBy>Debes John</cp:lastModifiedBy>
  <dcterms:modified xsi:type="dcterms:W3CDTF">2015-03-30T10:36:05Z</dcterms:modified>
  <cp:revision>24</cp:revision>
  <dc:subject>The French and Indian War</dc:subject>
  <dc:title>The French and Indian War</dc:title>
</cp:coreProperties>
</file>