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8E958-FB7D-4EDC-8F5E-2B086A4CF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CBC1E-DAE8-40D0-A24E-146664281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E2299-DCE0-4773-969D-36F879B18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75FEF-3543-4EE8-8669-D50806DD7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F02EA-170A-4E99-825B-D899F8AA8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E1AB3-CDC5-4DDF-B5AF-59853F89F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DA919-914F-4189-8D49-DA77C3C4F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1ADC0-A094-4018-A59C-ECA46A8E0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3CEB5-EE61-4C02-932F-1D817DF3E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1FCC5-0072-414D-84B1-BB461CA67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F548B-9405-4251-8DFD-A37CA2587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98B97-A80E-47A6-B57C-A2E356790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CE883-0434-44B0-A6D1-A44FAA10D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9D4F4-7B4E-424E-B8E8-5E1ADCFF4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F953C-91BB-4EE3-A5AA-3AFE82075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86C81-42FA-48AA-ABB4-2E768C33B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AF255-74E4-45D0-AD64-F0AC22137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37630-BE63-4AA3-8AEC-40AE99FD3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3C16A-1A45-4AAD-A219-1890B23DC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3528D-AC66-4739-9CF7-B59845265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379BC-6060-470F-B972-D062B3F5C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4C3B-7959-4D43-BE8E-0A18E9C2B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4EA06-11CE-4333-BE33-24AB0B876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27E6D-2DCE-4E81-B9EB-65D6D4DDB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E766-BD69-4618-BE25-BDEFF8C493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D427-C51A-4ACD-BC1C-E2D192207A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22856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gress’ Non-legislative Powers</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vestigatory Power</a:t>
            </a:r>
            <a:endParaRPr b="0" lang="en-US" sz="4400" spc="-1" strike="noStrike">
              <a:solidFill>
                <a:srgbClr val="00ffff"/>
              </a:solidFill>
              <a:latin typeface="Times New Roman"/>
            </a:endParaRPr>
          </a:p>
        </p:txBody>
      </p:sp>
      <p:sp>
        <p:nvSpPr>
          <p:cNvPr id="165" name="PlaceHolder 2"/>
          <p:cNvSpPr>
            <a:spLocks noGrp="1"/>
          </p:cNvSpPr>
          <p:nvPr>
            <p:ph/>
          </p:nvPr>
        </p:nvSpPr>
        <p:spPr>
          <a:xfrm>
            <a:off x="914400" y="914400"/>
            <a:ext cx="8229600" cy="4114800"/>
          </a:xfrm>
          <a:prstGeom prst="rect">
            <a:avLst/>
          </a:prstGeom>
          <a:noFill/>
          <a:ln w="0">
            <a:noFill/>
          </a:ln>
        </p:spPr>
        <p:txBody>
          <a:bodyPr anchor="t">
            <a:normAutofit fontScale="83000"/>
          </a:bodyPr>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holds the power to investigate matters related to its legislative powers</a:t>
            </a:r>
            <a:endParaRPr b="0" lang="en-US" sz="3100" spc="-1" strike="noStrike">
              <a:solidFill>
                <a:srgbClr val="ffffff"/>
              </a:solidFill>
              <a:latin typeface="Times New Roman"/>
            </a:endParaRPr>
          </a:p>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may choose to conduct an investigation for five reason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gather information useful to Congres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oversee operations of the executive branch</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focus public attention on an issue</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expose questionable activities of public official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promote the interests of some members of Congres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85" dur="500"/>
                                        <p:tgtEl>
                                          <p:spTgt spid="165">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90" dur="500"/>
                                        <p:tgtEl>
                                          <p:spTgt spid="165">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95" dur="500"/>
                                        <p:tgtEl>
                                          <p:spTgt spid="16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100" dur="500"/>
                                        <p:tgtEl>
                                          <p:spTgt spid="16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105" dur="500"/>
                                        <p:tgtEl>
                                          <p:spTgt spid="165">
                                            <p:txEl>
                                              <p:pRg st="4" end="4"/>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65">
                                            <p:txEl>
                                              <p:pRg st="5" end="5"/>
                                            </p:txEl>
                                          </p:spTgt>
                                        </p:tgtEl>
                                        <p:attrNameLst>
                                          <p:attrName>style.visibility</p:attrName>
                                        </p:attrNameLst>
                                      </p:cBhvr>
                                      <p:to>
                                        <p:strVal val="visible"/>
                                      </p:to>
                                    </p:set>
                                    <p:animEffect filter="blinds(horizontal)" transition="in">
                                      <p:cBhvr additive="repl">
                                        <p:cTn id="110" dur="500"/>
                                        <p:tgtEl>
                                          <p:spTgt spid="165">
                                            <p:txEl>
                                              <p:pRg st="5" end="5"/>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65">
                                            <p:txEl>
                                              <p:pRg st="6" end="6"/>
                                            </p:txEl>
                                          </p:spTgt>
                                        </p:tgtEl>
                                        <p:attrNameLst>
                                          <p:attrName>style.visibility</p:attrName>
                                        </p:attrNameLst>
                                      </p:cBhvr>
                                      <p:to>
                                        <p:strVal val="visible"/>
                                      </p:to>
                                    </p:set>
                                    <p:animEffect filter="blinds(horizontal)" transition="in">
                                      <p:cBhvr additive="repl">
                                        <p:cTn id="115"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stitutional Amendments</a:t>
            </a:r>
            <a:endParaRPr b="0" lang="en-US" sz="4400" spc="-1" strike="noStrike">
              <a:solidFill>
                <a:srgbClr val="00ffff"/>
              </a:solidFill>
              <a:latin typeface="Times New Roman"/>
            </a:endParaRPr>
          </a:p>
        </p:txBody>
      </p:sp>
      <p:sp>
        <p:nvSpPr>
          <p:cNvPr id="149" name="PlaceHolder 2"/>
          <p:cNvSpPr>
            <a:spLocks noGrp="1"/>
          </p:cNvSpPr>
          <p:nvPr>
            <p:ph/>
          </p:nvPr>
        </p:nvSpPr>
        <p:spPr>
          <a:xfrm>
            <a:off x="1170000" y="914400"/>
            <a:ext cx="77724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has the power to propose amendments to the Constitution by a two-thirds vote in each hou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33 tim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may call a national convention at the request of two-thirds of the States’ legislatures to propose an amend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NEVER occur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7" dur="500"/>
                                        <p:tgtEl>
                                          <p:spTgt spid="1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12" dur="500"/>
                                        <p:tgtEl>
                                          <p:spTgt spid="14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17" dur="500"/>
                                        <p:tgtEl>
                                          <p:spTgt spid="14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22"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lectoral Duties</a:t>
            </a:r>
            <a:endParaRPr b="0" lang="en-US" sz="4400" spc="-1" strike="noStrike">
              <a:solidFill>
                <a:srgbClr val="00ffff"/>
              </a:solidFill>
              <a:latin typeface="Times New Roman"/>
            </a:endParaRPr>
          </a:p>
        </p:txBody>
      </p:sp>
      <p:sp>
        <p:nvSpPr>
          <p:cNvPr id="151" name="PlaceHolder 2"/>
          <p:cNvSpPr>
            <a:spLocks noGrp="1"/>
          </p:cNvSpPr>
          <p:nvPr>
            <p:ph/>
          </p:nvPr>
        </p:nvSpPr>
        <p:spPr>
          <a:xfrm>
            <a:off x="914400" y="914400"/>
            <a:ext cx="82296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may be called on to elect the President if no one receives a majority of electoral vo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twice: 1801 &amp; 1825; it is unlikely to ever happen again, due to the strength of America’s 2 main political parties AND because the electoral college has become a “rubber stamp”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 the same circumstances, the Senate may be called on to elect the Vice Presid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only happened once: 183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39" dur="500"/>
                                        <p:tgtEl>
                                          <p:spTgt spid="151">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44"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eachment</a:t>
            </a:r>
            <a:endParaRPr b="0" lang="en-US" sz="4400" spc="-1" strike="noStrike">
              <a:solidFill>
                <a:srgbClr val="00ffff"/>
              </a:solidFill>
              <a:latin typeface="Times New Roman"/>
            </a:endParaRPr>
          </a:p>
        </p:txBody>
      </p:sp>
      <p:sp>
        <p:nvSpPr>
          <p:cNvPr id="153" name="PlaceHolder 2"/>
          <p:cNvSpPr>
            <a:spLocks noGrp="1"/>
          </p:cNvSpPr>
          <p:nvPr>
            <p:ph/>
          </p:nvPr>
        </p:nvSpPr>
        <p:spPr>
          <a:xfrm>
            <a:off x="914400" y="914400"/>
            <a:ext cx="8229600" cy="4114800"/>
          </a:xfrm>
          <a:prstGeom prst="rect">
            <a:avLst/>
          </a:prstGeom>
          <a:noFill/>
          <a:ln w="0">
            <a:noFill/>
          </a:ln>
        </p:spPr>
        <p:txBody>
          <a:bodyPr anchor="t">
            <a:normAutofit fontScale="80000"/>
          </a:bodyPr>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House has the sole power to vote articles of impeachment, or removal, of the President, Vice President, and all other civil officers of the United States</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There have been only 17 cases of the House impeaching officials; 2 of those were Presidents: Andrew Johnson (1868) &amp; Bill Clinton (1998)</a:t>
            </a:r>
            <a:endParaRPr b="0" lang="en-US" sz="3100" spc="-1" strike="noStrike">
              <a:solidFill>
                <a:srgbClr val="ffffff"/>
              </a:solidFill>
              <a:latin typeface="Times New Roman"/>
            </a:endParaRPr>
          </a:p>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Senate has sole power to conduct a trial of those impeached by the House</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Only 7 people have been found guilty &amp; removed from office (all federal judge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51" dur="500"/>
                                        <p:tgtEl>
                                          <p:spTgt spid="153">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56" dur="500"/>
                                        <p:tgtEl>
                                          <p:spTgt spid="153">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61" dur="500"/>
                                        <p:tgtEl>
                                          <p:spTgt spid="153">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66"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a:t>
            </a:r>
            <a:endParaRPr b="0" lang="en-US" sz="4400" spc="-1" strike="noStrike">
              <a:solidFill>
                <a:srgbClr val="00ffff"/>
              </a:solidFill>
              <a:latin typeface="Times New Roman"/>
            </a:endParaRPr>
          </a:p>
        </p:txBody>
      </p:sp>
      <p:sp>
        <p:nvSpPr>
          <p:cNvPr id="155"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ivil War, the Republican party controlled both houses of Congress &amp; President Johnson disagreed with these “Radical” Republicans about how the southern states should be treated</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Johnson wanted to welcome the southern states back into the Union, while the Radical Republicans wanted to punish them for trying to secede</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President Johnson failed to enforce a law that Congress had passed, matters came to a he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 cont</a:t>
            </a:r>
            <a:endParaRPr b="0" lang="en-US" sz="4400" spc="-1" strike="noStrike">
              <a:solidFill>
                <a:srgbClr val="00ffff"/>
              </a:solidFill>
              <a:latin typeface="Times New Roman"/>
            </a:endParaRPr>
          </a:p>
        </p:txBody>
      </p:sp>
      <p:sp>
        <p:nvSpPr>
          <p:cNvPr id="157"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Johnson because he failed to enforce a law passed by Congress, which was a violation of his duties as President</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mpeachment, however, is looked upon by most historians as political revenge, rather than a legitimate “high crime and misdemeanor” as called for by the Constitution</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hnson was not removed from office, however-the Senate vote was 1 short of the required 2/3 vote nee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59" name=""/>
          <p:cNvSpPr txBox="1"/>
          <p:nvPr/>
        </p:nvSpPr>
        <p:spPr>
          <a:xfrm>
            <a:off x="990720" y="762120"/>
            <a:ext cx="8153280" cy="4114800"/>
          </a:xfrm>
          <a:prstGeom prst="rect">
            <a:avLst/>
          </a:prstGeom>
          <a:noFill/>
          <a:ln w="0">
            <a:noFill/>
          </a:ln>
        </p:spPr>
        <p:txBody>
          <a:bodyPr anchor="t">
            <a:normAutofit fontScale="86000"/>
          </a:bodyPr>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Clinton was impeached in 1998 by a House that was controlled by the Republican party</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Clinton on 2 counts: perjury and obstruction of justice (both came about when he withheld information about an affair he had with an intern)</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nents of this impeachment argued that while what the President had done was wrong, they did not warrant being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61" name=""/>
          <p:cNvSpPr txBox="1"/>
          <p:nvPr/>
        </p:nvSpPr>
        <p:spPr>
          <a:xfrm>
            <a:off x="990720" y="762120"/>
            <a:ext cx="815328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nton was acquitted on all charges on February 12, 1999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the Senate was also controlled by the Republicans, only 45 voted to convict Clinton on the perjury charge, and only 50 voted to convict Clinton on the obstruction of justice charge (67 votes were needed to convict on each char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xecutive Powers</a:t>
            </a:r>
            <a:endParaRPr b="0" lang="en-US" sz="4400" spc="-1" strike="noStrike">
              <a:solidFill>
                <a:srgbClr val="00ffff"/>
              </a:solidFill>
              <a:latin typeface="Times New Roman"/>
            </a:endParaRPr>
          </a:p>
        </p:txBody>
      </p:sp>
      <p:sp>
        <p:nvSpPr>
          <p:cNvPr id="163" name="PlaceHolder 2"/>
          <p:cNvSpPr>
            <a:spLocks noGrp="1"/>
          </p:cNvSpPr>
          <p:nvPr>
            <p:ph/>
          </p:nvPr>
        </p:nvSpPr>
        <p:spPr>
          <a:xfrm>
            <a:off x="1170000" y="91440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major appointments made by the President (including Federal judges and members of the President’s Cabine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treaties made by the Presi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73" dur="500"/>
                                        <p:tgtEl>
                                          <p:spTgt spid="163">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78"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7:48:48Z</dcterms:created>
  <dc:creator>Steven W. Shockley</dc:creator>
  <dc:description/>
  <dc:language>en-US</dc:language>
  <cp:lastModifiedBy>Debes John</cp:lastModifiedBy>
  <dcterms:modified xsi:type="dcterms:W3CDTF">2015-04-20T10:52:34Z</dcterms:modified>
  <cp:revision>29</cp:revision>
  <dc:subject/>
  <dc:title>The Powers of Congress</dc:title>
</cp:coreProperties>
</file>