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wind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3801-6104-4C04-BDF6-86A89D936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206-233F-4FA6-B950-2D54C2F6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753-2986-4D19-818A-EA6B47A9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41B-D332-40E8-857C-BB3E849D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21E2-6E47-4573-A88D-D79AAAB9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A54-5FB6-43D4-BFC5-81B7EA63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DB6-2920-4A29-83F8-E541D90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F9F6F-BBEB-424F-89C9-051BE0D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5721E-D08F-49A8-8275-C8B7B7C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1B4DE-803C-446F-A521-9CF56ED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74CC6-CEA2-46FB-8C6F-264371A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4B3C-8B9D-40F9-8D7B-131540A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7A12D-E2BD-4877-9B45-A3A32FB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FE2E-3E28-437E-A18C-A210A2BF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EE075-099E-4546-AEE1-1B97D56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2E7ED-F756-4B3D-9E2E-2501665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B8B90-CB8D-4965-B65F-809F275B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CB8-CEAF-4B91-980C-ABC1C20C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81A76-72A4-4B55-98C5-85EA315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CEB5C-C6D2-4E3E-B9C0-F4CBD33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4F1EB-0E67-4E5C-9EA3-00AB164B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EE86-C6AE-4F8F-9326-AF2CF58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25223-C11E-468B-BAD9-4F4CF64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6C7B0-4212-4C46-A6E1-B6C7DF3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F8AE0-613A-4DB7-BF56-5596B41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81E0-C6D0-41B4-8D21-C8BC06D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ADE55-CEBE-4DCB-9B6B-4087837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52081-DC60-4FA4-9FF9-035AEA4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59D-3804-4E00-A366-C5C6E0F3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F5D91-BBE2-4EA7-9331-498FC833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E2EA6-CBBF-40E3-878B-BA777C1F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5618A-222C-4A8D-A697-73EEA50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80BC-000A-4A2F-926D-6B8C147E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3095E-3710-4277-8FD6-B929A855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59F23-434A-42AA-90FD-A07E078C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AE42-8EFC-48D4-B16B-952C803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E8E3D-A990-4CE0-AF19-F949A73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5E74A-ECDF-4ADA-8EE7-D7F81EF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ED5EB-AA7F-4FB3-B6C3-BCCB8ED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6F80-7887-4C23-86D5-C7E8E8E9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DD1A7-9E04-4AB5-B60B-E2075F7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87A28-44ED-4833-91B5-EAD18DAF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06FA4-3ABF-4B3F-8CF2-9591A930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BB357B-876B-4823-8E3D-D0638F18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2F6308-BCC2-4BB0-A2C0-19F67B6B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75D784-9EB5-4BB0-B95E-44E2FA81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839441-5E25-430B-8631-6B9B6A4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D6AA68-F07B-426B-83F4-0B168EA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904D2-25DA-46C7-BE5A-0F33B31A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D92C7A-1B16-4EF6-BB98-640984A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17A-32E5-4E6C-B525-98479105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4F3AFD-CEE3-481A-89D4-43BDAD6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CD00AD-36D9-44EE-8977-EB32F100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969F67-E50B-46E2-8490-A4134804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8300AB-B9A9-472E-9C31-F22E459C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CB277B-7611-477D-A57E-A1C525C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44C39-1AB0-48E7-B5B1-ADD33BF1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DACF0-8BBF-4326-8316-3D03BA1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8C917-67AE-4DFE-ACF7-FC94527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86CDC-AC61-47DF-B16B-CD622F59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C7F36-F0BF-4AB6-9F19-9E550D03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2E8-DF86-4D59-A3EC-D9EDBF1D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57E6A-5A90-4C5A-9344-3B92D01D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7A5A2-0814-4D42-9AAB-4831672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9AE66-C12A-4FC7-8B5E-3AF51762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3C5B4-889E-4621-B79A-2E0C5470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DB672-3813-4B6A-923D-54BFB320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57240-4FE0-4480-BAFA-A70A6FF8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DCA07-58EF-4E55-8A69-E08923A1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514EB-FFA7-4242-A37A-B81D5232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A8648-DBFC-4217-8C14-4219A09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417AB-69FB-43EA-B040-FE488D82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3CB-F350-4CC6-AEDA-969F04F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279F4-F8E3-419E-915F-FD8E495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8482C-F1F2-490F-8374-6AC8334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BCC15-2683-4BE0-8006-933CA9A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5A568-E0E3-4041-B045-BAC507B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94E29-743D-4E43-BC67-C13C3C0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B1AB0-6E52-437C-A046-A185D48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53C14-C0BC-481E-B994-DE84EF1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F5A0F-F2F4-497B-A916-D4713091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02024-39F8-44B8-9371-9D5E085A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03FD6-BA9B-4F21-87D5-44B38EF9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7636-4558-45F3-9DC7-EDE43315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BEC81-EF4B-4D40-8115-7BF27E65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5C78C-A96D-4999-B3A7-14B3FA3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EC673-D6F4-491C-83A9-3C4E7076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C9972-D76D-4341-9C36-81903A4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5D198-736C-447A-9D4B-3D3D0D4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3FDA6-725A-4F3B-844F-575D8D6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14D3E-9A99-49F0-809F-A551D97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85BA3-5759-4786-9F62-C19097D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7D13F-7569-4A9C-83D4-A3CB852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39BE8-25A9-464C-9543-92E25945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148A-C49E-43B0-9AC2-41B2E1E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B61AD-F9FF-469D-B604-873412B2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850FD-5D02-4548-BCC5-7F4C270E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2C92C-CB84-4BC5-9AB1-DAAA4F8C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427E1-867B-42BC-B2FF-ED4E194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AFB05-595C-4B5C-A920-0674F6EE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F68F4-37FB-4CF4-8917-D1162E3F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7D3E2-8F4A-42A1-A983-A5A5BFC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7711E-0FA6-4EE4-8C32-29FC652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28CBC-5078-4AC9-AEA5-247EF1B9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28DF0-9E9E-49B9-9E88-15A687C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F6B-2FCD-4690-A570-C3B27BD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2FC85-4574-4409-8385-0C7AB8B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E364D-D6A2-498F-8106-EE163AF7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6BE89-8821-4B7E-BBA9-EE884673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F1C73-59D5-47CC-814F-ED9F1AB9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F500D-3829-4CA3-82E8-B2D0A058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8D552-E207-4CAF-A8EC-43FC485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9B6EE-ABED-4F76-B917-2EB30AC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18422-8626-4CD5-AE37-B2D2F0B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C7A77-6088-4B8B-AAD5-18695EC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9967E-C73A-4593-87E0-6206F45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F98-9C0D-4D35-BAD0-FFC7C6F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1374-34EF-4A6C-AF35-B23C1C7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32ECC-1C88-4533-80E2-224BA36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E08BE-DA36-4FB9-A4BC-EB38F61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C1B42-9560-43BA-8CFB-107858CC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BA589-E2AA-4168-90A0-67C2C4AD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AF3E1-0D4A-4265-8002-902A025F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75A60-15A3-418B-BFDA-B9A87AB1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C46FF-3941-4680-9C5F-08FC5CB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A4123-D584-4611-AA2F-7CAD708E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98501-4663-4C10-84A2-F0ECD6FC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47B4B-3FBE-4578-944C-52CDED1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187C-D8C1-4531-B88C-8BEF534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015BE-0329-4C5A-B633-D8B09FB0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30C74-CE53-41A7-99F4-0985DF3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27437-ED0C-4227-A116-02B0D3B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4F6F8-7356-4F7F-BB26-13EDFB0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B2F68-DB6F-4B6F-A89F-5F3954C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69553-24F2-4FEE-B832-777622C1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B423D-0391-4350-B157-B8166BAA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E8A83-88D8-4222-B97D-3DB15F25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263DE-CCF7-4E6F-BFA8-B7278ACA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5D7DB-7903-41A3-95A1-C96F494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9B6E-04DF-4F6A-B1D5-37D1417A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C88A6-73B6-4D72-BD63-A346219B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D0D07-3CBC-434D-B52B-177F85A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DE6AE-DAF3-454A-AA8B-8BEB8CA0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4857D-7A9D-4314-B281-E5781A9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FD8D4-FA35-4683-B65C-E825CC2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1BA10-FB02-4F52-AB91-9CA480A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CDF43-D89A-47DB-A1D2-CAF8D037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593C1-B264-48C8-A15B-618D3A59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4F245-AE1E-4CC9-A639-ECD8F563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F3622-9AD6-4179-BDAA-5388AAC3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A709-816B-4A65-A2F6-78C7D8E2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5A14E-6620-4B94-97BA-E747D9B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DB250-AF17-4E16-8E46-66515A27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76A77-D21E-4F1B-BBE3-56F5F99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3F466-D45E-402B-BC9A-3FB7C72E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F145A-AD67-446F-8FC1-DD06AB91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4695F-390D-4A34-BC7E-0428C2B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BB038-32CD-45BC-8BEC-753648EF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75D07-9524-412A-A534-392C17F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19A12-0E35-4F17-969F-761E2F7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9B42F-761C-49CF-B887-3D5F70BC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06DF-CC50-4B0D-839B-9095832A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4B418-2637-4B52-A921-7D6D65A5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9F2DF-E349-43F5-8048-9BFE6D03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B8598-EB4A-449D-9A94-3B3E6E0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82A10-09F9-4578-874D-A6FDF9D0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A247E-D200-4B56-875C-DDB74C8C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7CD2F-75CD-446F-977A-0A73FFEE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8703D-4F5C-433D-8AB7-6A1CD2D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3894B-9D6C-4AA5-A86E-120DF45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F8C17-9D75-40E5-8DEF-5AF299B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0871B-68FD-464F-9EFA-867215D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58DA-201E-4CF3-BF2A-F04867F5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514B8-6ADF-4F8D-BF9E-D4FACF4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3946B-3A7E-47A3-B351-5768037F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70E38-7E80-4E58-B573-C7E6F968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8E7CAB-017F-4858-BA42-269F1072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B6D20-4F80-46F6-92D5-151D850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CD3AE-B2A3-4178-A995-17EB19C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10753-490E-49C4-B424-C70AD62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9DE5E2-A9CF-470B-BCBD-EE2A7C39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80850-3FC2-4117-AD24-4BB5FE8D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479AFE-338A-4E97-9F7A-CA6B584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1560-3BC8-4561-8535-5BC5662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2176A2-A76C-4E0E-B754-5554A1B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0E28B4-109A-4581-8977-B606D81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8A547-448E-4493-9CC5-E033ECD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7DB89-2CDF-450A-B9A6-4DFDDADD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45F9B-39E9-4490-AC3A-09E59497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CF84F-A5D5-472E-967A-B0788D1D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14CE2-FD40-4B76-AA84-1A6E8D7B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E2BFA-39E0-47B5-BD0B-0E235B3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34C92-F4B0-4D95-AFB5-563FB47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4E29C-A125-44FE-9652-17D1D5D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E821-8330-4442-8A1D-9BAD9211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53CAA-A6AF-47B2-9314-BC5617C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7F54D-AF76-4307-9440-7FA8EF1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26A501-CB8E-4169-A608-7183F01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E3BD8-0AA3-4983-8E4E-54840F2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77F84-120C-4D73-9E59-FED172CE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8EDC7-428B-40B0-AB65-51B801A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347B23-9A2F-4D37-AB38-A58A941C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6FC93-96B8-494D-B709-A333542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02679-15E0-4512-9D1B-D74700E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177EB4-BE9C-4A8A-90C1-E6CB8D8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37D2-3A2C-431D-AFB7-3567329B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D46854-9AAC-4CCC-8EF6-04366DDD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CE7A66-4AAB-4956-8A0C-9134DAC2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FF7D6F-5F65-472C-8CB2-D21036B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773F81-85C3-4036-8DE1-79C7281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4341C4-790A-461E-B4B9-07A900E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5EAB3-05B0-4747-888B-B22EB62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B53C7-ABD9-425B-B0D8-CE65BDB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7758D5-E819-4F1A-B455-B00EF85A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8B59F7-B3D1-484B-B55D-90553694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1109FE-8CA4-42DE-94DC-8591D8AA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497C-5BA7-48A2-A9D8-7BDC60F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9425F-8E2C-494B-8C7F-E187064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A23EDD-5523-42DD-A2A1-6D141306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AFC862-3559-4466-B718-52285B2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2BDD79-638A-4347-8F05-0FAA5FF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442A2-5D85-4F92-AADC-5021814B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A37A7-565C-448D-A382-0797D8D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803A45-7911-4790-91F8-3B23871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2183B1-C9FD-4941-B1DD-BC66B88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62CEB-2832-4FFF-B2B5-A59EB361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19356-E17C-4448-A45C-6FE0757A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8C8-1469-4A2C-9C88-5E761927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5E11-2517-4DD7-A265-51294D9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564BDF-0ED3-4CA0-8A98-C43D00AB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A40C43-E491-4D46-BDC6-970F98B2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50ED67-F252-4FDA-B351-FC9F956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149263-D603-4B23-89B8-E6C7C67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D200B6-ECF2-4123-A76D-D4DFF43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15E6AB-BD97-4AF3-BAE8-E1581E1F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942A1D-1286-4F88-A676-BFB79F1B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10F11C-F441-4A90-A228-A6C18E19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973A75-0D39-4927-93A2-F619214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A88775-72B9-43E3-BB77-811DC9E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FE53-3333-4E47-AC52-5A87D35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7E7EB2-B02F-4342-9C0B-FDE29B5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7CF6E7-DD41-4854-B2F7-3BFA64E4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176727-1FA4-427F-9F80-3DF71FAF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6241AF-D0AD-4B30-8CA3-E0DF81A2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0A9C0D-6064-47DA-9351-C403C73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38E37E-858E-40E8-A65D-0F333C7E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4B44E5-05E8-44B6-839D-211DBB6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6B37D-EC02-4406-85B5-6A4B87E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D354FA-F467-4F10-A681-4B2C7787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A761EC-5019-43D2-8BDF-E7035A7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A585-3670-40A1-8186-B17F042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5D61D-582E-4981-886B-3C122E2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67D57A-CF2F-4D58-9A05-4E8F7E8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ED48A5-206E-449F-9706-EB664EA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56B0A-D87E-40F3-AB79-946482F4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2E205-E4AB-4A6D-A1B9-08A79665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64A448-77D5-41B7-8F9A-B88689E4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56AE9D-59FA-4BC6-8120-FF5DAABA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E64868-B6BF-47D3-B47A-EEDE0C61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9CEDBB-95BA-4F8D-A3D0-3942E9B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9DA064-3F86-4340-9F14-A5F4E06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2024-F03A-48CB-B428-B9EF164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12E183-0072-4BC3-943F-2B1F0C7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6A3872-B5BF-48B1-8522-FAD4BF9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02C64E-8AB1-4049-AEB0-2F0E38E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7B5FC3-0346-4760-83D8-22F23C5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C17DC4-B833-4053-A5FC-C453B56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49D19A-CCB5-49F6-BB19-38F117B3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9A604E-9DB2-48D5-9D88-15CE7A0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28AB32-FEFF-4CBB-8317-85692E41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A2D039-F1B7-4A20-97B0-A40C6006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ADBED0-E090-4A28-A1C1-62772D4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6986-9407-42BF-B25F-4CB5BFC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22D938-07F8-44F8-B184-B72F0A70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5CFE38-0C80-4892-A813-22C6F82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67403D-1F00-48E5-892A-67C6665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EE5A2C-935E-4A86-9E5C-FD78AC50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6297EA-A7C6-4195-B56C-E9CF3B8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FB8C0-0D38-47D1-90C3-1B618FA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A22388-FEFF-4039-8449-8B94808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FFF9A-A30C-4DC8-9719-546B3D55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7550E4-D936-4426-A198-6ACA84FB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0C46C0-2A26-453C-B491-877242D1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FA2A-11DE-402B-B65A-5772D850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826C60-BC99-4437-A3DE-EBB674C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768C5A-8EBB-4073-B003-EAE5EBC9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A4DC29-3FE9-42AB-93EB-31A69271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4DEC91-F5BF-42DF-97B8-678EF10A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F924D0-7E18-4EFE-BA5F-9449B03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D181A-7D40-481E-815D-85693F9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CD75C1-48C2-4798-AD88-5790F2D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8A0080-8C19-4AA6-A9C7-F2A10B1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C429EA-07BD-4B3F-A9C8-8130394C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0EB543-B768-4083-A88A-9E0C81FA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DBDA1-485C-4798-B6A2-1B9BAB28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450A28-E322-46B0-BC33-134FF85A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DE05C7-7A66-4202-AD70-21AD2669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7D4FEE-0BD9-4D68-94AC-A0C308FF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3AFFD9-5A65-42EF-B59C-3801D06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F5561F-EAC1-409C-AB83-9494FE59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A19523-376B-4E03-BA6C-0257050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1709EF-E379-4F27-8579-0AF98E29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B15D4A-C4B1-44C1-8D21-0E4B2BA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8E45E0-2273-47CF-9C29-42F8AA1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3B5141-7474-4EEA-BA2A-FFE7552E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8C7D-61A5-427B-BD78-4226C32B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ABBE05-32AA-4930-AC1B-46BD3FF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32460B-2273-4435-977F-178F5A58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4DDA96-0360-4CC7-A953-60642877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0AD202-3B07-4A65-BD96-93A8D921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5AC19D-8525-4038-AA4F-67A5DDB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0128B4-A775-48A2-9C3F-8D6B0A6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0F57FE-0733-4CE9-9BA1-204F18F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DBCA3A-ED48-45FC-ADA8-254DDFD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2D57FE-A23D-4B8D-B1B0-B42B8EE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8DE6E9-AC24-44D6-9AD1-B1FA05B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1CFA-A3CB-4C19-B2F9-5E125D0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60BF0F-67C4-43B5-B09A-D04E5C7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9F3875-FB40-4FCD-8395-5E6590D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6A79C7-FEF4-4CAD-AA1F-DF07AF6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AADC42-38C5-487D-8F91-04669346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00F1AB-1D75-4958-9BA4-5F835A6F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4C871E-2051-48AA-A9DF-7D4B3E2C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9ADE62-F6BB-4E1D-AB24-6C6D1FAA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848D5B-1C1D-4E73-8FE9-1A8E1F7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0BB1C2-BFF8-430B-9E04-CAFA38C5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61F5C8-0960-443B-A4DF-E5323C5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5C00-5093-42CD-B7D8-66E6615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A6B1C7-B744-44F3-86C5-638FD16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811AEF-4E6F-418A-81FC-431035B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0F6728-D04C-43B2-A6E0-FB87DAF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FEF71F-F8D9-45E6-943E-30728DB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0F2798-F5C4-4F94-941C-09554A4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760D0F-FA15-4C66-9D9B-85AF72AA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19F486-F7E8-46B2-A705-18D5010A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1BE9F7-7BAA-4D08-8BCD-1D970DF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14D1AB-C008-4147-A1E3-4984B09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AA59B7-5088-47D3-812A-035EBD8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858-6607-431E-BD3E-DDF0A93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0ACB-B33B-4431-80C2-57A1799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52B640-F9F3-402C-8C63-1A84C14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6BB778-02E4-4F76-B3EB-8945F77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39F814-FCF8-40C0-854C-7793C1F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B7D406-1D64-427C-8BCC-4C2E976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DA7544-91BC-4241-BC2A-D9B455F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7B18DE-9E52-4383-94EE-6F74F6D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10D78E-AC0F-43AD-A105-84A7114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2C422D-9426-4183-AF38-059021F8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CE8A75-DDBB-4364-B662-27444EEA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3A0279-C72A-4323-8D09-831CF35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56B4-A96F-4250-882E-1A7F5824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302045-563A-42EB-A434-064FEAF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F095E3-A0DF-4F9A-BF10-32AAEFD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535C5C-1F47-4901-B6BE-18F1703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85A9D3-05D7-460E-BC0B-CA13B61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B6A2CA-3E67-4CE9-AD16-F6CBFE5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CDB47D-706B-4768-8062-B38F155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E7F46A-91A2-4C29-84B7-F2FA273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BFD902-879A-4B4D-B317-F45BABF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727C4D-0E31-4E05-A930-4FD421C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6B41AA-078B-439B-8EED-A5BB594B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59D5-310B-4168-8C63-9362CD5C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EA685B-9015-4C68-808D-015DE02E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89C31B-10FA-4216-8402-1BFBC4B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977839-2043-4AF9-91D1-C25C745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82FC48-4807-4D5E-8073-8E275AE1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70F6B5-A7E0-4F0D-9127-F6629A32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DE525C-F8B6-4C5B-BFC7-5B3F4C9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E58AED-8AF8-4807-9619-FF04228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B6C61F-1236-4170-BA23-A1011FC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C222E8-0DFD-46A6-9363-D415063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7E23CA-DA06-4455-8B45-594E431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4025-1891-43F4-8D31-9A5F2F7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76BF39-CB87-4443-8A6C-4C39E71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DD066B-0F56-4842-8CA9-562C78EB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8B96E6-74D5-4D22-81A8-27476F26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DDB1-3C91-443B-A97A-A46AAF4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4962-B87B-4979-AB71-67822A7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75CA-63DE-4B3D-B06F-19380DA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F3F3-45F0-491E-A86D-97B14084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79DE-6B00-479B-835B-D94D950A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535C-3339-4BDD-A477-BC371A9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401-7D40-454D-B877-2776B7C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4BF1-5646-4A62-A7A6-CA1B8F4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631F-7077-459E-B17A-A7249AA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6EDB4-86AC-48BC-A24D-ED9DBE6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C7BF-9266-4870-9D87-132B92D0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D516-1A9C-420C-B569-C3B1C0E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51970-131E-4F2B-BDAE-827A865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7A30-0342-4870-91B9-0419ED4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1E03-4D5D-4CC1-93EF-3DF4875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3769-8D40-401A-A908-55861B6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3A39D-45B9-4981-B7DF-083C668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615-04FC-41BA-A361-6DE7DA34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2EB8-7761-4C35-B77C-5751CA19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DE46-C16B-4F76-B30A-4B41A1AC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8E20-02FC-4702-BD2C-32D745FF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902E-ED44-4E8A-88EC-E6FCE83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B58DA-0C3C-4F4E-AFB9-C6DF25C9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9981-9622-4781-9BC2-C85FCC4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8D18-17BB-4626-9F5C-FDB6DEBB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B5C8-65CA-4B99-B498-1143AC0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EC87-C36B-4162-80FB-4C94DD6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EA79-E631-4662-B92B-7539F69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221-D46B-416B-BA5F-4BA31DE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DE28-2A42-4F19-AF2A-46281B72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E52F-F533-464E-9278-3CFCC2A2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92D0E-A23D-4AFD-A18B-0FB29502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761E-8154-4080-B86B-6FEB6302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58CC-F1C9-4145-86AA-FF6C309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ECDCD-3A94-4E40-80A6-E68728E0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5D96-3A75-474E-AC9F-E8C2F47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F125-29A4-4E78-A579-B8DFA30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88FEF-BBF2-46C1-9572-19D9F8C5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5914-7563-4392-AF88-026953F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D07-5F34-4F24-A2A7-AB634053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F75D-AC54-4A65-847A-3D7324A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2CBA-0C7D-430E-9FC2-62CBA007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92A2-8EDA-4F38-8205-2EA4E07F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3FBF-0AB6-4F4A-A7F9-777588AD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5962-1A2E-4E14-B863-2CA470AB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8D7E-A874-47AC-A95D-B98B3D76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1FACA-7A9C-4966-A33A-815C0233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AD3E-2C02-45B4-B72D-9DE3182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27FC-194C-43DF-B0BF-C9B8102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E8382-8883-4517-AB9C-D835A22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A09-27C5-4909-BBFF-16FF69E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4D97C-10E5-4405-AAF6-5A10A90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EBE68-A979-45D2-AACE-3F2C91B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4D301-A3AC-4813-BB7E-8E4EAC8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E2FD-50D1-42B6-BAF2-EE9CD56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1D4B-EE97-4C3E-B2A9-68891EF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66FE-5483-428B-A2CC-9B65FB2A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C8302-EBC9-4C13-A50D-1B0201F8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D611B-456E-44A6-A9E0-78D8A0C8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89A65-0C5B-4BA0-A3DD-90840A5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2D444-F8B2-4FE9-AAA6-B3A45D0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EE3-2D89-414A-B4CF-F1D0A00CC010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0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5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6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B24-8F99-4AA7-ABCF-C9F1C2623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BED-4650-4765-907A-1F886D57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323D-AD7A-41C7-80C1-C049A5C8B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3D07-1F63-4E6E-9FD3-E9756D6414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B2E-4F5D-4EE5-BDDF-DAB2870E96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8E5A-3152-4A37-B5F7-7731DA7A2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28CD-DB4F-4575-BE7D-D5701F03A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D29-9CD3-46E0-ACDF-38F8183C6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7A8-95DE-41F2-86C7-6631C0420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6E6-477D-4579-822C-D4C7AB466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22F-3360-421E-A695-69169DE6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BE21-0076-4365-AEA6-71800A159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544-2751-4CE3-8BA3-F1231D734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5CA-1EDE-4C3D-869D-5A0444817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D89A-103D-4130-BB5E-AE49D9A69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F07-5242-4B86-8E26-84E295E35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90F1-82D4-40D9-B6A0-50FA6F6C0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2ADA-8C6B-414A-9527-D97DFB4EB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EFD-E633-4CFA-A3A5-625A8935B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D87-C735-417F-B4DA-CD00A0A3E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1AF-1E8C-4A57-99F8-2742E4B61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FC7-66AF-49C5-B7E1-19B7548A7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96F-1FC4-4D88-A4BA-75DFAFAB8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C47-2F18-45C0-A0DE-FDD65D2F1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F49-547C-4073-9530-CAFF5B41A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58DC-2EF7-4334-A00A-5B1661647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2A1-670F-4F39-9424-97143ACF2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837-E3B5-4861-8CE3-B44C4E0EE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D4B-6513-416A-961F-F3F2A83EF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F34-9329-4631-8735-C5B85C92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733-9174-4200-85B7-EE983BC8A7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A31-6736-4884-A27D-92C2ED548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1F3-E871-4514-9A4A-475D10C19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13E-4358-469F-89B5-DBC0FF653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A27D-17AC-445E-B1B3-37855F5CE7B4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Native Americans of Pennsylvania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38" name="Picture 4" descr="algonaquin people"/>
          <p:cNvPicPr/>
          <p:nvPr/>
        </p:nvPicPr>
        <p:blipFill>
          <a:blip r:embed="rId1"/>
          <a:stretch/>
        </p:blipFill>
        <p:spPr>
          <a:xfrm>
            <a:off x="168120" y="1828800"/>
            <a:ext cx="4496040" cy="293364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2" descr="https://encrypted-tbn3.gstatic.com/images?q=tbn:ANd9GcSrGa9dGZmyqaI3fSCBHyIsbLCYqYMPI7pOsfL6apdVq11aNzcYDRgtA-A"/>
          <p:cNvPicPr/>
          <p:nvPr/>
        </p:nvPicPr>
        <p:blipFill>
          <a:blip r:embed="rId2"/>
          <a:stretch/>
        </p:blipFill>
        <p:spPr>
          <a:xfrm>
            <a:off x="6629400" y="1055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4" descr="outline of pennsylvania"/>
          <p:cNvPicPr/>
          <p:nvPr/>
        </p:nvPicPr>
        <p:blipFill>
          <a:blip r:embed="rId3"/>
          <a:stretch/>
        </p:blipFill>
        <p:spPr>
          <a:xfrm>
            <a:off x="4667400" y="4240080"/>
            <a:ext cx="392400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cticed large-scale agriculture in addition to hunting/gather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ultivated fiel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veget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ing slash and burn &amp; companion planting techniqu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se methods of food production allowed them to maintain a larger population than other nomadic hunter-gather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Very similar, culturally speaking, to the Delaware; 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Very similar, culturally speaking, to the Delaware;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 comes from their wor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anw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women planted and harvested corn and squash. Shawnee men hunted in the forest for deer, turkeys, and small game and went fishing in the rivers and lak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comes from their wor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hawanwa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omen planted and harvested corn and squas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n hunted in the forest for deer, turkeys, and small game 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ishing in the rivers and lak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called themselves the Hodensosaunee, or "the people of the longhouse" 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Iroquois came from their rival, 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; it means rattlesnake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called themselves the Hodensosaune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"the people of the longhouse"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name Iroquois came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rival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gonquians; it means rattlesna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actually six nations combined together, in the Iroquois Confederacy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ve original nations were the Mohawk, Oneide, Onondage, Seneca, and Cayu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, the Tuscarora jo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ually six nations combined together, in the Iroquois Confedera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ve original nation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hawk, Oneide, Onondage, Seneca, and Cayug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ter, the Tuscarora join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2"/>
          <p:cNvSpPr/>
          <p:nvPr/>
        </p:nvSpPr>
        <p:spPr>
          <a:xfrm>
            <a:off x="47520" y="1143000"/>
            <a:ext cx="9068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oquois were hunter-gatherers, but much of their food came from f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lso hunted and f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collected sap from maple trees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food stores allowed them to sustain a larger population 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-106200" y="-22320"/>
            <a:ext cx="44193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Algonquian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42" name="Picture 1" descr=""/>
          <p:cNvPicPr/>
          <p:nvPr/>
        </p:nvPicPr>
        <p:blipFill>
          <a:blip r:embed="rId1"/>
          <a:stretch/>
        </p:blipFill>
        <p:spPr>
          <a:xfrm>
            <a:off x="1440" y="925560"/>
            <a:ext cx="4341960" cy="3798720"/>
          </a:xfrm>
          <a:prstGeom prst="rect">
            <a:avLst/>
          </a:prstGeom>
          <a:ln w="0">
            <a:noFill/>
          </a:ln>
        </p:spPr>
      </p:pic>
      <p:sp>
        <p:nvSpPr>
          <p:cNvPr id="1743" name="Rectangle 2"/>
          <p:cNvSpPr/>
          <p:nvPr/>
        </p:nvSpPr>
        <p:spPr>
          <a:xfrm>
            <a:off x="-152280" y="4724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erry Hunter, a native of Lac-Simon indian Reservation and wearing Algonquin traditional dresses and paint, takes part into the dance contest of Wendake Pow-Wow July 1, 2012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4" name="Picture 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114720" cy="458640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2"/>
          <p:cNvSpPr/>
          <p:nvPr/>
        </p:nvSpPr>
        <p:spPr>
          <a:xfrm>
            <a:off x="4952880" y="5867280"/>
            <a:ext cx="44197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Iroquo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9"/>
          <p:cNvSpPr/>
          <p:nvPr/>
        </p:nvSpPr>
        <p:spPr>
          <a:xfrm>
            <a:off x="5629320" y="108576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wo members of the modern-day Iroquois, on a reservation in New Y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3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2"/>
          <p:cNvSpPr/>
          <p:nvPr/>
        </p:nvSpPr>
        <p:spPr>
          <a:xfrm>
            <a:off x="47520" y="1143000"/>
            <a:ext cx="90680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were hunter-gatherers, but much of there food came from farm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so hunted and fish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lected sap from maple tre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ir food stores allowed them to sustain a larger popul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2"/>
          <p:cNvSpPr/>
          <p:nvPr/>
        </p:nvSpPr>
        <p:spPr>
          <a:xfrm>
            <a:off x="0" y="1143000"/>
            <a:ext cx="9144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Iroquoian-speaking Native Americans who lived in areas adjacent to the Susquehanna Riv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an Algonquian-speaking tribe from Virginia called them the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Sasquesahanough,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meaning "muddy water people” due to their proximity to the Susquehanna River, and the English transliterated that name to Susquehannoc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the late 1600s, they were assimilated into the Iroquois Confederacy, although they were not recognized as an independent nation-memb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2"/>
          <p:cNvSpPr/>
          <p:nvPr/>
        </p:nvSpPr>
        <p:spPr>
          <a:xfrm>
            <a:off x="0" y="1160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roquoian-speaking Native Americans who lived in areas adjacent to the Susquehanna River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n Algonquian-speaking tribe from Virginia called them the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Sasquesahanough,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meaning "muddy water people” due to their proximity to the Susquehanna River, and the English transliterated that name to Susquehannock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n the late 1600s, they were assimilated into the Iroquois Confederacy, although they were not recognized as an independent nation-memb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Eries is a shortened form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elhon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absorbed by the Iroquoian tribes, and gradually lost their independent identity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grew a variety of corn, beans, and squash  during the warm season. In winter, they lived off crops that they had stored and animals taken in h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s is a shortened form of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lhona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bsorbed by the Iroquoian tribes,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t their independent ident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ew a variety of corn, beans, and squash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the warm season. In winter, they lived off crops that they had stor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d animals taken in hu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and the Iroquois lived inside the borders of modern-day Pennsylva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groups were made up of several different tribes, but grouped themselves together based on cultural similarities (language, primari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&amp; Iroquois were hunter-gatherers, but each also 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 the Algonquian and the Iroquois lived inside the borders of modern-day Pennsylv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s were made up of several different tribes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ouped themselves together based on cultural similarities (language, primarily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Algonquian &amp; Iroquois were hunter-gatherers, but each als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made up of several different tribes : the Adirondecks, Delawares, Mahicans, Montauks, Wappingers, Nanticokes, &amp; Shawnees, among others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related dial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9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de up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different tribes 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 Adirondeck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lawares, Mahicans, Montauks, Wappingers, Nanticokes, &amp; Shawnees, among othe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veral related dialec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2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group that inhabited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sylvani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 that inhabi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nnsylvan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alled themselves the Lenni-Lenape: from their language, where 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lish colonists named the Delaware River 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 called themselves the Lenni-Lena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from their language, wh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glish colonists named the Delaware Rive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cticed large-scale agriculture in addition to hunting/gathering 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ultivated fields of vegetation using slash and burn &amp; companion planting techniques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these methods of food production allowed them to maintain a larger population than other nomadic hunter-gatherers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5:28:05Z</dcterms:created>
  <dc:creator>ssrsb</dc:creator>
  <dc:description/>
  <dc:language>en-US</dc:language>
  <cp:lastModifiedBy>Debes John</cp:lastModifiedBy>
  <dcterms:modified xsi:type="dcterms:W3CDTF">2015-03-02T10:59:17Z</dcterms:modified>
  <cp:revision>60</cp:revision>
  <dc:subject/>
  <dc:title>The Algonquin Tribe</dc:title>
</cp:coreProperties>
</file>