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wind.wav" ContentType="audio/x-wav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  <p:sldId id="278" r:id="rId61"/>
    <p:sldId id="279" r:id="rId62"/>
    <p:sldId id="280" r:id="rId63"/>
    <p:sldId id="281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slide" Target="slides/slide23.xml"/><Relationship Id="rId62" Type="http://schemas.openxmlformats.org/officeDocument/2006/relationships/slide" Target="slides/slide24.xml"/><Relationship Id="rId63" Type="http://schemas.openxmlformats.org/officeDocument/2006/relationships/slide" Target="slides/slide25.xml"/><Relationship Id="rId64" Type="http://schemas.openxmlformats.org/officeDocument/2006/relationships/slide" Target="slides/slide26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B5BE-9D05-45C0-AC88-41A10B041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5D07-0375-4C2D-94AA-22D41EFC3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54A2-DF3C-436D-806D-B6DEE2C71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C0EA-C801-44DC-8437-2E73BFB73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F67E-6488-4D38-8B50-C9CDD70AA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CD8D-5708-4E3F-B4D3-FC853970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21F6-8366-4434-BD74-E1B4AF71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CBFDC-E638-488F-95FF-48BAAA86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925C3-4C32-42EE-AB64-A7FDE517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0309D-F48B-4206-A7F9-B7D7889D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6FA14-D94F-42B7-AED9-5C213E36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CEDA5-41F3-45DE-AF4C-875D85F2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C69D3-CA3B-4CFF-A825-32574B78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4BFFD-519F-4D37-8231-EACD2C56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48153-6C30-4630-B8B4-2AE1EC22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73C65-1A3D-45F5-8E42-F3186A8D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67990-0355-4170-AD2D-DA21A1CB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07DA-ED73-4022-9212-097DDFB0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48644-2139-4E56-AD3F-7675DAA1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5BCB2-508E-4AAF-A2FC-02207A42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EA266-8205-40D1-AD69-47D6A83F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5E21E-4F8B-400B-B999-82B2B4EE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44AA8-E9B8-41C6-9926-9559E564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5EBB6-7F0A-473B-8FFC-B54D0E90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5D72E-E291-4127-9CD5-6E3627AC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00B33-F69E-4B2D-BDA3-5A2D97D2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C38D5-81B1-4F71-AFD4-06580F2E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2A141-BC83-427C-80F2-AD967C81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5F56-3642-4230-8FC6-5ED7173A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DF5CB-EED4-481D-B6A9-FB252496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E9BF3-E200-40F2-A9C5-F2F800F7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A1E79-F2F4-4AD6-8F47-AEB43FD8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D2873-3125-4DBF-951D-2FA6E276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ECF49-C658-4B78-BBD4-1A00AF93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50451-DBAA-413B-B6DD-B30C8035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88676-BC2E-4C0D-8D7D-11E96A02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36F36-5EB4-4C37-AC64-68C35C39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DBCAF-3027-420F-A113-7E54F1C4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280DE-8EBE-4409-9822-8FA60DD9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D57F-A27B-425F-AFE8-973308F0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8DD2D-F174-44B1-865F-D57D549F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E7DE4-BA2F-4F20-A0F1-83BB0B19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351FA-AAA6-4C52-950D-B45639A6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77352F-6820-4FB9-A00A-D67BC31A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A99023-AECF-4EFB-ADB2-63C223BA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D2C8DE-1EEF-446D-9CD6-82EB25C7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101B61-CC36-4589-9BCD-3AF9EB69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3E3466-6727-43E2-B315-6C733B78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48B4B4-8501-4300-8D59-60ABCC94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08471E-CAC6-4916-A3AD-77173D28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40E2-BBFE-4EDD-9643-5A083953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6AEC0A-7936-4996-9E1E-4A1C6BC4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4C5D76-F2F0-4445-8CE0-438E3F31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9D834C-AD99-407B-9249-1AA60EDF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45CAA8-3BA0-42A6-A8A0-68911C46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71E732-4E1C-4C9C-95E7-8E2EE03C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9C3BC-AAB0-4008-B4D7-BA0884F3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B2BF20-D945-4A4E-8834-377D7638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6D80F-52D9-4BE4-AAD9-88F0CBC9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F402B-6FC6-4A73-AD59-C1F4E91D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4DA9A0-06CD-4599-AF61-37E22639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A648-3AFB-4CC7-9296-245317A7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E5228-AB4C-485A-962D-9720B256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350C3-F5B6-484B-8CA0-FA5C0D9D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AC3E84-BF39-4DCE-8CF7-32E6FC7B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F0E6E-19F6-42B3-982D-1A44C0C1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F8817-1A7A-47BE-8282-99E8FFD0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4262BD-98D4-4713-A07C-5CDD794D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6C5D3A-E365-4F9F-891D-017E3388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43CEB1-9FE1-4192-B768-F98CB10C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7E7650-8927-4925-A298-A171BA80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11606-F1A7-45E5-9FDA-AA695412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B093-3143-41F2-AEFE-B1F37685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1CB1B9-602E-428C-8881-663C19B8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96960B-8C48-4613-973E-64FF210A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352EA6-F4A6-4AFA-B3B7-05270F47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03C2F3-AE5D-4CA5-8830-8AA56920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49BA7D-E9A6-4878-887D-7E44C439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7F323F-0F77-4D31-9052-DC18FEC7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7D215D-3C02-47EC-97B1-1CCDED29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3697B3-AC5C-43B6-8E8E-26C2AF27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CC11E8-E17E-4AEC-93F9-322574E6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9AB259-729F-4C21-B330-ECE93143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E415-B084-4CE5-A253-50A6B91B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FE0EC5-DE7C-404D-9662-9CE1072F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98CFAA-2FDB-4CB6-B985-BA9E48D4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DFFDEF-A914-4FDA-A300-5DD2D462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633AEE-47EB-45CD-BFCE-E2BC44AE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628E9D-B90C-4173-B424-9172FB24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50279C-D0F2-4055-A85E-812C00D7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BEB0AC-1F67-402A-BA1B-5C7C11CA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C89A1A-7978-42F0-9E12-FD05E179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EE12ED-B198-4C2E-9A3C-20D42332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312DDC-FD21-43D6-A604-26C1C3F2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5525-5A22-459A-AF2A-DC4E44DF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67AF98-E7D4-4524-9032-29575F98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55301-DB4C-4BDA-A7DC-54E16CC1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2D2962-D6C7-447E-B357-44002A29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6781AC-B32A-4001-8165-6EF13625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8BDC10-46B7-4AC2-8670-8582D2B5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EA351F-10C3-4EFB-9C33-BB850A19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B8CB72-60EF-4B22-9EAD-864E800F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2EA036-0B21-40AA-AE2E-3A542228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4D8FC9-2974-43DD-944D-D2F9D76D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812985-E8A3-4FA7-A4C1-632F1BD6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FFA1-206D-4BB1-B69D-2DBB6915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AEA0E5-10D1-4A44-85AF-9A83FA06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DFE99F-2AB5-4616-B75F-0335D9C9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16FC23-5FAB-4577-8D3C-C6B1A21E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40492-4F58-4C17-8845-89252D8B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031546-74CA-4093-8E3B-A55983DB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9461D6-14D1-4070-9DC6-A3EA32ED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8C37F3-C7AE-4579-97D4-51125A9C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7FBD40-4C6E-4131-BD18-F431D33A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25537-D8D3-4DDB-95A8-AAEA003B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77854A-704D-42ED-9C32-5A142AAD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7FE-A640-4C1F-BBBE-C9D5A3CF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91DD-2CE1-4A3B-BE7F-A49E4B8A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01BE74-27AC-408C-955C-9881B284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1BDE03-D814-40A4-AA00-F2E40F87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321095-1D3F-4381-8549-05BF825E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793873-DB92-4A6D-842D-84110E35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2EC165-5E7B-447B-8D44-FD0125CF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D116C7-9A5E-4BA1-B4A5-4C31966A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A7FECE-670B-4AF3-95B3-2040A9FF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207B28-99E2-4585-B654-04E10643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6E57F7-133F-4457-9AE2-7378D833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24CB66-B40D-4303-8E08-9A678DE4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9B55-1F86-4F01-AA9A-713E02D7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368412-8CBB-46BD-A4B7-0BDE4248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CD8D3B-0376-46D2-B2D0-D36A9DB7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92D624-23E2-4448-B9E8-70E9078F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E6B37F-5AEC-44D2-80F2-C5965B47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C9EC2F-9E7A-44BC-AECB-B00B8F95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D3498A-BEFA-4451-84A2-6F9E8E13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E39DDE-C128-4EAA-A991-C89B14E2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8258C8-3869-4C1C-AF9B-7FF02FE4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9CF1BA-807A-4995-9DC4-7D873756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6F84B9-34E1-4B93-A6B5-970FA169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E598-9BD6-4C8C-AA00-35C3A484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4617BE-71CE-4F81-8E5E-D6E4352D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8488F7-ACC9-4594-BEE4-5F70C2F2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2F57D2-5B2E-4E14-A539-70DEE84C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07E43B-1684-4B18-8AEF-994051A4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B9CD57-F65D-4422-9BCD-47665A39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031330-CB64-46DC-AA93-00874414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B92629-0191-4629-BAD7-6AE7A4DB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C95AD4-6996-400C-B3DB-21BC8B9E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88C284-CBE6-42CC-99FE-2A2D0BE9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57224B-7CA1-43F2-835D-BFFC063C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38B5-079E-40E5-8AB9-456B917D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66EE24-AE8C-427D-A853-354D4915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6F57BD-0038-4863-A5F7-B97543A8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2ED2A8-9F7A-4C39-9E70-CE04E58F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ACA10D-0129-4C52-8CA6-C31FF1B5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32825B-1A3B-4917-8E6D-A92C74ED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3823C1-8802-4B19-ABFA-8A50EE35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EE4DAB-99B2-48B8-9F3F-3B73F60F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B65041-AB6D-4959-8552-B057D8D4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588517-8F44-4A45-9759-E2B8A815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1E0AA7-F288-476D-80F7-F8B79F0D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A78B-4689-4169-B51F-D48EAD41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A806B6-3CBF-416B-8FDE-C9298094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8561FB-2188-4C7E-BD70-E74B3759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BD2F17-F93C-40C4-A005-0030EACF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AED767-1D3E-47F5-8809-515B324E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A99E20-7F58-47ED-97DD-435B020E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9538BE-749F-46CC-8810-F1969401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ACF3A1-B120-4759-8A54-74DE52BB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E4FAC0-8288-423B-936E-FAC127A5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A8D4D7-CF6F-4A19-B1E0-6A32C18A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AF63E9-15F4-4E1D-A826-2DC4C42D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8302B-8B58-4BA3-997D-1520C209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4A6278-E3FC-4953-B4F0-64B7CD4F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2AE5A9-692E-4EE9-9360-B235D5FD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06088E-D201-4DDF-888B-40B43859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EE13E9-0D71-4D1A-99C0-96271E8C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F24532-792D-4B66-A109-0A53C357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9EBA99-CB50-439B-B52E-5BDBEBB3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5C37E0-E5E6-45A0-B03C-15AD0F2A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FD7B0E-E41C-454C-ACEA-6B92457A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A8A2BF-2F20-4F15-91D8-2D5404AF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55072B-7EB3-481F-AB26-ADF28A49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7C290-C6D9-49C0-971A-14ED85E3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AE8E6C-79F8-42B4-9144-DC57D0CB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9E2AD7-737C-4423-B7DE-8257345E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E1A262-EAFE-4939-9989-64FD81C5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F69F9D-B3F7-46F5-BA6F-5C0346B1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DB37DA-B600-4F87-BE9F-812AE47B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A4E56F-41B2-4A6F-93CB-C89830F5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4A4BAB-944A-468D-8207-FC59080D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8A2185-CB3F-47CF-BD9F-616E735B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57327D-FE28-42FE-BF5D-C8EDD2EF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091FE8-0DB8-49DF-8122-71FA8DDC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1179E-732C-4A31-9B55-7E291050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4E0C5A-302B-4F07-B767-5DF9EEF3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7EC9E6-622B-4CCC-A90C-DC9533D3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063509-F5D7-45E9-9D69-7BF787D7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9E05AA-7835-44B5-B8B8-021C57ED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543F13-D40C-4B6B-A4D7-C7257C43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2F6471-4B6C-4A86-AFBA-B58155C6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902B71-6004-4688-9F0A-8A9DDD00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19E375-8814-464F-9C03-4B8E2411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64E29A-BF01-4D91-B6C8-7F655F82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3832C9-68A4-4330-B239-1DE5519C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A0B76-69B9-41E4-86B0-6E25B2C6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ABA869-5F71-4E1C-ABE0-084D2129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737E19-8B1D-48BC-A173-AFE20D87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DB8763-493E-417C-BA0B-813D7537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FD530A-F55F-4001-BA3E-68619E27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77942B-2C7B-4DB4-8AC7-24654A01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671B11-A135-4ABF-8BCF-B5BE9045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8ED010-5E1D-4887-A8BF-4867B4D1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B89492-B5B4-44DA-824E-0F3F92F0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DE5FD8-C91F-4D9A-8AB8-73B88E63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0D836C-931B-496B-9EF9-D4DBE3C9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C69F4-68FD-4CB0-81DE-4C1E693E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A3A7DF-EFCB-4F96-B987-467713BD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617A5F-73B5-4728-81D2-DF201612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94B461-8E13-4A86-8C8D-3417A554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3DEC1B-DF4E-409E-AB72-B61426FD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6ADE2C-30F5-4DF6-9AD2-3D405FD0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7E3933-9060-4BFC-9042-CB08BFB0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0EB42A-0527-46FC-81B9-4D3ADDA5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20696D-3D5A-41F1-9956-091CBA32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9C0994-216E-433A-9E6A-889270B3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58B63B-C172-4EF6-AE63-F45EC2F6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041-835E-46E8-B86F-6C165C22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50523-F295-46E8-84A4-0C92B953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8DFB1B-9A44-4275-84E7-6AE30088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D648B9-4842-406A-BED5-DFC52478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E56D37-1739-4812-99B1-B1E7DC57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28EDB4-749D-4F51-AE7B-A70B6D24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E35CE2-9A42-4848-A99B-9D9E0153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762D5F-03C1-4A0E-89D3-17790817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67C747-70DD-4453-B216-6F270414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C95C7E-54D2-4EF7-A942-0578B0FE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7F8B27-E750-4103-A778-866C30A3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0D2269-9DF4-4C3A-AFDF-2F180C1C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0702B-19A9-4085-AA4E-530E0EE5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C83226-058D-4B54-A0F9-7D8EB24C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129BCB-A5F7-4F95-928D-C9A4D003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3AEB3F-27D0-44C6-A48A-0CB6183D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BCC2D4-5A08-44AB-90C3-5F37B915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BA7ED9-6347-43A9-B630-3568D92C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E5B57C-3A34-4AB7-A1BC-A407FCA9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A16A8A-A780-4121-9CDF-5E395DAE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8DB4BC-4779-42F5-A27D-41676DA4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D0AAFC-0983-48CF-B7A7-FE417DB0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1C0F63-C1BD-4E25-9C3E-B5C1B0AA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1825F-5676-4CE0-A885-ACBB9A17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F746C6-69E6-4B04-81C5-BC4962EF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35F789-66C1-4F7F-B60E-CA102B74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6A908B-6550-473E-8C45-CFA57C21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A87733-0C52-4799-97EE-10FCA13A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75E9DE-C9E3-49D1-9BFA-CC831A59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34D960-2745-49DE-893E-0221FD67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731239-2D15-4D3E-AD0E-65B9293C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F14314-CD4E-479F-9310-3FA48931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1BAEA4-7B5D-4889-B6EE-BB7A6796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9ED245-E7CB-42C1-BB24-525024EE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D1669-24DA-429B-9AAF-95E1E46D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DAC3FC-5F1C-49C3-BB80-0E65FCDD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A6D9F8-8B0F-4BD5-91AB-2EF59CDA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95C23A-A836-4356-A657-543E55FC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21CE18-EAB2-4B83-8A7D-9666A2D3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F0F1FC-357E-4095-ABC1-714E0B44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17CFC2-6D92-4B47-B60A-7A166F3E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0E8051-32FA-49C7-BA28-7EC96DB3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DB24C8-B99B-415B-BF2F-FE673F4F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A7A09C-F8D9-43C8-93B0-1FBD0E5A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04791A-CFA5-42F8-A1DB-7B4C7EC6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22865-DE46-4D14-9F27-18A94811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ABA2C4-0798-4C2B-BC7A-0AAFE113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A94CD7-536C-47CB-B28E-340841AB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86159B-996B-432B-BD0E-6A97B252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6CB933-ABFD-4031-B74A-8C3BF642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8ED6B0-3B50-407B-910B-6C472365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676B30-072F-4B80-A968-5B265631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EA9F71-8A4A-4557-9DAB-3E9A28C3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A3CCA7-F29B-4DA9-B1D4-F678EEE4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2C878C-0120-4F71-9150-E6B7D262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918641-3CAA-485D-AAA5-C837AF59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7B3FF-5478-47F1-A33C-FC670094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2E4E1F-8D6D-44CE-9F35-B7A4E5FE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AD3E5E-457C-4EC1-BE82-0FDDD59B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6B56B6-141B-461C-8D49-E92DF2E9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E9451C-4A3B-4872-BA37-EBF17021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0ED302-91DD-45E9-AF80-116F34CB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62F35A-FB7E-440F-9DF6-1764A326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3F51D8-B009-43E1-930A-4CE40CFD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B98487-726A-483D-BFE2-3FAF8395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E2918A-EDCD-4615-9C6B-A6103597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D2ED98-53FA-47F2-96DE-78090132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9646F-F93B-4F5C-9F5D-7E52EF6C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A6D702-B366-475F-ACC9-DE15BFA4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CB95F8-7C27-4B7B-BE3E-46712D33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65ADBF-DBDF-4768-A26E-CAF7E69D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890FC3-4410-4EC8-832A-0888F790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F1A62B-C51F-46ED-9361-920A6BFA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2FEC79-0874-4830-B5F2-13C50B8D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09E106-C4DF-4E8B-B766-07875F50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267104-0232-458A-82D0-86B5B964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E66C53-C647-485D-B14E-3E4B486D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3D2828-21DA-4541-B077-4C743607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69A43-542B-4B06-9E48-EB0D29EE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DE4C79-7CE6-4D31-9BBE-0D7F79B1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FC089C-CE73-4B56-8448-CC64EF9F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65AAD6-C157-4401-AD65-7D246FA7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735439B-294F-4F22-99D7-79D34024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D8BE05-4D3F-4B3B-AD77-313EF1C6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66B1EE-AD56-4AC5-ABD2-909066E1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301387-841A-4B57-8ADA-11450901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907ABE-6CFF-41BC-BFE9-515C7D18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4CE824-55BB-477E-AD2A-C22092F8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A2EAF1-6718-4D04-9E4D-FE91CDC1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DB539-69CE-4284-B2B3-F5E0012B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852239-7ABF-4BE4-82E3-019267FD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C9959C7-2166-4A18-9B4C-521043C5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04582FE-7873-4A42-AC1C-0EEDA53A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58B0DC-B6D9-4B10-932C-F81ACAFC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43E05A-E0E5-4771-BE09-AFB4CF47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CD8E94-D484-4343-8BFC-03EC85D0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7FA8B1-55B8-4D86-9A34-05B11934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748862-6647-4E64-A9F9-11425648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1F365A-F93E-45EA-AEC7-904685C0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EB106F-1FC1-4E8C-ADB1-279819EB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1E7FB-33FE-4B3C-8A5B-EA8C5019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C27852-EBE1-4E35-9246-7C1B9B22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310D84-2078-47F3-8EA9-D4FC564D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BED0555-533C-48AA-B646-81541A0F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1170C5-3EB7-473F-A294-B119993E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7CA31E6-914B-46A9-859D-24B03213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904AD4-CF7B-4E1C-9F46-E6FD14D6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D843B2-4E1A-45BB-A70C-E9D4B7EE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A5DF0A-DA43-4361-AB21-31AC4724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DBA617C-7267-4931-B97A-91B94986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DF35DAD-B5EE-4EB7-9937-ED96B266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42F-3594-49DE-900B-2C5B1B13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4EEB9-6551-4727-AE4C-07A86430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E575273-0421-4D40-9AE8-8590F35F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7B74E2-6D55-41FA-9FE0-05C6B19A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1C05F98-2085-474C-A32C-7328FB43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EAC7BD-8066-44C7-881C-2579B4CD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5936FE-F8D1-43B7-B277-EFEA54CC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D8BBED-433E-4DB4-823C-C2FF3A4F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B1AC6B-E60B-4C97-9DFC-ADD1CAEF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B94F09-4DB4-4B34-B30F-135B8B37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09F2D6-90FF-4C67-B82E-289F8182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D100DBE-6CC4-4849-B254-85D7E13E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878D0-B729-4DE6-A7BE-DE9B3E01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50FA13B-99FD-4873-821B-60D0D686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000C639-50B9-4275-8BAE-70936D7E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A5AD6D-4052-45D1-93D3-6AB142BC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D8F409-E7AC-4F2E-A899-4D913D93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321163-55B6-4447-BBAA-1C918822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15356D-5689-42A3-A216-CC5E5D0D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D3BC471-7438-47BF-9893-5C89AD3E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8D796A-4F77-42D5-AACC-2A96C6EF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A6F65F-2BC9-4B51-9011-E31F03BA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70F27D4-E83D-455E-9BCC-812F5E48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53AF3-00D0-407B-B051-9A93B871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AFE7CE0-EDBB-4B86-B156-3959AAA3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2A91E78-FFCE-4136-A6A4-1F3F9D22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6335377-6130-42F6-AC16-AE3227E7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1B870E-AC94-40CB-840F-606DCDAC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EE3044-CB28-48C6-9BA3-FFF5D0C9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452600D-FCDE-4F7D-981D-7D4403E7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87B09C3-52FB-4F64-8424-FF9DFBFA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91AFB32-2236-413E-93B0-582345D6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D0A243-1177-4781-BC1C-5CD40BF0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6AF0AE2-3412-4142-A93C-AD736741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EC2B8-F917-499D-B1EE-76F4D9AF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86760D-F149-45D7-A2DB-2C430661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F22779-092C-45C7-8810-A170EC17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4A3730-C1F3-4E41-98E9-EBD8771E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7205A-2ED2-433B-AE00-A7B2C660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1069F-DA70-4C78-9119-338710B8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B06DB-11BB-4430-866D-2C7F89F8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E2028-00D4-4091-A098-24199886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5BDEC-603A-4A0A-A9D9-41401218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1772C-43AC-475D-8255-4E89499A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A59-388A-4CDF-A43B-300E54F1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898B9-3DD9-4E90-A7ED-7C02A489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C8EBB-E9A0-44DC-84B9-99A6747C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4EDE6-D1EB-4A2A-BE18-D42979F5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9E10D-EE30-4215-955A-7B6EF7DD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AF6BF-9CD3-4044-8EDB-FDEBBE71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341DB-2085-474A-9E9F-22C1A29B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EEB1E-0442-4AFF-89B8-CFFBCD63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88ED3-5461-489B-A3C7-351D201D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29942-F3F3-4CC4-9C6B-252660A4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D48A9-0C1F-4A13-9A46-7653DA9D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46E-65B9-49A7-85BF-67F6509B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C9A55-949B-4F79-9A92-2244341A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19526-2144-44F5-A717-84C86CF9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1CDA4-14E8-487F-A728-DD6DB770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C9045-0527-4698-BA0E-1FA46AF2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6AAF0-F1F0-4F3E-A474-B0444DEB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AF7A0-81C9-46FD-BCD5-610F4995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98E33-B429-4F23-894D-4A0E36F6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D0F5C-53CA-4376-A30E-058762EF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41E2A-BA4D-435E-B6F9-2A09DBBF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B29B0-6E1A-4F73-ABF2-E25E7BEE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2C7-3D7C-4AEE-91CA-EAF2553B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BF146-C421-4516-A1A9-22607DD7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C44E6-18AD-483F-8F29-4489849A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5D77C-6C17-43C9-ACE4-5F73A599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3D6A2-1820-46D1-8F96-45B8791F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66B42-C251-4FCF-9183-B0DD76CF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03729-DF9D-4D4F-92D0-DD66974A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ABDA0-CCF0-4EE1-A1B0-028C8263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46039-EF73-4D3E-9CC8-9C09AD63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A1FF8-1CFB-41FE-8F15-9352DD5B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E26BF-A5FC-49B3-A207-4C60CCCE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F41-E989-4FDA-9241-6E9A5965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E5200-B26D-4BE9-9A55-2B4F4D4A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DAFE8-7E83-46F7-A836-24CD4EF1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B48CD-2F6E-4E48-8239-D13DE787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DA0DF-B623-4CD8-B214-0124ABCE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83B56-4B4B-43BC-A62D-1813BCA0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8720F-E29C-43B2-837D-F7409A58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A71FB-6041-478D-A6B9-4DE32D51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F0397-A831-4AD0-BB16-CB04B608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6B4BA-D760-4BBE-A827-EBAD23A2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54DAA-BE3F-46E9-BC0C-B10AC265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BDD-79FE-4519-BA85-6D40C6C0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DBC13-CE49-4A1C-999C-65CBFB3F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6B0DC-B19B-4C62-B1E8-FC4BB254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95A3C-71B3-45B7-91AF-7D8DF4E9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75BE5-E124-47F1-8FA9-28C66E27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01602-2769-4887-B76A-43290B7B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E58F9-CC10-4BE4-B018-D5CE690D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4B1A8-6FC6-4D24-BA63-22CA0360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0FBAB-990B-4AD4-888D-A21FC9F4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525B2-A737-4432-81B3-0746EDDA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17E66-C3C1-4504-86A5-60B98BAF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5241-A428-4F31-8F02-72CBC0C75A77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0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1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2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4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5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6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6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CDB4-4312-4EC0-A6E2-3E2C0E14D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3FF0-57BA-4A57-B94B-E80CEE072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9616-5EE0-4F63-8B38-1AB0E34E1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1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479C-1E39-423B-BCF0-C08D3BB474B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7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AACE-7404-4409-A75D-FEEC53A7C13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20D7-8165-4623-8DDE-7912AE4856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0F63-094D-48B3-9534-0B31B9E09E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65CD-2291-4050-9342-6BB386CC2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3278-B95C-498A-91AA-1CE41755DC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8EE2-6004-4AB0-99EE-565971A74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F4C6-3045-49A1-B30B-22FC490AA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5C16-8854-42A3-B226-60EEE88C3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9C61-A9EE-42E7-8051-591962642C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32BD-42D8-4F1B-B6B7-112563F037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7D4B-E91C-4E9D-9E7B-AA5F6DCC6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AA6D-8652-4A11-BBC2-7AF3B0A49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BA34-341E-4E70-B02B-A6B1FFDE1D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6AB2-D94E-43CD-A183-A1E1C5F6B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D317-2A12-4D32-A96B-8033690A35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F718-4519-44A8-A67B-A2186F71D0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A042-4E13-4543-B596-BA6509B93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842F-3EE2-44E0-B088-ED0426C42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3921-1EB0-4A26-A974-33B3917A30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8E7B-E972-496A-977A-AC2F3895A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093A-0671-4486-BB3C-28B9728EC6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50A8-70E4-48B2-944B-719695479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130A-DA2D-4135-87F3-E8CDC1DCEB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345D-39AA-4524-8D11-32983A8D47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179D-E671-4676-948C-88E3289FF2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3ECE-9B61-4E0C-BCAF-E13F4766E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6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9ED5-A2CD-4728-9D58-97E6A03A1A4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B7EE-9CD5-4B01-A454-4CAAF5D7A8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9830-1F69-4DD2-8D06-9E6579437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62D8-58A0-46B5-8271-8B2961A78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18E1-DDDD-4F36-8860-E91C22B5078E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d6d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entury Gothic"/>
              </a:rPr>
              <a:t>Native Americans of Pennsylvania</a:t>
            </a:r>
            <a:endParaRPr b="1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pic>
        <p:nvPicPr>
          <p:cNvPr id="1738" name="Picture 4" descr="algonaquin people"/>
          <p:cNvPicPr/>
          <p:nvPr/>
        </p:nvPicPr>
        <p:blipFill>
          <a:blip r:embed="rId1"/>
          <a:stretch/>
        </p:blipFill>
        <p:spPr>
          <a:xfrm>
            <a:off x="168120" y="1828800"/>
            <a:ext cx="4496040" cy="2933640"/>
          </a:xfrm>
          <a:prstGeom prst="rect">
            <a:avLst/>
          </a:prstGeom>
          <a:ln w="0">
            <a:noFill/>
          </a:ln>
        </p:spPr>
      </p:pic>
      <p:pic>
        <p:nvPicPr>
          <p:cNvPr id="1739" name="Picture 2" descr="https://encrypted-tbn3.gstatic.com/images?q=tbn:ANd9GcSrGa9dGZmyqaI3fSCBHyIsbLCYqYMPI7pOsfL6apdVq11aNzcYDRgtA-A"/>
          <p:cNvPicPr/>
          <p:nvPr/>
        </p:nvPicPr>
        <p:blipFill>
          <a:blip r:embed="rId2"/>
          <a:stretch/>
        </p:blipFill>
        <p:spPr>
          <a:xfrm>
            <a:off x="6629400" y="1055520"/>
            <a:ext cx="2286000" cy="3200400"/>
          </a:xfrm>
          <a:prstGeom prst="rect">
            <a:avLst/>
          </a:prstGeom>
          <a:ln w="0">
            <a:noFill/>
          </a:ln>
        </p:spPr>
      </p:pic>
      <p:pic>
        <p:nvPicPr>
          <p:cNvPr id="1740" name="Picture 4" descr="outline of pennsylvania"/>
          <p:cNvPicPr/>
          <p:nvPr/>
        </p:nvPicPr>
        <p:blipFill>
          <a:blip r:embed="rId3"/>
          <a:stretch/>
        </p:blipFill>
        <p:spPr>
          <a:xfrm>
            <a:off x="4667400" y="4240080"/>
            <a:ext cx="3924000" cy="2857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  <p:sndAc>
      <p:stSnd>
        <p:snd r:embed="rId4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Delawar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0676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acticed large-scale agriculture in addition to hunting/gather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the regions around the Delaware Riv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had relatively easy access to small game of the region: fish, birds, shellfish, &amp; de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ultivated field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vegetati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sing slash and burn &amp; companion planting techniqu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thus maximizing the productivity of their lan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ombination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se methods of food production allowed them to maintain a larger population than other nomadic hunter-gatherer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uld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2520" y="-954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Nanticok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6480" y="1297080"/>
            <a:ext cx="944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name Nanticokes is derived from Nentego, which means, "Tidewater People.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Very similar, culturally speaking, to the Delaware; they considered them to be “elder kinfolk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2520" y="-954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Nanticok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480" y="1297080"/>
            <a:ext cx="944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name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Nanticokes is derived from Nentego, which means, "Tidewater People.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Very similar, culturally speaking, to the Delaware;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y considered them to be “elder kinfolk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6d8c0"/>
                </a:solidFill>
                <a:latin typeface="Garamond"/>
              </a:rPr>
              <a:t>Shawnees</a:t>
            </a:r>
            <a:endParaRPr b="1" lang="en-US" sz="6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-76320" y="1600200"/>
            <a:ext cx="922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ame comes from their wor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wanw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hich means "southerner.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wnee women planted and harvested corn and squash. Shawnee men hunted in the forest for deer, turkeys, and small game and went fishing in the rivers and lak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wnee food included soup, cornbread, and stew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6d8c0"/>
                </a:solidFill>
                <a:latin typeface="Garamond"/>
              </a:rPr>
              <a:t>Shawnees</a:t>
            </a:r>
            <a:endParaRPr b="1" lang="en-US" sz="6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-76320" y="1600200"/>
            <a:ext cx="922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ame comes from their word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hawanwa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, which means "southerner.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wne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omen planted and harvested corn and squas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Shawne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n hunted in the forest for deer, turkeys, and small game a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ishing in the rivers and lak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wnee food included soup, cornbread, and stew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Iroquoi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Title 1"/>
          <p:cNvSpPr/>
          <p:nvPr/>
        </p:nvSpPr>
        <p:spPr>
          <a:xfrm>
            <a:off x="76320" y="411480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roquois called themselves the Hodensosaunee, or "the people of the longhouse" because Iroquois life centered around the longhouse and their family 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ame Iroquois came from their rival, the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gonquians; it means rattlesnake-th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gonquians viewed the Iroquois a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lent killers who, by the time yo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lized they were there, were read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Iroquoi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Title 1"/>
          <p:cNvSpPr/>
          <p:nvPr/>
        </p:nvSpPr>
        <p:spPr>
          <a:xfrm>
            <a:off x="76320" y="411480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oquois called themselves the Hodensosaune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"the people of the longhouse"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Iroquois life centered around the longhouse and their family 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name Iroquois came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ir rival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lgonquians; it means rattlesna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th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gonquians viewed the Iroquois a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lent killers who, by the time yo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lized they were there, were read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Iroquoi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itle 1"/>
          <p:cNvSpPr/>
          <p:nvPr/>
        </p:nvSpPr>
        <p:spPr>
          <a:xfrm>
            <a:off x="0" y="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roquois were actually six nations combined together, in the Iroquois Confederacy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Title 1"/>
          <p:cNvSpPr/>
          <p:nvPr/>
        </p:nvSpPr>
        <p:spPr>
          <a:xfrm>
            <a:off x="2590920" y="2816280"/>
            <a:ext cx="62481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ive original nations were the Mohawk, Oneide, Onondage, Seneca, and Cayug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ter, the Tuscarora joi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Iroquoi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itle 1"/>
          <p:cNvSpPr/>
          <p:nvPr/>
        </p:nvSpPr>
        <p:spPr>
          <a:xfrm>
            <a:off x="0" y="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roquois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ually six nations combined together, in the Iroquois Confederac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itle 1"/>
          <p:cNvSpPr/>
          <p:nvPr/>
        </p:nvSpPr>
        <p:spPr>
          <a:xfrm>
            <a:off x="2590920" y="2816280"/>
            <a:ext cx="62481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ive original nation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re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hawk, Oneide, Onondage, Seneca, and Cayug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ater, the Tuscarora join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1738440" y="152280"/>
            <a:ext cx="56671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TextBox 2"/>
          <p:cNvSpPr/>
          <p:nvPr/>
        </p:nvSpPr>
        <p:spPr>
          <a:xfrm>
            <a:off x="47520" y="1143000"/>
            <a:ext cx="90680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roquois were hunter-gatherers, but much of their food came from far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hree Sisters” were their most important cro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hree Sisters is the name the Iroquois gave to beans, corn, and squas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also hunted and fish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spring, the Iroquois collected sap from maple trees and made maple syr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ir food stores allowed them to sustain a larger population than other Native American grou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d6d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-106200" y="-22320"/>
            <a:ext cx="441936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entury Gothic"/>
              </a:rPr>
              <a:t>Algonquian</a:t>
            </a:r>
            <a:endParaRPr b="1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pic>
        <p:nvPicPr>
          <p:cNvPr id="1742" name="Picture 1" descr=""/>
          <p:cNvPicPr/>
          <p:nvPr/>
        </p:nvPicPr>
        <p:blipFill>
          <a:blip r:embed="rId1"/>
          <a:stretch/>
        </p:blipFill>
        <p:spPr>
          <a:xfrm>
            <a:off x="1440" y="925560"/>
            <a:ext cx="4341960" cy="3798720"/>
          </a:xfrm>
          <a:prstGeom prst="rect">
            <a:avLst/>
          </a:prstGeom>
          <a:ln w="0">
            <a:noFill/>
          </a:ln>
        </p:spPr>
      </p:pic>
      <p:sp>
        <p:nvSpPr>
          <p:cNvPr id="1743" name="Rectangle 2"/>
          <p:cNvSpPr/>
          <p:nvPr/>
        </p:nvSpPr>
        <p:spPr>
          <a:xfrm>
            <a:off x="-152280" y="472428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Jerry Hunter, a native of Lac-Simon indian Reservation and wearing Algonquin traditional dresses and paint, takes part into the dance contest of Wendake Pow-Wow July 1, 2012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4" name="Picture 3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3114720" cy="4586400"/>
          </a:xfrm>
          <a:prstGeom prst="rect">
            <a:avLst/>
          </a:prstGeom>
          <a:ln w="0">
            <a:noFill/>
          </a:ln>
        </p:spPr>
      </p:pic>
      <p:sp>
        <p:nvSpPr>
          <p:cNvPr id="1745" name="Rectangle 2"/>
          <p:cNvSpPr/>
          <p:nvPr/>
        </p:nvSpPr>
        <p:spPr>
          <a:xfrm>
            <a:off x="4952880" y="5867280"/>
            <a:ext cx="44197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entury Gothic"/>
              </a:rPr>
              <a:t>Iroquo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Rectangle 9"/>
          <p:cNvSpPr/>
          <p:nvPr/>
        </p:nvSpPr>
        <p:spPr>
          <a:xfrm>
            <a:off x="5629320" y="108576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wo members of the modern-day Iroquois, on a reservation in New Y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3" name="wind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1738440" y="152280"/>
            <a:ext cx="56671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TextBox 2"/>
          <p:cNvSpPr/>
          <p:nvPr/>
        </p:nvSpPr>
        <p:spPr>
          <a:xfrm>
            <a:off x="47520" y="1143000"/>
            <a:ext cx="906804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oquois were hunter-gatherers, but much of there food came from farmin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hree Sisters” were their most important cro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ree Sisters is the name the Iroquois gave to beans, corn, and squas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lso hunted and fish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spring, the Iroquo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llected sap from maple tre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made maple syr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ir food stores allowed them to sustain a larger popula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n other Native American grou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7520" y="152280"/>
            <a:ext cx="9096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Susquehannock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TextBox 2"/>
          <p:cNvSpPr/>
          <p:nvPr/>
        </p:nvSpPr>
        <p:spPr>
          <a:xfrm>
            <a:off x="0" y="1143000"/>
            <a:ext cx="914400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 Susquehannocks were Iroquoian-speaking Native Americans who lived in areas adjacent to the Susquehanna Riv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re is no record of what the Susquehannocks called themselves, but an Algonquian-speaking tribe from Virginia called them the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Sasquesahanough,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meaning "muddy water people” due to their proximity to the Susquehanna River, and the English transliterated that name to Susquehannoc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n the late 1600s, they were assimilated into the Iroquois Confederacy, although they were not recognized as an independent nation-memb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7520" y="152280"/>
            <a:ext cx="9096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Susquehannock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TextBox 2"/>
          <p:cNvSpPr/>
          <p:nvPr/>
        </p:nvSpPr>
        <p:spPr>
          <a:xfrm>
            <a:off x="0" y="1160640"/>
            <a:ext cx="9144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 Susquehannocks were </a:t>
            </a: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Iroquoian-speaking Native Americans who lived in areas adjacent to the Susquehanna River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re is no record of what the Susquehannocks called themselves, but </a:t>
            </a: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an Algonquian-speaking tribe from Virginia called them the </a:t>
            </a:r>
            <a:r>
              <a:rPr b="1" i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Sasquesahanough,</a:t>
            </a: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 meaning "muddy water people” due to their proximity to the Susquehanna River, and the English transliterated that name to Susquehannock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In the late 1600s, they were assimilated into the Iroquois Confederacy, although they were not recognized as an independent nation-memb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30592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howcard Gothic"/>
              </a:rPr>
              <a:t>E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TextBox 1"/>
          <p:cNvSpPr/>
          <p:nvPr/>
        </p:nvSpPr>
        <p:spPr>
          <a:xfrm>
            <a:off x="90360" y="1222200"/>
            <a:ext cx="8901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ames Eries is a shortened form of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ielhona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eaning "long tail.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were decimated by warfare with the Iroquois in the 17th century for helping an enemy of the Iroquo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rie were absorbed by the Iroquoian tribes, and gradually lost their independent identity, although they never achieved full status as part of the Iroquois Confedera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grew a variety of corn, beans, and squash  during the warm season. In winter, they lived off crops that they had stored and animals taken in hu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30592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howcard Gothic"/>
              </a:rPr>
              <a:t>E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TextBox 1"/>
          <p:cNvSpPr/>
          <p:nvPr/>
        </p:nvSpPr>
        <p:spPr>
          <a:xfrm>
            <a:off x="90360" y="1222200"/>
            <a:ext cx="8901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am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ries is a shortened form of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rielhonan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, meaning "long tail.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cimated by warfare with the Iroquois in the 17th century for helping an enemy of the Iroquo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rie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bsorbed by the Iroquoian tribes, an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duall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t their independent ident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lthough they never achieved full status as part of the Iroquois Confedera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grew a variety of corn, beans, and squash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the warm season. In winter, they lived off crops that they had stor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nd animals taken in hun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30592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goe UI Black"/>
                <a:ea typeface="Segoe UI Black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TextBox 1"/>
          <p:cNvSpPr/>
          <p:nvPr/>
        </p:nvSpPr>
        <p:spPr>
          <a:xfrm>
            <a:off x="90360" y="1222200"/>
            <a:ext cx="8901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the Algonquian and the Iroquois lived inside the borders of modern-day Pennsylva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groups were made up of several different tribes, but grouped themselves together based on cultural similarities (language, primaril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the Algonquian &amp; Iroquois were hunter-gatherers, but each also cultivated fields in order to build greater food stores, allowing for a larger population than other Native American groups at the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30592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goe UI Black"/>
                <a:ea typeface="Segoe UI Black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Box 1"/>
          <p:cNvSpPr/>
          <p:nvPr/>
        </p:nvSpPr>
        <p:spPr>
          <a:xfrm>
            <a:off x="90360" y="1222200"/>
            <a:ext cx="8901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oth the Algonquian and the Iroquois lived inside the borders of modern-day Pennsylvani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ot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roups were made up of several different tribes, bu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grouped themselves together based on cultural similarities (language, primarily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ot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Algonquian &amp; Iroquois were hunter-gatherers, but each als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ultivated fields in order to build greater food stores, allowing for a larger population than other Native American groups at the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aramond"/>
              </a:rPr>
              <a:t>The Algonquian Tribes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Algonquian people were made up of several different tribes : the Adirondecks, Delawares, Mahicans, Montauks, Wappingers, Nanticokes, &amp; Shawnees, among others. They are the most populous and most widespread Nort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merican native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number of tribes wer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sually in the hundreds , 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ithin these tribes they spok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veral related dialec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9" name="Picture 6" descr="madelein"/>
          <p:cNvPicPr/>
          <p:nvPr/>
        </p:nvPicPr>
        <p:blipFill>
          <a:blip r:embed="rId1"/>
          <a:stretch/>
        </p:blipFill>
        <p:spPr>
          <a:xfrm>
            <a:off x="5715000" y="3657600"/>
            <a:ext cx="3429000" cy="2819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aramond"/>
              </a:rPr>
              <a:t>The Algonquian Tribes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Algonquian people we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ade up of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veral different tribes 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he Adirondeck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lawares, Mahicans, Montauks, Wappingers, Nanticokes, &amp; Shawnees, among other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 They are the most populous and most widespread Nort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merican native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number of tribes wer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sually in the hundreds , 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ithin these trib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hey spok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veral related dialec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2" name="Picture 6" descr="madelein"/>
          <p:cNvPicPr/>
          <p:nvPr/>
        </p:nvPicPr>
        <p:blipFill>
          <a:blip r:embed="rId1"/>
          <a:stretch/>
        </p:blipFill>
        <p:spPr>
          <a:xfrm>
            <a:off x="5715000" y="3657600"/>
            <a:ext cx="3429000" cy="2819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398520" y="-73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did they liv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114120" y="838080"/>
            <a:ext cx="8513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lgonquian Peopl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re a semi-migrator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group that inhabited mo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the Canadian reg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th of Hudson bay, be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een the Rockies &amp;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lantic Ocean, extend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far south as present-day Ohio, Virginia,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st Virginia, Western Maryland, Alabam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th Carolina, Kentucky, Illinois, Indiana, and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nnsylvania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5" name="Picture 7" descr="algonquian territory"/>
          <p:cNvPicPr/>
          <p:nvPr/>
        </p:nvPicPr>
        <p:blipFill>
          <a:blip r:embed="rId1"/>
          <a:stretch/>
        </p:blipFill>
        <p:spPr>
          <a:xfrm>
            <a:off x="5172120" y="836640"/>
            <a:ext cx="3903480" cy="3513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7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1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398520" y="-73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did they liv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114120" y="838080"/>
            <a:ext cx="8513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lgonquian Peopl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re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mi-migrator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oup that inhabit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the Canadian reg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th of Hudson bay, be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een the Rockies &amp;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lantic Ocean, extend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far south as present-day Ohio, Virginia,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st Virginia, Western Maryland, Alabam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th Carolina, Kentucky, Illinois, Indiana, and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nnsylvan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8" name="Picture 7" descr="algonquian territory"/>
          <p:cNvPicPr/>
          <p:nvPr/>
        </p:nvPicPr>
        <p:blipFill>
          <a:blip r:embed="rId1"/>
          <a:stretch/>
        </p:blipFill>
        <p:spPr>
          <a:xfrm>
            <a:off x="5172120" y="836640"/>
            <a:ext cx="3903480" cy="3513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6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8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4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0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Delawar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0676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called themselves the Lenni-Lenape: from their language, where Lenni means"genuine, pure, real, original," and Lenape means "Indian" or "man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glish colonists named the Delaware River for the first governor of Virginia, Thomas West, 3rd Baron De La War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English then began to call the Lenape the Delaware Indians because of where they live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Delawar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0676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y called themselves the Lenni-Lenap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from their language, wh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enni means"genuine, pure, real, original," and Lenape means "Indian" or "man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glish colonists named the Delaware Rive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 the first governor of Virginia, Thomas West, 3rd Baron De La War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English then began to call the Lenape the Delaware Indians because of where they live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Delawar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0676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acticed large-scale agriculture in addition to hunting/gathering in the regions around the Delaware Riv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had relatively easy access to small game of the region: fish, birds, shellfish, &amp; de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cultivated fields of vegetation using slash and burn &amp; companion planting techniques, thus maximizing the productivity of their lan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ombination of these methods of food production allowed them to maintain a larger population than other nomadic hunter-gatherers could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5:28:05Z</dcterms:created>
  <dc:creator>ssrsb</dc:creator>
  <dc:description/>
  <dc:language>en-US</dc:language>
  <cp:lastModifiedBy>Debes John</cp:lastModifiedBy>
  <dcterms:modified xsi:type="dcterms:W3CDTF">2015-03-02T10:59:17Z</dcterms:modified>
  <cp:revision>60</cp:revision>
  <dc:subject/>
  <dc:title>The Algonquin Tribe</dc:title>
</cp:coreProperties>
</file>