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wind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E244-F9EF-43D8-AB29-4133BC05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8B34-5A44-4029-A8F5-905B03EA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4016-096A-44C9-BB39-A7AFF90B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4E4-7726-4314-8AFA-FEF385B1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01B3-2CA2-409C-907D-66607C6F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DF0-9C3C-44B1-952B-566FB8B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EA9-2A35-4851-9D86-2F27DFB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630E2-BAE7-4100-AA7E-76F3C62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9EAF8-DFB2-4821-997C-100A68B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48C8E-2C3A-44A9-B428-12373F6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B729-ED6A-4D6C-965A-5F2B563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DBC8-D86A-4206-B8AA-885E778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163E-070E-4FB4-AB52-4FFE259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24092-217F-4D33-B12D-AF6CBE3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2309E-6D5A-4785-A3AC-8C3B1AEB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29B08-7DF9-489D-A778-26E2F2B3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04248-0EF2-4497-A9E2-E34ECC53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763-FAE3-4840-983B-4B8712A7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C251F-F485-4C9B-B268-FE18AA24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8E56A-FE85-4B56-A7BA-C6B2AD6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0193D-1955-43F1-BF01-1CB8BBC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28F6A-5DBA-400D-9A0E-5BC07427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1DA43-A1E5-45B8-BD98-846463D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FB936-A2B6-4838-AE25-B681B01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B8183-6F27-432C-8782-0DE62ED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D57F1-97E8-4826-A338-7A326A2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E7A5-B620-4870-9049-6E6F708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67673-CED2-4238-A5C3-A92811A2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056-1DE1-4A74-9AB2-10B544B3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A7C23-EE6D-4390-B88E-2BF0CFA9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E3BB3-19E5-4D5C-8194-96B842E0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776FB-6116-413D-8E71-321EA06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83239-FA74-4FF6-86AA-81034606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E5881-402E-4974-93CB-649FA84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E7F37-07F7-461B-A60B-6F885B0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9D2DE-8459-43D6-A291-6BF8EA5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2999-ADBD-4435-9C69-00686C2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998A9-B537-4756-A6DC-70A6E40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98B30-6DC0-48B7-8E3F-4D3DF52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65CC-24B2-4DB3-9F16-C21B0368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0E949-2C72-4501-9567-CE4A695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F3896-C918-4ADE-BFF1-0350D6CC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7C93-D8F5-44AB-BA13-0929C285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EFE297-D090-4C67-8792-AAC2D8AC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63F386-217B-4884-BDBE-707DA5A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C83B86-138D-4973-8E84-3B33E42D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F3C157-7B06-4F46-8AF2-DC4D65B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040346-EFA3-4D82-8529-C8755C5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861954-DCFB-4BE2-8782-15C0D20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BB7EBD-4F59-4EDA-973B-1CC6673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8BE6-60A3-4C04-8A9C-F6BD57B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DEA932-ADA4-40BB-8BF7-FAF331A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6A5430-A85E-4BD7-B93F-1DB1AEF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44580C-5203-456D-8179-0A69A57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5A7C86-8B4E-4198-850A-80D14D7D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58D0EF-A035-4C0C-8C92-F200FAC4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5E694-9246-425E-BC1E-D5F85BC0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4468A-3A35-42E6-A0CD-BAA46F5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D0EC4-D950-4AF1-9694-3C92129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C55EF-6A74-43E7-BEC1-87DC21A3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C8503-D740-4F31-8BC3-0CB6435B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263-D39B-41D6-B403-850DD75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63DCC-A8C9-4D4A-A73F-D3A48EF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256EE-FD84-48F2-AEBA-9780AEB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0D54D-632B-4110-8904-DF1762C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28A77-24C9-4395-9508-C1A4465F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DB8F1-DC8D-4277-924C-E185701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F2ED8-4028-4A9F-B215-01377669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E1F0C-86EA-4849-AC7E-00B11D4F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7E5A6-4F8F-4A13-8535-9137D637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8E6CE-5B29-4B43-93F6-659133F7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B89FF-0143-4944-A584-45CD698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CF8-799C-4C2F-9CD1-5519751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F1202-28D9-4BF2-BA47-7CB0C60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405AA-0C6A-4FD5-9D09-DB3D99D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EB85A-D3C0-4931-993C-FBDB0282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55EDB-DABA-421E-BBA0-8A782EB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8E60B-18C6-4F9B-9ABB-4771A59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EEAF7-408D-4795-A848-909D692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22AF9-E807-4A24-B0D3-725BD54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2B39D-9239-4625-8C65-F6066102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B07A9-C8C1-4DCC-BD7D-7304ACA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E4B0D-7C5C-4933-A4C9-F1597547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1632-7015-4B60-BE9D-DAB44A7C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F1B5E-96A9-45F0-9099-F8B3FE2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F67DD-D8ED-47C1-8E57-AB79FCDB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7579D-1008-4B89-A8D9-F3E5D84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6DCD4-D80F-4A92-B9E6-F0323816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DA3E9-3144-4E4B-9922-B391553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EC1B0-FBA4-4782-8DAC-852E810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78718-6B52-41BB-A545-E0758E9A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8492A-45D5-4B4A-A4A5-D1DF3E2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06260-F79B-4F12-8C99-C56868A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B0135-FB50-4568-A6F4-3FECEA86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5B4-239B-4381-9D9F-DDC47EA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BA3CF-E4AE-4B59-915D-72684EC7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F6D5D-5918-4FEE-A6A8-8F3B3FAF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9605D-8FA9-4C92-A1C3-1513452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296B4-F0B6-4FCF-92EC-8AB7851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B8B6A-1B00-43C8-BFB2-DF40AC2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799C2-8A56-44C2-A87A-18A91F8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A5815-6B2C-413F-9D0D-9E65592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168DE-EBD7-4AF0-931E-3542B917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543CE-3CCA-41A6-B863-F884D33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06BE2-E946-4B8E-B4DE-31C45CA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BFEB-9423-43A4-ACBA-6170E7E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0465E-2CC4-46A2-9A1F-96DF58E5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186A3-EF72-40AE-B5C6-5C47172C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82EBE-1536-4E67-8CF3-9389426B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3A9DE-8D15-4BB4-A1AA-19C7861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C7BDE-E63A-4D13-911A-61B787A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E7C8D-A49D-4026-A217-050A2EA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EC0E1-D1EB-4262-A2B0-A95D5FE0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0A043-EAA3-49F7-9956-72E6B33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9BF65-5287-488E-ACC3-EBAF0DD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B5AA3-D4F2-48E7-B90D-840A5D7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368-E1DA-416E-8D1F-EC8C0F1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EFF-224D-402B-8300-971A11D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66A21-B416-4D86-9F06-12CB992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BED9E-5108-4963-821E-C44C7744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7CAB3-0717-4769-B88B-51E3E53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DD29D-5680-4B0D-8CBA-97673825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EAC9D-4731-4995-8E5C-C992AC09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4E826-26D4-419D-9EE2-1CFB2E5E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C86AF-556D-4F8E-93CD-14F2BC2C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65E63-9348-4AF5-B854-70D67C8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60A4C-0D04-4721-B523-FA95C7EF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36E14-1770-4916-AD7B-A465109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B1A-3019-4F67-BFF2-E63D9A9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F4047-6A53-48F0-A0E1-DDCDB0F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C6202-F43C-4A40-A47D-CA8DE87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4AA9D-8699-47D9-BA0E-D399E587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EBA69-F324-47CF-B8C6-BCDB959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5430F-F82A-48FA-B112-87DEEED2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16820-DC6A-4A44-AEBE-FDFA12DE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6D13A-232F-4304-A6E5-7D707940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57FC7-05AA-4943-AC26-9D9DF56A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821B6-CEDD-4003-9B83-BAC0DCE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716DE-AA3F-42F9-B5AD-C36B54EF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0B6-817B-4C67-89D0-A8770B8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61C16-60B1-4993-9C07-EC8DB91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46BE4-630D-414B-9EB7-59C4B12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CF65E-9F82-4940-85B6-47C459D7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0A2F0-9265-4BC3-A317-8CF8996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E2EA7-BA8C-40E9-B4F7-DAC5DEC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120F4-BFA4-4355-AA4D-5CAF10E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9ABD1-6A50-48EB-8E4C-ECE539C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F0D22-55F5-4E01-8FB6-B9BF3486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DC046-5529-4C70-A27B-B6BEAA48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960F3-D0A2-4AB6-BF52-D349B494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20D3-5E64-4923-B668-B47696EE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F259A-FE56-4C57-928C-E444472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5C994-DEDB-483E-B72E-702A295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C3E5E-2399-450A-95A4-6B36A8E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6106A-925D-4EBF-95A7-15AC61D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F473E-2D5B-43E3-AAF1-56B3358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F433A-9041-43A5-A557-8AD8485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14563-3A40-4B91-9BBA-EB1B301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22869-A013-457C-BE57-629D47E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EFC4A-2491-43C7-92D7-58A0D1D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EE547-FE8E-466C-862B-A9816000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4D68-9F65-40E2-A621-B10148B0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8E34A-7FFA-4C69-9F25-44595100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76910-3764-45CF-99F2-74A35A69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A3F8D-2CF7-4EF1-AAA3-4A760D8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F90CA-9492-46B7-9934-309CCD1F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27514-E2FA-4D45-8CCE-3B78A63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2ABA6-758E-423E-9DBA-CCFC5CB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075D77-7493-40B5-BBA4-C16DE234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4C4AF-A172-4221-A017-2E4804B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2410E-F01F-444D-B617-50A249A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061BE-79B7-4190-93A4-D814381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12B7-F058-4D49-993D-09D31C35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4B8FE-B7D6-45B7-9672-E557114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5E9D2-CCB6-47E0-B895-3BB6FC6B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50245-B7F3-4D53-9786-D9D0C0DC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075D7-262F-4329-9738-F984ED77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13114-7E39-45DA-A729-83A3B85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D1BB7-04DD-4306-B1F0-30DD864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295F9-FE58-49B7-9F15-0DAD25EC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09F1C-EB65-4967-815B-715DDA0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80E10-322F-4B79-A7E2-6C377A3B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94AC9B-59BA-43FE-99D6-78A02A6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83AC-3B38-4B92-B355-06916C1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BE883C-2E21-414A-943F-C69BC6A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D74BE-E3EF-4D31-8729-791A7D4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A0E08-6EC3-492C-9E9D-FC3763E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3224B-EDDE-459C-8781-DA7CE707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D05AE-B822-4D8D-BF7B-79EDB50B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6D5603-9D18-4AD7-8DFD-FD429C38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B09C3-6227-4C80-8A2F-7184315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2CE1E-4280-458A-B68F-F1F3D661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A0E5A-D264-47E9-A4F0-9015486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77F5C6-99F8-4CCA-82E4-CC0C971B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DE1C-22D9-4B18-B10A-9374768A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402A1-A463-47A6-98C0-792722C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4E9BA-1A3F-45C2-9009-FF630386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14A28-8225-4FB8-856D-6008802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98C1D-793B-4FFB-ABA5-76A7A87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2DC78-E5C3-4324-A272-4384C154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F983E-B512-48F2-A35E-495FBEBB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EE12C3-4775-4B99-95E6-E805A8BC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23302-CDC5-47F5-9D9D-9F8CFFA9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DF6CE-6038-4676-9E0D-8EAE2B5F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73E8AE-A34E-426D-ADA9-27E5ED2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24D9-E19E-4F37-AE1E-8DB30870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BA3A5-6485-48B3-BEBA-5D33F12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E24FFB-E4EB-4E0B-AC5F-9B12860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C41165-3361-4686-ACAA-30B8AA7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9A62A-4C20-4367-B56D-3D4A340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F39E49-D677-478B-B09D-931D64A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79246-475D-4D04-9A62-F9BB802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10DC21-13E3-4287-8AB7-88E7D73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2C6FA-CCD6-40A0-8998-3D381B5B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B48C09-8442-4D5E-B8C6-B0445CEB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A6C9A5-9C93-419F-81BE-BEEC26CD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FD45-7671-41B8-BBCA-98C9D199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58F558-4D2D-43CB-907E-A3A4CE3F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225B2A-59B5-430E-8257-4BAE9079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C94FC-20B2-43CF-81D6-5D6AD5A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05AAE7-3BAF-45D9-A97C-FD1C85E4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1977C4-495F-40C2-B53A-8A2B5ED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214937-41C4-488C-A78E-ED1F881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8244F4-0923-47AB-8040-9CD49EC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2EAF9C-90CA-4DB0-9319-49E757B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7A504-05DE-4C2D-8C73-EC9C996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F43083-B31C-4629-8A5C-3B60B044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3FC-213A-4786-B326-BB9C816E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E349-C86F-4D34-A0D3-6C7741AC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17A233-F4DB-4BA4-9930-D4B06A32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414475-6466-46AC-9DF9-A62F7E0A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856D10-8A79-4A93-8601-827C390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6E6384-1397-4BDF-A453-045C3D7D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6E236E-56C1-46B8-8659-4BBC29B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22AA51-FCCA-426C-9A8A-FCDF857E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A7B8B5-5270-4F27-8591-3E743703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0CB76A-BB54-4D1D-8F9E-6637A80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C040CD-1460-4B11-84B0-0DEED42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689EF-5C10-486E-9FF7-72F9D5C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F9E9-CD60-4454-A122-30C9AAB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57B735-510D-4F3E-9354-8F0EB7C3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E5DD8E-B7D9-43EF-B72F-2AE50A3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4E946F-C04C-4A40-8D41-90629AEF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5110D-D472-4ECD-8E2B-25AFC14D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D2B8B4-3C74-4471-AAC2-12BA9857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01EBED-5A5E-415F-B3A8-548C950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B9824F-D563-4126-B109-D4E76A12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ECABF3-16FE-4F3C-8106-CFEC20A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C8CFC7-149C-4F98-BC20-122CB8F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1FCCE9-86C6-4CA5-A174-84C1B65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742E-01A7-4ECB-85E9-D746D9F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8E9688-75D7-4EE7-AEAA-325DC6B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93D2E9-71B3-4C61-BE8D-AF3E3E25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85D7D9-A1A6-4101-941C-752598B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E44A1B-4180-400F-B1A6-87A16095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843DD0-0AF7-4778-A080-62A4A7B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7F99A-38C2-4D90-B859-24816922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BD2BB0-6865-4664-B5C5-CA81910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75659-653C-4549-8590-812CBC2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BA43A-1826-4D55-9F9D-E6C4DBCB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5AF9F8-8513-4166-A933-8D9FD5B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70C1-C01A-4E25-92D8-F77A5F8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FA9C55-D681-4FF6-9B86-14F6FA3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93C962-6B72-466A-94B2-87679D3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551EA5-A437-4225-B010-DB3DCCC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C12947-1DC4-4F15-88D1-65A2F13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24A8B-4062-428E-AF6A-4E39B975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704BE6-A93E-4580-B5D6-B90C2AB4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A6EC93-6326-4765-A08B-46040D0E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303FA9-472A-469E-9FB6-EBBC5E72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A5B218-2DDE-4ED5-A956-AF1CC84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F73D8E-F77E-4592-883A-AF47540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2245-8B49-4D6F-9820-85BE9350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6F1B8-19D2-4047-9E76-D644C1E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9C514C-E590-4BDD-BF24-28BB0C9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2619E8-58C0-4522-BFB0-EFD5D574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429FEC-A584-457C-B4F2-E43F358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BF41F6-8333-43A7-8A1C-E7A45A5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A6A33E-F0B0-4E07-9C8E-8ED614A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D3FE46-B82F-4850-BEC5-236487FE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2D2144-8AB7-4FF3-98E3-5FDFBEA5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76E630-E6B5-4090-A6DD-1D3322EC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26DC73-0E64-441E-8A49-D9B7556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BA0B-1BEE-4850-8936-8BB0730F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474008-89FF-4FA8-810A-A0AA896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6C48F6-D6A5-4DC3-AA69-ECA1783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00365-C40D-44E1-BC8F-E008F83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6596A9-B978-44C5-8FE1-07793B4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4F5D7C-DD99-4467-BE5A-B2B23AC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33BA5-6985-4DA2-9380-CD44B97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B868D9-42EA-4A49-83E9-A7D9A7D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0A048B-8ADD-4516-9FF4-E5C4BA59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B6D433-3F0A-4AA6-8A8F-FD7F2D5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D5BAF0-6413-4F11-BDC2-4DF9A172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1FA6-AA08-4CB7-84CA-4F689A5F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2B5AD-820E-4511-94DA-EE70D1BD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E6402B-A350-4C7E-AF96-6329FD7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064100-9012-4E0A-888F-250A9DD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AFCCFE-6A5E-47BA-881B-7995A69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26DA48-292D-4E47-9539-0A20DCC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1BC80-925E-4296-B545-7331F08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64187A-F7D5-4C28-A89A-D531B97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09364-37B3-44E0-AAFE-00CED80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B042A2-1A43-4F8E-AD5A-33E08EF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A839BE-46E4-4545-8DEA-64AD0D3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2A79-B6E1-47EF-8047-C9B69C9F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36DB18-90A8-4252-B267-DBB843E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D286DD-CF70-4D5D-BE4D-4512EF7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EEE238-D2F3-486B-8AA3-146E0509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64F875-E775-42EA-BAFF-47840478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6DC41E-70AD-46A0-A341-7FD9E26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056C36-39F5-4F31-A15A-2A5362DA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EF54DD-7D86-4DC8-8FD3-F97BD1B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0BB7D7-E710-44DC-9E4D-4BCC60F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40B7E1-5DD9-4E47-BA58-FE06E678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96148E-71BF-4300-B9DD-26C28C4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951A-A593-4D88-8FE8-4A46042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ACA639-582C-4DA6-A78E-68B7758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B6A280-BD65-4F2B-B608-8FC4E69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79179D-8954-48C2-A8C0-9CC03F3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1E50F0-966C-4DD1-A6AE-12AF2292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4194DB-8F0B-4DD1-B382-7B1856A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2BF6FE-0C58-465E-92DC-8BC14E39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C0BEBD-2B4D-40AA-B9D8-C64B9A6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01EC7B-5A7B-4B06-8EC8-6F118F5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8C3F99-B1CE-4F2A-9D10-81C761B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94B0E8-3F98-4E5E-BE65-262B52D4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A9FB-3888-4268-BF9A-6CB7008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05AF60-7D67-43C8-A4B1-3EF02123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C9C60B-FAD2-4E96-8BE1-A1DF4A23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504FCD-6969-45CF-851C-01E631C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D74113-6390-4015-8131-A29E674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D00047-8453-4960-8B0F-0D23FFC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13F3AA-50DA-4167-A339-73ED40DD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5FAA60-ED6E-4026-BEC8-A30E74E9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77F111-3E3E-436B-82C5-637A345B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4828AE-13D3-4341-8328-F71734C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B8AF3A-D9FF-4CC6-8559-ED5CC1B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0B5-3861-45AA-9820-1AD6678E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865A-0005-4607-B4A1-29535938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9695A8-94BB-47D0-9F1F-8AEF40D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63BEFA-3084-4D3D-AAB6-F4F29DB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AEDE65-CBDD-4B2D-9662-483F1AD0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010E12-1EDC-4D47-963F-5F2F272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F21876-C049-4C25-A78A-1A4AFEB3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BC9A9D-A8D1-4913-9E8B-03A66BC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AA1C6-BFDA-405C-BA78-2F8C4242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280A22-BAA9-4D1C-B6DB-4F77371B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A733B0-6AC8-4B79-9779-7C4BBA45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8FCC13-B477-4CA7-A6C1-C649B87D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D729-08B1-4851-8EFF-12AC428F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D894C8-06BB-4D11-8470-0F02EB2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FC372D-CBA1-41D7-AD98-FDFB467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786C3F-9FB7-4072-9FCE-F3DD68E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46D161-8E9A-4B80-9917-6F3032A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AEE33B-0EE4-4661-8346-7200B01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1559F4-F1E5-4A56-98D1-4CDD272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D18411-9499-441F-928A-FE4A877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035028-34FD-45D2-9900-757F49E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E42949-E257-479B-ABC5-B2414FA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065DC2-C6CA-4FD7-BF25-776DE606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F54D-3F45-4B5A-B5E2-B3B633F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25D429-0775-4BDE-B1A7-A1E1DB52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946399-5D64-4359-BA91-8F789B21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554088-5BB1-4656-9B1C-5B3C68C7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D6FDF1-23CD-4A6A-8EAB-9D99C6F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5352FD-925F-4087-9639-04EEC35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AD373A-6AC3-4DB7-8DF1-40F8270E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9CCA03-E3EC-4390-8929-3EB0EDB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B8A2A9-AFAC-4912-AC4A-AC38B41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1A03C6-F3A8-470C-8689-9B4012E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50E284-2A4F-4ACD-904D-822FBC3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6E70-5B39-4C42-A481-06FC032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F766BC-CB84-4143-BB55-A15F032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9B2935-AFA3-410C-AAD0-8F737069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33795C-8D69-41B0-A969-0A4C70F8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4A1A-8436-4578-A79D-1CF494D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8C5E-3AD9-4B35-A434-91D3067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4701-61BB-439B-9D57-7368F556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3008-1E9A-4F4D-A556-A2BE6322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20ED-B6E5-49C2-910E-729D827E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936F-0884-4FB5-A188-72E63CD5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D98-7CFE-4CF1-8996-5E5AA64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560E-62D1-4F7E-ADAA-8EA8D32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2969-F935-4935-A7C2-EA16C88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850B-47D6-433B-9155-C5402ED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2972-57E2-4DA0-8CBB-CD9E82E2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DEE4-CAF6-4706-8798-E46126F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A3A5-D76E-47C4-8808-926E687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8E09-4EE5-4EA8-A857-EDC9BD2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7BB8-A0A8-4303-A15E-80EECE7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43480-8236-41BE-85B2-1ACB772D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81B4-93F1-4671-AF5A-FC770E79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D96-4849-42F5-965E-5FAFDD7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FFE5-DF31-4E83-BF73-12D41880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0BB3-EA41-4E31-AAFF-AE1C974B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F90CE-0E87-4D7E-815D-5091ACD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B8635-0D92-402A-9D04-7DA0E820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43C05-5F3F-4737-BAE9-C50F68E5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B4B57-ECF1-4F56-A74C-56914B27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1CE3-FB1C-4215-8F17-E8BF256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2E63-E8E0-45D0-8B88-CD57A6E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0087-4F82-48E6-8AAB-4F3DCFA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1783-9A79-4DE2-89D0-017295D0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C7B-061E-4364-9CC4-BE677BC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B9F4-199E-409E-9BF9-6432E3C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95FE-E152-4DF4-9037-B96D76DC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F95C-7CE7-4DC7-A26C-9BF71ED2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45AB-0B32-41F4-99B3-8822C0E4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BEE9-7BB7-4189-997E-BA1DED2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0B06-CDEB-440D-B490-B2EB615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60ED-360B-4BA1-966F-42D0ECF5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1C8F6-D2C2-4DE9-B91F-7E811F2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60AA-8399-4543-A739-7CC6E56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E994-EA91-4648-8472-75C496C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27A-D342-4F1E-9F34-EACFBE7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526B-6B6D-439A-99EB-F48EC3C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3CA81-EDE6-41BA-9DC0-B24E909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3D55-32D1-4E18-9B9E-846DEFC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AE00-7DD7-47B9-A6EB-46BD2C77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1D7A-83A4-462F-8021-A5E2AEC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E48A-3AE4-442C-AFD6-9BBACA6A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ACA1-A687-4DF5-ADDA-80D7985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A62F-200B-4851-B366-EBE8460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85A2-FD4A-4FEC-BB96-6D79B5ED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1184-002C-448D-838D-4B52954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601-7214-4052-AB88-F1628D9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00A7-81B3-438B-88A9-F90245A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691B-E808-4FC7-B6D1-A2AB566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DFD8F-1274-4DF9-BA3A-C01A3A5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532FE-C2D8-4D09-A86E-465AE6D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E9A2F-0730-4A99-BC86-F14AF987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84EC-6071-4495-A17F-4643F522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00AB-5757-4019-BEB1-069EF70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47355-8705-47CE-8005-6F05DEDD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5A66-C46C-444A-A063-86682243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0F4DE-FD2F-44C4-BB25-82DC434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2FD6-4920-463F-BFEC-D7A0A724B719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0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5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6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C15-E41B-4DD4-A228-8C7E16DBE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37B-FAD8-425B-BD83-9C3EE8425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36FE-BEA0-420F-BE72-AF29E94E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E30-8FEB-4213-BE59-7F499DE62D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188-E1C1-4EE2-BA79-F8338DC8B8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3BF-2FF6-4C96-A296-0FD794762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FDF9-7E89-4691-88A6-E51514F20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204D-6289-4246-849A-4787700F0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D87-DD56-4AFF-B397-5D3363EBE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76A-0ABA-4335-B32F-AEFD5C53A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1FA-795C-4A5B-81CD-D4C0DBEE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0B5-D966-4EA9-A615-1EEB5565E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7CE-CCB2-442B-9623-1702D43C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F0A-91E1-4646-B0E5-EAE38E0CC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428-2984-4FA1-8A14-4BB99C543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628-BD4C-4558-BB71-ECECDF52A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06F0-C768-4BB6-A4CF-FE04E4F5C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D01-DAF4-408F-81BC-C835BFFDF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552B-36E7-4857-85D8-BDB349DF3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5018-0382-4410-B6DF-DCFAD04D7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B5A-C0B7-436A-A157-D229A1F3B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E14-5F23-485B-A7FB-C019E72E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A5D-A5EB-48DA-9111-8433D165A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5494-E7DC-4F43-A6BE-AE5BFD83D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48C-213A-4817-969B-1832E4544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594B-3C6A-4270-AB64-173C1AEB8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58A1-E2DF-4AF4-BC9A-1AF877E7E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261F-5F0C-4667-B5B7-2F4AA0580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107-78B9-4D81-9E49-966B8B20D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91E-47CD-4BF6-8276-ED7ADED89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879B-CC51-4A0B-866E-65FA3CDBC9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3875-DFF9-4636-91DA-0FCDF66DE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2F26-FB38-4039-9A82-9D509CAAB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D215-6A0D-46F2-94E2-33D73785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D82-4CA4-4FE1-99A3-CB78D53958CA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Native Americans of Pennsylvania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38" name="Picture 4" descr="algonaquin people"/>
          <p:cNvPicPr/>
          <p:nvPr/>
        </p:nvPicPr>
        <p:blipFill>
          <a:blip r:embed="rId1"/>
          <a:stretch/>
        </p:blipFill>
        <p:spPr>
          <a:xfrm>
            <a:off x="168120" y="1828800"/>
            <a:ext cx="4496040" cy="293364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2" descr="https://encrypted-tbn3.gstatic.com/images?q=tbn:ANd9GcSrGa9dGZmyqaI3fSCBHyIsbLCYqYMPI7pOsfL6apdVq11aNzcYDRgtA-A"/>
          <p:cNvPicPr/>
          <p:nvPr/>
        </p:nvPicPr>
        <p:blipFill>
          <a:blip r:embed="rId2"/>
          <a:stretch/>
        </p:blipFill>
        <p:spPr>
          <a:xfrm>
            <a:off x="6629400" y="1055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4" descr="outline of pennsylvania"/>
          <p:cNvPicPr/>
          <p:nvPr/>
        </p:nvPicPr>
        <p:blipFill>
          <a:blip r:embed="rId3"/>
          <a:stretch/>
        </p:blipFill>
        <p:spPr>
          <a:xfrm>
            <a:off x="4667400" y="4240080"/>
            <a:ext cx="392400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cticed large-scale agriculture in addition to hunting/gather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ultivated fiel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veget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ing slash and burn &amp; companion planting techniqu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se methods of food production allowed them to maintain a larger population than other nomadic hunter-gather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Very similar, culturally speaking, to the Delaware; 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2520" y="-954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Nantico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480" y="12970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nam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Nanticokes is derived from Nentego, which means, "Tidewater People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Very similar, culturally speaking, to the Delaware;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y considered them to be “elder kinfol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 comes from their wor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anw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women planted and harvested corn and squash. Shawnee men hunted in the forest for deer, turkeys, and small game and went fishing in the rivers and lak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d8c0"/>
                </a:solidFill>
                <a:latin typeface="Garamond"/>
              </a:rPr>
              <a:t>Shawnees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comes from their wor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hawanwa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which means "southerner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omen planted and harvested corn and squas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hawn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n hunted in the forest for deer, turkeys, and small game 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ishing in the rivers and lak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wnee food included soup, cornbread, and ste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called themselves the Hodensosaunee, or "the people of the longhouse" 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Iroquois came from their rival, 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; it means rattlesnake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itle 1"/>
          <p:cNvSpPr/>
          <p:nvPr/>
        </p:nvSpPr>
        <p:spPr>
          <a:xfrm>
            <a:off x="76320" y="4114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called themselves the Hodensosaune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"the people of the longhouse"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Iroquois life centered around the longhouse and their family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name Iroquois came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rival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gonquians; it means rattlesna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nquians viewed the Iroquois 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ent killers who, by the tim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zed they were there, were rea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actually six nations combined together, in the Iroquois Confederacy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ve original nations were the Mohawk, Oneide, Onondage, Seneca, and Cayu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, the Tuscarora jo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Iroquo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itle 1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quois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ually six nations combined together, in the Iroquois Confedera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itle 1"/>
          <p:cNvSpPr/>
          <p:nvPr/>
        </p:nvSpPr>
        <p:spPr>
          <a:xfrm>
            <a:off x="2590920" y="2816280"/>
            <a:ext cx="624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ve original nation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hawk, Oneide, Onondage, Seneca, and Cayug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ter, the Tuscarora join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2"/>
          <p:cNvSpPr/>
          <p:nvPr/>
        </p:nvSpPr>
        <p:spPr>
          <a:xfrm>
            <a:off x="47520" y="1143000"/>
            <a:ext cx="9068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oquois were hunter-gatherers, but much of their food came from f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lso hunted and f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collected sap from maple trees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food stores allowed them to sustain a larger population 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-106200" y="-22320"/>
            <a:ext cx="44193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Algonquian</a:t>
            </a:r>
            <a:endParaRPr b="1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42" name="Picture 1" descr=""/>
          <p:cNvPicPr/>
          <p:nvPr/>
        </p:nvPicPr>
        <p:blipFill>
          <a:blip r:embed="rId1"/>
          <a:stretch/>
        </p:blipFill>
        <p:spPr>
          <a:xfrm>
            <a:off x="1440" y="925560"/>
            <a:ext cx="4341960" cy="3798720"/>
          </a:xfrm>
          <a:prstGeom prst="rect">
            <a:avLst/>
          </a:prstGeom>
          <a:ln w="0">
            <a:noFill/>
          </a:ln>
        </p:spPr>
      </p:pic>
      <p:sp>
        <p:nvSpPr>
          <p:cNvPr id="1743" name="Rectangle 2"/>
          <p:cNvSpPr/>
          <p:nvPr/>
        </p:nvSpPr>
        <p:spPr>
          <a:xfrm>
            <a:off x="-152280" y="4724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erry Hunter, a native of Lac-Simon indian Reservation and wearing Algonquin traditional dresses and paint, takes part into the dance contest of Wendake Pow-Wow July 1, 2012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4" name="Picture 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114720" cy="458640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2"/>
          <p:cNvSpPr/>
          <p:nvPr/>
        </p:nvSpPr>
        <p:spPr>
          <a:xfrm>
            <a:off x="4952880" y="5867280"/>
            <a:ext cx="44197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entury Gothic"/>
              </a:rPr>
              <a:t>Iroquo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9"/>
          <p:cNvSpPr/>
          <p:nvPr/>
        </p:nvSpPr>
        <p:spPr>
          <a:xfrm>
            <a:off x="5629320" y="108576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wo members of the modern-day Iroquois, on a reservation in New Y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3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38440" y="152280"/>
            <a:ext cx="5667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2"/>
          <p:cNvSpPr/>
          <p:nvPr/>
        </p:nvSpPr>
        <p:spPr>
          <a:xfrm>
            <a:off x="47520" y="1143000"/>
            <a:ext cx="90680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oquois were hunter-gatherers, but much of there food came from farm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ree Sisters” were their most important cr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ree Sisters is the name the Iroquois gave to beans, corn, and squ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so hunted and fish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pring, the Iroquo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lected sap from maple tre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made maple syr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ir food stores allowed them to sustain a larger popul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other Native American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2"/>
          <p:cNvSpPr/>
          <p:nvPr/>
        </p:nvSpPr>
        <p:spPr>
          <a:xfrm>
            <a:off x="0" y="1143000"/>
            <a:ext cx="9144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Iroquoian-speaking Native Americans who lived in areas adjacent to the Susquehanna Riv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an Algonquian-speaking tribe from Virginia called them the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Sasquesahanough,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meaning "muddy water people” due to their proximity to the Susquehanna River, and the English transliterated that name to Susquehannoc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the late 1600s, they were assimilated into the Iroquois Confederacy, although they were not recognized as an independent nation-memb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850a">
              <a:alpha val="25000"/>
            </a:srgbClr>
          </a:solidFill>
          <a:ln w="25560">
            <a:solidFill>
              <a:srgbClr val="bc8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7520" y="152280"/>
            <a:ext cx="909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squehanno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2"/>
          <p:cNvSpPr/>
          <p:nvPr/>
        </p:nvSpPr>
        <p:spPr>
          <a:xfrm>
            <a:off x="0" y="1160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usquehannocks were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roquoian-speaking Native Americans who lived in areas adjacent to the Susquehanna River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re is no record of what the Susquehannocks called themselves, but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n Algonquian-speaking tribe from Virginia called them the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Sasquesahanough,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meaning "muddy water people” due to their proximity to the Susquehanna River, and the English transliterated that name to Susquehannock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n the late 1600s, they were assimilated into the Iroquois Confederacy, although they were not recognized as an independent nation-memb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Eries is a shortened form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ielhon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absorbed by the Iroquoian tribes, and gradually lost their independent identity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grew a variety of corn, beans, and squash  during the warm season. In winter, they lived off crops that they had stored and animals taken in h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owcard Gothic"/>
              </a:rPr>
              <a:t>E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Box 1"/>
          <p:cNvSpPr/>
          <p:nvPr/>
        </p:nvSpPr>
        <p:spPr>
          <a:xfrm>
            <a:off x="90360" y="1222200"/>
            <a:ext cx="890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s is a shortened form of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ielhona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meaning "long tail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cimated by warfare with the Iroquois in the 17th century for helping an enemy of the Iroquo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rie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bsorbed by the Iroquoian tribes,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t their independent ident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though they never achieved full status as part of the Iroquois Confede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ew a variety of corn, beans, and squash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the warm season. In winter, they lived off crops that they had stor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d animals taken in hu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and the Iroquois lived inside the borders of modern-day Pennsylva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groups were made up of several different tribes, but grouped themselves together based on cultural similarities (language, primari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 Algonquian &amp; Iroquois were hunter-gatherers, but each also 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UI Black"/>
                <a:ea typeface="Segoe UI Black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Box 1"/>
          <p:cNvSpPr/>
          <p:nvPr/>
        </p:nvSpPr>
        <p:spPr>
          <a:xfrm>
            <a:off x="90360" y="1222200"/>
            <a:ext cx="89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 the Algonquian and the Iroquois lived inside the borders of modern-day Pennsylv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s were made up of several different tribes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ouped themselves together based on cultural similarities (language, primarily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Algonquian &amp; Iroquois were hunter-gatherers, but each als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ultivated fields in order to build greater food stores, allowing for a larger population than other Native American groups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made up of several different tribes : the Adirondecks, Delawares, Mahicans, Montauks, Wappingers, Nanticokes, &amp; Shawnees, among others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related dial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9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The Algonquian Tribes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lgonquian people w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de up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ral different tribes 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 Adirondeck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lawares, Mahicans, Montauks, Wappingers, Nanticokes, &amp; Shawnees, among othe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They are the most populous and most widespread Nor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merican native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umber of tribes w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ually in the hundreds 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ithin these trib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y 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veral related dialec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2" name="Picture 6" descr="madelein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group that inhabited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sylvani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985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51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lgonquian Peo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mi-migrato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 that inhabi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anadian re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of Hudson bay, b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en the Rockies &amp;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lantic Ocean, ext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ar south as present-day Ohio, Virginia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Virginia, Western Maryland, Alaba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Carolina, Kentucky, Illinois, Indiana, 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nnsylvan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7" descr="algonquian territory"/>
          <p:cNvPicPr/>
          <p:nvPr/>
        </p:nvPicPr>
        <p:blipFill>
          <a:blip r:embed="rId1"/>
          <a:stretch/>
        </p:blipFill>
        <p:spPr>
          <a:xfrm>
            <a:off x="5172120" y="836640"/>
            <a:ext cx="3903480" cy="3513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alled themselves the Lenni-Lenape: from their language, where 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lish colonists named the Delaware River 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 called themselves the Lenni-Lena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from their language, wh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nni means"genuine, pure, real, original," and Lenape means "Indian" or "man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glish colonists named the Delaware Rive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first governor of Virginia, Thomas West, 3rd Baron De La War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nglish then began to call the Lenape the Delaware Indians because of where they li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elawa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cticed large-scale agriculture in addition to hunting/gathering in the regions around the Delaware Riv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had relatively easy access to small game of the region: fish, birds, shellfish, &amp; de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cultivated fields of vegetation using slash and burn &amp; companion planting techniques, thus maximizing the productivity of their la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ombination of these methods of food production allowed them to maintain a larger population than other nomadic hunter-gatherers could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5:28:05Z</dcterms:created>
  <dc:creator>ssrsb</dc:creator>
  <dc:description/>
  <dc:language>en-US</dc:language>
  <cp:lastModifiedBy>Debes John</cp:lastModifiedBy>
  <dcterms:modified xsi:type="dcterms:W3CDTF">2015-03-02T10:59:17Z</dcterms:modified>
  <cp:revision>60</cp:revision>
  <dc:subject/>
  <dc:title>The Algonquin Tribe</dc:title>
</cp:coreProperties>
</file>