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218-C7FD-4006-9B0C-60719A4B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58D-8789-4D60-BF85-31F3540A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7A5-E47E-4DC6-9B87-79196912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171-7AAA-4C46-9CE5-A7768FA8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337F-31B4-4EF2-BC08-4228B749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07E7-9F44-4427-8B48-38FBC13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31A4-BE51-4CB2-B80E-6234861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51FB-21DC-4F44-BF55-1B0E4E0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BCCE-1431-4A42-8D00-EE76ADC4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34A-7196-4714-927C-FF7FAB6A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2C6-98E4-459F-9F8B-5F271E8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BAA-33BA-4F34-990A-57501E24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9BF2-4AC8-4787-8F35-A07E51F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F52-6790-41B1-A425-E0D20AD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09F-E129-4A95-B9BA-C1D928A3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C245-28B8-455C-9CB4-75717820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1A8E-1B9B-4337-A491-A5CAE595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8D53-ED3F-4480-BBE5-F037AC06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B45C-CC7A-4B0F-8F22-26149863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C41A-7556-41FB-BB2F-66AC4B4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5132-B561-45F2-8961-0A23B5E5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5A6A-8370-4946-8C70-540FB0BB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5D8-9D10-4D9B-A7EB-0B1D9791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F736-7350-4503-B5B9-55C0A9F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3519-09A0-4B18-A563-1D1E57D5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788D-EBDD-4EAE-BF86-2F8704A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EF0E-BD0B-48DB-9B49-7631E2B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596E-063E-4A8A-AF09-8FA8DB9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B0A2-9261-434F-8F53-0227DCC1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95E9-B9FE-4F62-989B-E6BA1508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6089-86FD-484C-891B-DD8FE10E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1F6B-2474-48B9-B2D1-9645B3E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6B3B-19EE-47CC-BADA-DBC30A3B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4FF-633F-4790-929B-EB8CF59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BF4E-06CD-494B-BEB8-DC0DAA1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C01A-3F3E-43F3-AB19-5A0CE18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C871-C105-40C0-8D45-02E623BC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6FE8-9E7E-49A2-A29B-0D5C4A4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E3AB-95CA-4B27-B7C8-D2F675D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FFF7-CF32-4B3E-A87D-85812E3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66EA-B9F1-46E7-B1D7-AA0C603E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941C-0FA3-4722-8AA0-3E466074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4DCA-72DC-4066-9CC2-540BCA54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B523-CEF8-4994-89C7-A32B1693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D22-CD42-4D36-82F2-0DE7B49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2B0E-74D2-4FD7-9127-A2EFAE8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C777-276F-43E4-9BB3-5695AEDD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496F-0A50-4734-94B5-0F02861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525BE-E7A3-460A-A571-F662CF4A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4065-CFBA-4844-AF04-AF55B9A3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995A-9CBF-4688-B34E-3A3FAAD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EE15-2286-423E-9006-205960E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9D5B-1B39-4CF1-930B-60CA290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C1F0B-6FDD-4BD5-BAC6-FFA5AC9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72A6-BD13-4E2E-9D92-A0B5713F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7DB-5646-4A4E-A67D-F7292CD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90AB-6D5B-4ECB-8FE6-AEE47981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2C9D-2D89-44BD-9C8B-49862AF9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94DC-2B73-470A-B6B2-6ED2DB5A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5D3C-DCC5-4011-BD7F-FE0C3D4C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984B-634E-4AB6-8E3F-3902B048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210F-E95F-4E84-89CB-B5B0D4B3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27D9-41CE-49EE-A19C-9134DD3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9F13-C7B6-4C28-8B82-A8DD972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46DF-6F00-4FD1-9895-FA8658F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F681-A560-4214-8C6B-DF02301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CA3-7C6A-4540-9750-9CEE621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5599-ECDC-417D-91CC-3F2802B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DDF6-4934-4503-9D08-9B99FA6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A537-CF78-4FB1-B4F4-E16D3387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40D-55CE-4C7E-ACFF-DB5AA40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DF7-D66E-4917-8BA3-6D3A79FA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B04-FE88-4D05-B80A-73776E915D2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D55-14EE-4F79-AB89-0380653452F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993-26D6-433E-9A1B-A406216983C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C1F-86A0-44F1-888F-434B4BCB366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72F-C35D-45F8-BED7-B9DDA334E57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888-7348-43D3-A57D-EC5732E09AC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8.xml"/><Relationship Id="rId2" Type="http://schemas.openxmlformats.org/officeDocument/2006/relationships/slide" Target="slide159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slide" Target="slide161.xm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" Target="slide156.xml"/><Relationship Id="rId3" Type="http://schemas.openxmlformats.org/officeDocument/2006/relationships/slide" Target="slide157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UNIT 10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ERSONALIT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DEFENSE MECHANISM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Re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eaction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Proj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Ration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ubl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Den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MyAP1e_10UN05.jpg"/>
          <p:cNvPicPr/>
          <p:nvPr/>
        </p:nvPicPr>
        <p:blipFill>
          <a:blip r:embed="rId3"/>
          <a:stretch/>
        </p:blipFill>
        <p:spPr>
          <a:xfrm>
            <a:off x="5100480" y="2301840"/>
            <a:ext cx="3891240" cy="447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4"/>
          <a:stretch/>
        </p:blipFill>
        <p:spPr>
          <a:xfrm>
            <a:off x="4919760" y="2651040"/>
            <a:ext cx="361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NEO-FREUDIAN AND PSYCHODYNAMIC THEORIS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dyna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eo-Freudians- Those who disagreed with Freud’s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dler’s inferiority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Horney’s sense of                 help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Jung’s </a:t>
            </a: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collective uncons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56\ImageJPGs_Module56\MyAP2e_56UN01.jpg"/>
          <p:cNvPicPr/>
          <p:nvPr/>
        </p:nvPicPr>
        <p:blipFill>
          <a:blip r:embed="rId3"/>
          <a:stretch/>
        </p:blipFill>
        <p:spPr>
          <a:xfrm>
            <a:off x="7491240" y="53352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KKorek\Documents\ABCFiles\2013 Myers AP 2e\Images\ImageJPGs_Module56\ImageJPGs_Module56\MyAP2e_56UN02.jpg"/>
          <p:cNvPicPr/>
          <p:nvPr/>
        </p:nvPicPr>
        <p:blipFill>
          <a:blip r:embed="rId4"/>
          <a:stretch/>
        </p:blipFill>
        <p:spPr>
          <a:xfrm>
            <a:off x="7491240" y="3260880"/>
            <a:ext cx="1251000" cy="1652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Users\KKorek\Documents\ABCFiles\2013 Myers AP 2e\Images\ImageJPGs_Module56\ImageJPGs_Module56\MyAP2e_56UN03.jpg"/>
          <p:cNvPicPr/>
          <p:nvPr/>
        </p:nvPicPr>
        <p:blipFill>
          <a:blip r:embed="rId5"/>
          <a:stretch/>
        </p:blipFill>
        <p:spPr>
          <a:xfrm>
            <a:off x="7461360" y="5160960"/>
            <a:ext cx="12510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09480" y="762120"/>
            <a:ext cx="79250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09480" y="762120"/>
            <a:ext cx="792504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-29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the Big Five Factors about pers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are the five stages of Freud’s Psychosexual Stag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Oral(0-18 months), Anal(18-36 months), Phallic(3-6 years), Latency(6-puberty), Genital(puberty 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UNCONSCIOUS PROCESS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11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rojective Test- test that explore the unconscious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hematic Apperception Test (T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Rorschach Inkblot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From these test, the takers of the test will construct a story. In return a test giver will  be able to detect the persons state of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MODERN UNCONSCIOUS MIND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False consensus effect- overestimation of the extent that others view beliefs or behavi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error management theory- Death related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BRAHAM MASLOW’S SELF-ACTUALIZING PERSON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8" name="Content Placeholder 2"/>
          <p:cNvSpPr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Abraham Mas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act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transc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ak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KKorek\Documents\ABCFiles\2013 Myers AP 2e\Images\ImageJPGs_Module57\ImageJPGs_Module57\MyAP2e_57UN01.jpg"/>
          <p:cNvPicPr/>
          <p:nvPr/>
        </p:nvPicPr>
        <p:blipFill>
          <a:blip r:embed="rId1"/>
          <a:stretch/>
        </p:blipFill>
        <p:spPr>
          <a:xfrm>
            <a:off x="5410080" y="1905120"/>
            <a:ext cx="347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CARL ROGERS’ PERSON-CENTERED PERSPECTIV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Content Placeholder 2"/>
          <p:cNvSpPr/>
          <p:nvPr/>
        </p:nvSpPr>
        <p:spPr>
          <a:xfrm>
            <a:off x="2286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Carl Ro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rowth promoting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Genuin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Unconditional                       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elf-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Users\KKorek\Documents\ABCFiles\2013 Myers AP 2e\Images\Total Images\MyAP2e_70UN05.jpg"/>
          <p:cNvPicPr/>
          <p:nvPr/>
        </p:nvPicPr>
        <p:blipFill>
          <a:blip r:embed="rId1"/>
          <a:stretch/>
        </p:blipFill>
        <p:spPr>
          <a:xfrm>
            <a:off x="4349880" y="4114800"/>
            <a:ext cx="4489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  <a:ea typeface="Arial"/>
              </a:rPr>
              <a:t>EXPLOR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rait- Characteristic pattern of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Describing rather than expl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yers-Briggs Type                   Indicator (MB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FACTOR ANALYSI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ysenck and Eyse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xtroversion versus intro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versu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ysenck Personality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Users\KKorek\Documents\ABCFiles\2013 Myers AP 2e\Images\ImageJPGs_Module58\ImageJPGs_Module58\MyAP2e_fig_58_01b.jpg"/>
          <p:cNvPicPr/>
          <p:nvPr/>
        </p:nvPicPr>
        <p:blipFill>
          <a:blip r:embed="rId1"/>
          <a:stretch/>
        </p:blipFill>
        <p:spPr>
          <a:xfrm>
            <a:off x="152280" y="4678200"/>
            <a:ext cx="2028960" cy="2103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KKorek\Documents\ABCFiles\2013 Myers AP 2e\Images\ImageJPGs_Module58\ImageJPGs_Module58\MyAP2e_fig_58_01c.jpg"/>
          <p:cNvPicPr/>
          <p:nvPr/>
        </p:nvPicPr>
        <p:blipFill>
          <a:blip r:embed="rId2"/>
          <a:stretch/>
        </p:blipFill>
        <p:spPr>
          <a:xfrm>
            <a:off x="6934320" y="4678200"/>
            <a:ext cx="2041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533520" y="533520"/>
            <a:ext cx="83055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523880" y="-6480"/>
            <a:ext cx="680112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RAIT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BIOLOGY AND PERSONALITY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Brain s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Brain aro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utonomic nervous system re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ASSESSING TRAIT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1522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Personality inven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innesota Multiphasic Personality Inventory (MMP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pirically derive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bjec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Li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THE BIG FIVE FACTOR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The Big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Conscient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greeabl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Neuro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Emotional stability                                    v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pe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xtra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KKorek\Documents\ABCFiles\2013 Myers AP 2e\Images\Total Images\MyAP2e_1UN01a.jpg"/>
          <p:cNvPicPr/>
          <p:nvPr/>
        </p:nvPicPr>
        <p:blipFill>
          <a:blip r:embed="rId1"/>
          <a:stretch/>
        </p:blipFill>
        <p:spPr>
          <a:xfrm>
            <a:off x="4937040" y="1523880"/>
            <a:ext cx="4025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RECIPROCAL INFLUENCE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Ways individuals and the environment inte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Different people choose differ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t personalities shape how we interpret and react to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Our personality help create situations to which we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rcRect l="40368" t="0" r="0" b="0"/>
          <a:stretch/>
        </p:blipFill>
        <p:spPr>
          <a:xfrm>
            <a:off x="65160" y="304920"/>
            <a:ext cx="90788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SOCIAL-COGNITIVE THEORIE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OPTIMISM VERSUS PESSIMISM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76320" y="1600200"/>
            <a:ext cx="9296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Optimism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Excessive 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Blindness to one’s                                own incompe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  <a:ea typeface="Arial"/>
              </a:rPr>
              <a:t>Positive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5054760" y="2430360"/>
            <a:ext cx="3657600" cy="4275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8675640" y="2430360"/>
            <a:ext cx="468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EXPLORING THE SELF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SELF-SERVING BIAS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Self-serving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eople accept more responsibility for good deeds than for bad, successes than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Most  people see themselves as better than a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Defensive self-e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Narciss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533520"/>
            <a:ext cx="830556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-26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ll be able to understand personality development and know who the Neo-Freudia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Question: What is person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D Answer: combinations of characteristics and qualities that form an individual’s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arts of the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ous- Information that we are aw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reconscious- Become aware to us when we try to retriev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Unconsciou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-information processing of which we are un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Fre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R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STRUCTURE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I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Energy that strives to satisfy basic dr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leasur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Satisfies the Id to bring pleasure rather than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ality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Superego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- Provides standard jud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Psychosexual s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hal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La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KKorek\Documents\ABCFiles\2013 Myers AP 2e\Images\ImageJPGs_Module55\ImageJPGs_Module55\MyAP2e_55UN01.jpg"/>
          <p:cNvPicPr/>
          <p:nvPr/>
        </p:nvPicPr>
        <p:blipFill>
          <a:blip r:embed="rId2"/>
          <a:stretch/>
        </p:blipFill>
        <p:spPr>
          <a:xfrm>
            <a:off x="5334120" y="2589120"/>
            <a:ext cx="28731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-12600" y="1981080"/>
            <a:ext cx="91566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  <a:ea typeface="Arial"/>
              </a:rPr>
              <a:t>PSYCHOANALYTIC THEORY’S CORE IDEAS</a:t>
            </a:r>
            <a:br>
              <a:rPr sz="4800"/>
            </a:br>
            <a:r>
              <a:rPr b="0" lang="en-US" sz="4800" spc="-1" strike="noStrike">
                <a:solidFill>
                  <a:srgbClr val="0d0d0d"/>
                </a:solidFill>
                <a:latin typeface="Tw Cen MT Condensed"/>
                <a:ea typeface="Arial"/>
              </a:rPr>
              <a:t>PERSONALITY DEVELOPMENT</a:t>
            </a:r>
            <a:endParaRPr b="0" lang="en-US" sz="4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rogenous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1" action="ppaction://hlinksldjump"/>
              </a:rPr>
              <a:t>Oedipus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Electra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2" action="ppaction://hlinksldjump"/>
              </a:rPr>
              <a:t>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Gender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Tw Cen MT"/>
                <a:ea typeface="Arial"/>
                <a:hlinkClick r:id="rId3" action="ppaction://hlinksldjump"/>
              </a:rPr>
              <a:t>Fi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4"/>
          <a:stretch/>
        </p:blipFill>
        <p:spPr>
          <a:xfrm>
            <a:off x="5557680" y="1752480"/>
            <a:ext cx="3124440" cy="4876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5"/>
          <a:stretch/>
        </p:blipFill>
        <p:spPr>
          <a:xfrm>
            <a:off x="8682120" y="3048120"/>
            <a:ext cx="314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2-29T11:23:56Z</dcterms:modified>
  <cp:revision>252</cp:revision>
  <dc:subject/>
  <dc:title>Slide 1</dc:title>
</cp:coreProperties>
</file>