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4.png" ContentType="image/png"/>
  <Override PartName="/ppt/media/image13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DE38-091C-4FF4-8438-3DD7638DA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9CFD-AE27-45F3-BC79-BC374CA6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9D44-BCCC-4636-9ADF-D542F1B0E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642C-5CE0-4373-A572-74D4BC21E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E698-130D-44D8-8889-A586A467C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0D6E2-9A81-4406-A6B6-DC1000EB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DDC0-7103-473C-AC7B-45FE442E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0ADA-21CB-49F1-BDEA-AA960EF1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DABC-2C3C-4982-B216-D5F7DAE2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6C64-8167-4BCC-A735-C422BF33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8793-FAB8-4AC1-A43E-41A86F1B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41E8-8A0B-4AA3-8E78-F65ED956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AF31-E262-4CEF-8030-AC9EA2CC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C59EC-167C-446A-81AD-36E039EA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0390-20EB-4DF7-B612-7C6FE362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A11C-2214-47CD-8690-C4C235389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5688-FF8A-42AC-82C0-6D78E1EF7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D6D6A-C163-4297-9671-241055B1C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BFDD1-CE12-45D6-954C-2D4CA3FF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164EC-0ADB-4D9B-A836-02363886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A00CA-0384-4566-A71A-E65B7F8B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BBD59-F528-4CB7-A021-DFFAF1F6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202E-5F66-42AD-B2A7-0C6B6A4C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ED0A6-DC48-40C8-A00B-8052DEB8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47B5D-9066-484C-A2E1-8183364D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52354-7DCD-4724-BCA5-A4C6725D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391C1-4C8F-4E93-8711-DF01209F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4FD2A-698C-4268-9ECF-5ECF8849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48588-BEE4-4F9D-8484-A0EDA77A2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C360A-EC3E-4FE7-98FE-196125AAA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A7648-1DF9-4288-B8D2-CD57DC2C0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F855B-5F88-42B0-88DC-E7B095FB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F0FA4-1007-4A25-8B0A-0A909018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DA47-E736-4462-AA5E-64C355FD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BF30C-6356-4768-B7F6-4D9DA4CA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F203C-4ED7-4645-B461-58A7970D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D37AB-662D-4422-9001-C4986773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B0571-6753-4C40-B19E-6F4A6EE1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A0563-83E8-4224-822B-BFBE6524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90513-227E-4913-B343-73DFEA52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7FAE9-0C86-4EDE-BBDC-68FF6CC5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F4521-E0A5-4353-8DAB-6812B854A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5D3D1-47E8-498D-8E36-32BD5566B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AFB15-F7F7-4155-A9B7-F38C7B7CB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B1EA-B9AB-4D5A-ADBF-FBEA6911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AC070-88AA-479A-847B-5F4D0FF5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CB0D5-3752-481A-A0DD-2199EF20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8E718-46E8-4AB3-8B3F-0A6989F2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5C609-6716-4843-8962-264A7508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7809F-292B-424D-A118-F6CB66D4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B8BDE-B3FE-4CAE-9C11-A282C901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4EDAB-4099-423E-A9FB-F68F3DF9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9DF18-3634-46A5-99E8-386BF030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EAA68-0888-4367-868B-A623903A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55FDC-DC25-4F26-B68B-F80420549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D726-E3CE-4A0F-98EC-FEF6A0B0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CBD3D-B165-4928-B93E-0D062D377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A92C8-D77B-4B44-98E6-ECBD2A7EC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D75EC-6C94-4429-A35C-379FDAFC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532EB-2F93-43DB-ACD1-EA54818A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EC95E-44FD-4676-9B47-568475E0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C2FB5-6382-42DC-95B0-59E77730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3CBE4-C531-4F8C-B46B-DE37EC28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7271C-D1C5-4824-9728-F571C7F1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A97F0-A167-4EE2-8FCA-09391709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58E47-8DE2-4D44-BBA8-521F4E4C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0323-9AF3-42AD-B587-68A8A10A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4E322-B314-4C21-9A6D-0F584D68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2DD0A-B270-4D12-9752-3A66D9D98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64D08-BB68-4DEB-8EDA-E62F29432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F063-7E8F-45F0-88FA-F538DF29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EC6B-BE77-48E6-A5CC-EEDA16AA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83C7-D082-42CF-AB25-CB5ED4D70EC6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48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8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9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EAFF-C0EF-4F06-B289-06F32793D96C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d9b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8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9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2276-FA78-4544-B5D2-C246BD6A5C4B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7799-F49E-43CC-B7BB-D67BB7169264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2774-697F-4979-B010-3350A99B7DE8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7"/>
          <p:cNvSpPr/>
          <p:nvPr/>
        </p:nvSpPr>
        <p:spPr>
          <a:xfrm>
            <a:off x="7201080" y="515880"/>
            <a:ext cx="685800" cy="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D769-68A7-44C8-B70F-42D77F4AA59B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58.xml"/><Relationship Id="rId2" Type="http://schemas.openxmlformats.org/officeDocument/2006/relationships/slide" Target="slide159.xml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60.xml"/><Relationship Id="rId2" Type="http://schemas.openxmlformats.org/officeDocument/2006/relationships/slide" Target="slide161.xml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50.xml"/><Relationship Id="rId2" Type="http://schemas.openxmlformats.org/officeDocument/2006/relationships/slide" Target="slide148.xml"/><Relationship Id="rId3" Type="http://schemas.openxmlformats.org/officeDocument/2006/relationships/slide" Target="slide149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51.xml"/><Relationship Id="rId2" Type="http://schemas.openxmlformats.org/officeDocument/2006/relationships/slide" Target="slide152.xml"/><Relationship Id="rId3" Type="http://schemas.openxmlformats.org/officeDocument/2006/relationships/slide" Target="slide153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5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55.xml"/><Relationship Id="rId2" Type="http://schemas.openxmlformats.org/officeDocument/2006/relationships/slide" Target="slide156.xml"/><Relationship Id="rId3" Type="http://schemas.openxmlformats.org/officeDocument/2006/relationships/slide" Target="slide157.xm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43080" y="4959360"/>
            <a:ext cx="582912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UNIT 10</a:t>
            </a:r>
            <a:br>
              <a:rPr sz="4400"/>
            </a:b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PERSONALITY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Tw Cen MT Condensed"/>
                <a:ea typeface="Arial"/>
              </a:rPr>
              <a:t>PSYCHOANALYTIC THEORY’S CORE IDEAS</a:t>
            </a:r>
            <a:br>
              <a:rPr sz="4800"/>
            </a:br>
            <a:r>
              <a:rPr b="0" lang="en-US" sz="4800" spc="-1" strike="noStrike">
                <a:solidFill>
                  <a:srgbClr val="0d0d0d"/>
                </a:solidFill>
                <a:latin typeface="Tw Cen MT Condensed"/>
                <a:ea typeface="Arial"/>
              </a:rPr>
              <a:t>DEFENSE MECHANISMS</a:t>
            </a:r>
            <a:endParaRPr b="0" lang="en-US" sz="48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3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b9f25"/>
                </a:solidFill>
                <a:uFillTx/>
                <a:latin typeface="Tw Cen MT"/>
                <a:ea typeface="Arial"/>
                <a:hlinkClick r:id="rId1" action="ppaction://hlinksldjump"/>
              </a:rPr>
              <a:t>Defense mechanis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6b9f25"/>
                </a:solidFill>
                <a:uFillTx/>
                <a:latin typeface="Tw Cen MT"/>
                <a:ea typeface="Arial"/>
                <a:hlinkClick r:id="rId2" action="ppaction://hlinksldjump"/>
              </a:rPr>
              <a:t>Re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  <a:ea typeface="Arial"/>
              </a:rPr>
              <a:t>Reg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  <a:ea typeface="Arial"/>
              </a:rPr>
              <a:t>Reaction 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  <a:ea typeface="Arial"/>
              </a:rPr>
              <a:t>Proj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  <a:ea typeface="Arial"/>
              </a:rPr>
              <a:t>Rationaliz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  <a:ea typeface="Arial"/>
              </a:rPr>
              <a:t>Displac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  <a:ea typeface="Arial"/>
              </a:rPr>
              <a:t>Subli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  <a:ea typeface="Arial"/>
              </a:rPr>
              <a:t>Den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5" descr="MyAP1e_10UN05.jpg"/>
          <p:cNvPicPr/>
          <p:nvPr/>
        </p:nvPicPr>
        <p:blipFill>
          <a:blip r:embed="rId3"/>
          <a:stretch/>
        </p:blipFill>
        <p:spPr>
          <a:xfrm>
            <a:off x="5100480" y="2301840"/>
            <a:ext cx="3891240" cy="44798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"/>
          <p:cNvPicPr/>
          <p:nvPr/>
        </p:nvPicPr>
        <p:blipFill>
          <a:blip r:embed="rId4"/>
          <a:stretch/>
        </p:blipFill>
        <p:spPr>
          <a:xfrm>
            <a:off x="4919760" y="2651040"/>
            <a:ext cx="36180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0d0d"/>
                </a:solidFill>
                <a:latin typeface="Tw Cen MT Condensed"/>
                <a:ea typeface="Arial"/>
              </a:rPr>
              <a:t>THE NEO-FREUDIAN AND PSYCHODYNAMIC THEORISTS</a:t>
            </a:r>
            <a:endParaRPr b="0" lang="en-US" sz="48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7" name="Content Placeholder 2"/>
          <p:cNvSpPr/>
          <p:nvPr/>
        </p:nvSpPr>
        <p:spPr>
          <a:xfrm>
            <a:off x="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b9f25"/>
                </a:solidFill>
                <a:uFillTx/>
                <a:latin typeface="Tw Cen MT"/>
                <a:ea typeface="Arial"/>
                <a:hlinkClick r:id="rId1" action="ppaction://hlinksldjump"/>
              </a:rPr>
              <a:t>Psychodynamic the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  <a:ea typeface="Arial"/>
              </a:rPr>
              <a:t>Neo-Freudians- Those who disagreed with Freud’s the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Adler’s inferiority compl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Horney’s sense of                 helpless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Jung’s </a:t>
            </a:r>
            <a:r>
              <a:rPr b="0" lang="en-US" sz="3600" spc="-1" strike="noStrike" u="sng">
                <a:solidFill>
                  <a:srgbClr val="6b9f25"/>
                </a:solidFill>
                <a:uFillTx/>
                <a:latin typeface="Tw Cen MT"/>
                <a:ea typeface="Arial"/>
                <a:hlinkClick r:id="rId2" action="ppaction://hlinksldjump"/>
              </a:rPr>
              <a:t>collective unconsci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C:\Users\KKorek\Documents\ABCFiles\2013 Myers AP 2e\Images\ImageJPGs_Module56\ImageJPGs_Module56\MyAP2e_56UN01.jpg"/>
          <p:cNvPicPr/>
          <p:nvPr/>
        </p:nvPicPr>
        <p:blipFill>
          <a:blip r:embed="rId3"/>
          <a:stretch/>
        </p:blipFill>
        <p:spPr>
          <a:xfrm>
            <a:off x="7491240" y="533520"/>
            <a:ext cx="1251000" cy="16002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C:\Users\KKorek\Documents\ABCFiles\2013 Myers AP 2e\Images\ImageJPGs_Module56\ImageJPGs_Module56\MyAP2e_56UN02.jpg"/>
          <p:cNvPicPr/>
          <p:nvPr/>
        </p:nvPicPr>
        <p:blipFill>
          <a:blip r:embed="rId4"/>
          <a:stretch/>
        </p:blipFill>
        <p:spPr>
          <a:xfrm>
            <a:off x="7491240" y="3260880"/>
            <a:ext cx="1251000" cy="16524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C:\Users\KKorek\Documents\ABCFiles\2013 Myers AP 2e\Images\ImageJPGs_Module56\ImageJPGs_Module56\MyAP2e_56UN03.jpg"/>
          <p:cNvPicPr/>
          <p:nvPr/>
        </p:nvPicPr>
        <p:blipFill>
          <a:blip r:embed="rId5"/>
          <a:stretch/>
        </p:blipFill>
        <p:spPr>
          <a:xfrm>
            <a:off x="7461360" y="5160960"/>
            <a:ext cx="125100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609480" y="762120"/>
            <a:ext cx="7925040" cy="39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2-29-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Students will be able to understand the Big Five Factors about personali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DD Question: What are the five stages of Freud’s Psychosexual Stag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609480" y="762120"/>
            <a:ext cx="7925040" cy="57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2-29-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Students will be able to understand the Big Five Factors about personali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DD Question: What are the five stages of Freud’s Psychosexual Stag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DD Answer: Oral(0-18 months), Anal(18-36 months), Phallic(3-6 years), Latency(6-puberty), Genital(puberty 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7000" y="-3348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0d0d"/>
                </a:solidFill>
                <a:latin typeface="Tw Cen MT Condensed"/>
                <a:ea typeface="Arial"/>
              </a:rPr>
              <a:t>ASSESSING UNCONSCIOUS PROCESSES</a:t>
            </a:r>
            <a:endParaRPr b="0" lang="en-US" sz="48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4" name="Content Placeholder 2"/>
          <p:cNvSpPr/>
          <p:nvPr/>
        </p:nvSpPr>
        <p:spPr>
          <a:xfrm>
            <a:off x="4111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  <a:ea typeface="Arial"/>
              </a:rPr>
              <a:t>Projective Test- test that explore the unconscious mi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Thematic Apperception Test (TA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Rorschach Inkblot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From these test, the takers of the test will construct a story. In return a test giver will  be able to detect the persons state of mi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0d0d"/>
                </a:solidFill>
                <a:latin typeface="Tw Cen MT Condensed"/>
                <a:ea typeface="Arial"/>
              </a:rPr>
              <a:t>THE MODERN UNCONSCIOUS MIND</a:t>
            </a:r>
            <a:endParaRPr b="0" lang="en-US" sz="48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6" name="Content Placeholder 2"/>
          <p:cNvSpPr/>
          <p:nvPr/>
        </p:nvSpPr>
        <p:spPr>
          <a:xfrm>
            <a:off x="2286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  <a:ea typeface="Arial"/>
              </a:rPr>
              <a:t>False consensus effect- overestimation of the extent that others view beliefs or behavio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Terror management theory- Death related anxi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0d0d"/>
                </a:solidFill>
                <a:latin typeface="Tw Cen MT Condensed"/>
                <a:ea typeface="Arial"/>
              </a:rPr>
              <a:t>ABRAHAM MASLOW’S SELF-ACTUALIZING PERSON</a:t>
            </a:r>
            <a:endParaRPr b="0" lang="en-US" sz="48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8" name="Content Placeholder 2"/>
          <p:cNvSpPr/>
          <p:nvPr/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  <a:ea typeface="Arial"/>
              </a:rPr>
              <a:t>Abraham Masl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Self-actu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Self-transcend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Peak experi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C:\Users\KKorek\Documents\ABCFiles\2013 Myers AP 2e\Images\ImageJPGs_Module57\ImageJPGs_Module57\MyAP2e_57UN01.jpg"/>
          <p:cNvPicPr/>
          <p:nvPr/>
        </p:nvPicPr>
        <p:blipFill>
          <a:blip r:embed="rId1"/>
          <a:stretch/>
        </p:blipFill>
        <p:spPr>
          <a:xfrm>
            <a:off x="5410080" y="1905120"/>
            <a:ext cx="3476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0d0d"/>
                </a:solidFill>
                <a:latin typeface="Tw Cen MT Condensed"/>
                <a:ea typeface="Arial"/>
              </a:rPr>
              <a:t>CARL ROGERS’ PERSON-CENTERED PERSPECTIVE</a:t>
            </a:r>
            <a:endParaRPr b="0" lang="en-US" sz="48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91" name="Content Placeholder 2"/>
          <p:cNvSpPr/>
          <p:nvPr/>
        </p:nvSpPr>
        <p:spPr>
          <a:xfrm>
            <a:off x="228600" y="1494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  <a:ea typeface="Arial"/>
              </a:rPr>
              <a:t>Carl Rog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Growth promoting clim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Genuin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Accep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Empat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Unconditional                        positive reg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Self-conce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3" descr="C:\Users\KKorek\Documents\ABCFiles\2013 Myers AP 2e\Images\Total Images\MyAP2e_70UN05.jpg"/>
          <p:cNvPicPr/>
          <p:nvPr/>
        </p:nvPicPr>
        <p:blipFill>
          <a:blip r:embed="rId1"/>
          <a:stretch/>
        </p:blipFill>
        <p:spPr>
          <a:xfrm>
            <a:off x="4349880" y="4114800"/>
            <a:ext cx="44892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0d0d"/>
                </a:solidFill>
                <a:latin typeface="Arial"/>
                <a:ea typeface="Arial"/>
              </a:rPr>
              <a:t>EXPLORING TRAITS</a:t>
            </a:r>
            <a:endParaRPr b="0" lang="en-US" sz="48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94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  <a:ea typeface="Arial"/>
              </a:rPr>
              <a:t>Trait- Characteristic pattern of behavi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Describing rather than expla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Myers-Briggs Type                   Indicator (MBT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Tw Cen MT Condensed"/>
                <a:ea typeface="Arial"/>
              </a:rPr>
              <a:t>EXPLORING TRAITS</a:t>
            </a:r>
            <a:br>
              <a:rPr sz="4800"/>
            </a:br>
            <a:r>
              <a:rPr b="0" lang="en-US" sz="4800" spc="-1" strike="noStrike">
                <a:solidFill>
                  <a:srgbClr val="0d0d0d"/>
                </a:solidFill>
                <a:latin typeface="Tw Cen MT Condensed"/>
                <a:ea typeface="Arial"/>
              </a:rPr>
              <a:t>FACTOR ANALYSIS</a:t>
            </a:r>
            <a:endParaRPr b="0" lang="en-US" sz="48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96" name="Content Placeholder 2"/>
          <p:cNvSpPr/>
          <p:nvPr/>
        </p:nvSpPr>
        <p:spPr>
          <a:xfrm>
            <a:off x="38088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Eysenck and Eysen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Extroversion versus intro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Emotional stability versus ins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Eysenck Personality Questionn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2" descr="C:\Users\KKorek\Documents\ABCFiles\2013 Myers AP 2e\Images\ImageJPGs_Module58\ImageJPGs_Module58\MyAP2e_fig_58_01b.jpg"/>
          <p:cNvPicPr/>
          <p:nvPr/>
        </p:nvPicPr>
        <p:blipFill>
          <a:blip r:embed="rId1"/>
          <a:stretch/>
        </p:blipFill>
        <p:spPr>
          <a:xfrm>
            <a:off x="152280" y="4678200"/>
            <a:ext cx="2028960" cy="21034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C:\Users\KKorek\Documents\ABCFiles\2013 Myers AP 2e\Images\ImageJPGs_Module58\ImageJPGs_Module58\MyAP2e_fig_58_01c.jpg"/>
          <p:cNvPicPr/>
          <p:nvPr/>
        </p:nvPicPr>
        <p:blipFill>
          <a:blip r:embed="rId2"/>
          <a:stretch/>
        </p:blipFill>
        <p:spPr>
          <a:xfrm>
            <a:off x="6934320" y="4678200"/>
            <a:ext cx="204156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533520" y="533520"/>
            <a:ext cx="8305560" cy="29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2-26-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Students will be able to understand personality development and know who the Neo-Freudians w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DD Question: What is persona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3" descr=""/>
          <p:cNvPicPr/>
          <p:nvPr/>
        </p:nvPicPr>
        <p:blipFill>
          <a:blip r:embed="rId1"/>
          <a:stretch/>
        </p:blipFill>
        <p:spPr>
          <a:xfrm>
            <a:off x="1523880" y="-6480"/>
            <a:ext cx="6801120" cy="68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Tw Cen MT Condensed"/>
                <a:ea typeface="Arial"/>
              </a:rPr>
              <a:t>EXPLORING TRAITS</a:t>
            </a:r>
            <a:br>
              <a:rPr sz="4800"/>
            </a:br>
            <a:r>
              <a:rPr b="0" lang="en-US" sz="4800" spc="-1" strike="noStrike">
                <a:solidFill>
                  <a:srgbClr val="0d0d0d"/>
                </a:solidFill>
                <a:latin typeface="Tw Cen MT Condensed"/>
                <a:ea typeface="Arial"/>
              </a:rPr>
              <a:t>BIOLOGY AND PERSONALITY</a:t>
            </a:r>
            <a:endParaRPr b="0" lang="en-US" sz="48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01" name="Content Placeholder 2"/>
          <p:cNvSpPr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  <a:ea typeface="Arial"/>
              </a:rPr>
              <a:t>Brain sca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Brain arou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  <a:ea typeface="Arial"/>
              </a:rPr>
              <a:t>Gene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Autonomic nervous system re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0d0d"/>
                </a:solidFill>
                <a:latin typeface="Tw Cen MT Condensed"/>
                <a:ea typeface="Arial"/>
              </a:rPr>
              <a:t>ASSESSING TRAITS</a:t>
            </a:r>
            <a:endParaRPr b="0" lang="en-US" sz="48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03" name="Content Placeholder 2"/>
          <p:cNvSpPr/>
          <p:nvPr/>
        </p:nvSpPr>
        <p:spPr>
          <a:xfrm>
            <a:off x="1522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  <a:ea typeface="Arial"/>
              </a:rPr>
              <a:t>Personality inven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Minnesota Multiphasic Personality Inventory (MMP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Empirically derived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Objective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Lie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0d0d"/>
                </a:solidFill>
                <a:latin typeface="Tw Cen MT Condensed"/>
                <a:ea typeface="Arial"/>
              </a:rPr>
              <a:t>THE BIG FIVE FACTORS</a:t>
            </a:r>
            <a:endParaRPr b="0" lang="en-US" sz="48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05" name="Content Placeholder 2"/>
          <p:cNvSpPr/>
          <p:nvPr/>
        </p:nvSpPr>
        <p:spPr>
          <a:xfrm>
            <a:off x="1522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  <a:ea typeface="Arial"/>
              </a:rPr>
              <a:t>The Big F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Conscientious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Agreeable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Neurotic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Emotional stability                                    vs ins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Open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Extrave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2" descr="C:\Users\KKorek\Documents\ABCFiles\2013 Myers AP 2e\Images\Total Images\MyAP2e_1UN01a.jpg"/>
          <p:cNvPicPr/>
          <p:nvPr/>
        </p:nvPicPr>
        <p:blipFill>
          <a:blip r:embed="rId1"/>
          <a:stretch/>
        </p:blipFill>
        <p:spPr>
          <a:xfrm>
            <a:off x="4937040" y="1523880"/>
            <a:ext cx="40258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"/>
          <p:cNvPicPr/>
          <p:nvPr/>
        </p:nvPicPr>
        <p:blipFill>
          <a:blip r:embed="rId1"/>
          <a:stretch/>
        </p:blipFill>
        <p:spPr>
          <a:xfrm>
            <a:off x="0" y="301680"/>
            <a:ext cx="9144000" cy="62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Tw Cen MT Condensed"/>
                <a:ea typeface="Arial"/>
              </a:rPr>
              <a:t>SOCIAL-COGNITIVE THEORIES</a:t>
            </a:r>
            <a:br>
              <a:rPr sz="4800"/>
            </a:br>
            <a:r>
              <a:rPr b="0" lang="en-US" sz="4800" spc="-1" strike="noStrike">
                <a:solidFill>
                  <a:srgbClr val="0d0d0d"/>
                </a:solidFill>
                <a:latin typeface="Tw Cen MT Condensed"/>
                <a:ea typeface="Arial"/>
              </a:rPr>
              <a:t>RECIPROCAL INFLUENCES</a:t>
            </a:r>
            <a:endParaRPr b="0" lang="en-US" sz="48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09" name="Content Placeholder 2"/>
          <p:cNvSpPr/>
          <p:nvPr/>
        </p:nvSpPr>
        <p:spPr>
          <a:xfrm>
            <a:off x="457200" y="106668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  <a:ea typeface="Arial"/>
              </a:rPr>
              <a:t>Ways individuals and the environment inter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Different people choose different enviro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Out personalities shape how we interpret and react to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Our personality help create situations to which we re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pic>
        <p:nvPicPr>
          <p:cNvPr id="311" name="Picture 2" descr=""/>
          <p:cNvPicPr/>
          <p:nvPr/>
        </p:nvPicPr>
        <p:blipFill>
          <a:blip r:embed="rId1"/>
          <a:srcRect l="40368" t="0" r="0" b="0"/>
          <a:stretch/>
        </p:blipFill>
        <p:spPr>
          <a:xfrm>
            <a:off x="65160" y="304920"/>
            <a:ext cx="907884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Tw Cen MT Condensed"/>
                <a:ea typeface="Arial"/>
              </a:rPr>
              <a:t>SOCIAL-COGNITIVE THEORIES</a:t>
            </a:r>
            <a:br>
              <a:rPr sz="4800"/>
            </a:br>
            <a:r>
              <a:rPr b="0" lang="en-US" sz="4800" spc="-1" strike="noStrike">
                <a:solidFill>
                  <a:srgbClr val="0d0d0d"/>
                </a:solidFill>
                <a:latin typeface="Tw Cen MT Condensed"/>
                <a:ea typeface="Arial"/>
              </a:rPr>
              <a:t>OPTIMISM VERSUS PESSIMISM</a:t>
            </a:r>
            <a:endParaRPr b="0" lang="en-US" sz="48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3" name="Content Placeholder 2"/>
          <p:cNvSpPr/>
          <p:nvPr/>
        </p:nvSpPr>
        <p:spPr>
          <a:xfrm>
            <a:off x="76320" y="1600200"/>
            <a:ext cx="9296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  <a:ea typeface="Arial"/>
              </a:rPr>
              <a:t>Optimism and Heal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  <a:ea typeface="Arial"/>
              </a:rPr>
              <a:t>Excessive Optim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  <a:ea typeface="Arial"/>
              </a:rPr>
              <a:t>Blindness to one’s                                own incompet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  <a:ea typeface="Arial"/>
              </a:rPr>
              <a:t>Positive psych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4" descr=""/>
          <p:cNvPicPr/>
          <p:nvPr/>
        </p:nvPicPr>
        <p:blipFill>
          <a:blip r:embed="rId1"/>
          <a:stretch/>
        </p:blipFill>
        <p:spPr>
          <a:xfrm>
            <a:off x="5054760" y="2430360"/>
            <a:ext cx="3657600" cy="42753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5" descr=""/>
          <p:cNvPicPr/>
          <p:nvPr/>
        </p:nvPicPr>
        <p:blipFill>
          <a:blip r:embed="rId2"/>
          <a:stretch/>
        </p:blipFill>
        <p:spPr>
          <a:xfrm>
            <a:off x="8675640" y="2430360"/>
            <a:ext cx="468360" cy="42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Tw Cen MT Condensed"/>
                <a:ea typeface="Arial"/>
              </a:rPr>
              <a:t>EXPLORING THE SELF</a:t>
            </a:r>
            <a:br>
              <a:rPr sz="4800"/>
            </a:br>
            <a:r>
              <a:rPr b="0" lang="en-US" sz="4800" spc="-1" strike="noStrike">
                <a:solidFill>
                  <a:srgbClr val="0d0d0d"/>
                </a:solidFill>
                <a:latin typeface="Tw Cen MT Condensed"/>
                <a:ea typeface="Arial"/>
              </a:rPr>
              <a:t>SELF-SERVING BIAS</a:t>
            </a:r>
            <a:endParaRPr b="0" lang="en-US" sz="48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7" name="Content Placeholder 2"/>
          <p:cNvSpPr/>
          <p:nvPr/>
        </p:nvSpPr>
        <p:spPr>
          <a:xfrm>
            <a:off x="3049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  <a:ea typeface="Arial"/>
              </a:rPr>
              <a:t>Self-serving b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People accept more responsibility for good deeds than for bad, successes than fail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Most  people see themselves as better than aver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  <a:ea typeface="Arial"/>
              </a:rPr>
              <a:t>Defensive self-este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  <a:ea typeface="Arial"/>
              </a:rPr>
              <a:t>Narciss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533520" y="533520"/>
            <a:ext cx="8305560" cy="40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2-26-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Students will be able to understand personality development and know who the Neo-Freudians w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DD Question: What is persona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DD Answer: combinations of characteristics and qualities that form an individual’s charac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0d0d"/>
                </a:solidFill>
                <a:latin typeface="Tw Cen MT Condensed"/>
                <a:ea typeface="Arial"/>
              </a:rPr>
              <a:t>PSYCHOANALYTIC THEORY’S CORE IDEAS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59" name="Content Placeholder 2"/>
          <p:cNvSpPr/>
          <p:nvPr/>
        </p:nvSpPr>
        <p:spPr>
          <a:xfrm>
            <a:off x="2286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Parts of the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Conscious- Information that we are aware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Preconscious- Become aware to us when we try to retriev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b9f25"/>
                </a:solidFill>
                <a:uFillTx/>
                <a:latin typeface="Tw Cen MT"/>
                <a:ea typeface="Arial"/>
                <a:hlinkClick r:id="rId1" action="ppaction://hlinksldjump"/>
              </a:rPr>
              <a:t>Unconscious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-information processing of which we are una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b9f25"/>
                </a:solidFill>
                <a:uFillTx/>
                <a:latin typeface="Tw Cen MT"/>
                <a:ea typeface="Arial"/>
                <a:hlinkClick r:id="rId2" action="ppaction://hlinksldjump"/>
              </a:rPr>
              <a:t>Free asso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b9f25"/>
                </a:solidFill>
                <a:uFillTx/>
                <a:latin typeface="Tw Cen MT"/>
                <a:ea typeface="Arial"/>
                <a:hlinkClick r:id="rId3" action="ppaction://hlinksldjump"/>
              </a:rPr>
              <a:t>Psycho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Arial"/>
              </a:rPr>
              <a:t>Re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086600" cy="53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Tw Cen MT Condensed"/>
                <a:ea typeface="Arial"/>
              </a:rPr>
              <a:t>PSYCHOANALYTIC THEORY’S CORE IDEAS</a:t>
            </a:r>
            <a:br>
              <a:rPr sz="4800"/>
            </a:br>
            <a:r>
              <a:rPr b="0" lang="en-US" sz="4800" spc="-1" strike="noStrike">
                <a:solidFill>
                  <a:srgbClr val="0d0d0d"/>
                </a:solidFill>
                <a:latin typeface="Tw Cen MT Condensed"/>
                <a:ea typeface="Arial"/>
              </a:rPr>
              <a:t>PERSONALITY STRUCTURE</a:t>
            </a:r>
            <a:endParaRPr b="0" lang="en-US" sz="48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2" name="Content Placeholder 2"/>
          <p:cNvSpPr/>
          <p:nvPr/>
        </p:nvSpPr>
        <p:spPr>
          <a:xfrm>
            <a:off x="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028880" indent="-5716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b9f25"/>
                </a:solidFill>
                <a:uFillTx/>
                <a:latin typeface="Tw Cen MT"/>
                <a:ea typeface="Arial"/>
                <a:hlinkClick r:id="rId1" action="ppaction://hlinksldjump"/>
              </a:rPr>
              <a:t>Id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- Energy that strives to satisfy basic dr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Pleasure princi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b9f25"/>
                </a:solidFill>
                <a:uFillTx/>
                <a:latin typeface="Tw Cen MT"/>
                <a:ea typeface="Arial"/>
                <a:hlinkClick r:id="rId2" action="ppaction://hlinksldjump"/>
              </a:rPr>
              <a:t>Ego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- Satisfies the Id to bring pleasure rather than p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Reality princi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b9f25"/>
                </a:solidFill>
                <a:uFillTx/>
                <a:latin typeface="Tw Cen MT"/>
                <a:ea typeface="Arial"/>
                <a:hlinkClick r:id="rId3" action="ppaction://hlinksldjump"/>
              </a:rPr>
              <a:t>Superego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- Provides standard judgem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con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Tw Cen MT Condensed"/>
                <a:ea typeface="Arial"/>
              </a:rPr>
              <a:t>PSYCHOANALYTIC THEORY’S CORE IDEAS</a:t>
            </a:r>
            <a:br>
              <a:rPr sz="4800"/>
            </a:br>
            <a:r>
              <a:rPr b="0" lang="en-US" sz="4800" spc="-1" strike="noStrike">
                <a:solidFill>
                  <a:srgbClr val="0d0d0d"/>
                </a:solidFill>
                <a:latin typeface="Tw Cen MT Condensed"/>
                <a:ea typeface="Arial"/>
              </a:rPr>
              <a:t>PERSONALITY DEVELOPMENT</a:t>
            </a:r>
            <a:endParaRPr b="0" lang="en-US" sz="48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4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b9f25"/>
                </a:solidFill>
                <a:uFillTx/>
                <a:latin typeface="Tw Cen MT"/>
                <a:ea typeface="Arial"/>
                <a:hlinkClick r:id="rId1" action="ppaction://hlinksldjump"/>
              </a:rPr>
              <a:t>Psychosexual st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O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A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Phall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Lat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Geni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C:\Users\KKorek\Documents\ABCFiles\2013 Myers AP 2e\Images\ImageJPGs_Module55\ImageJPGs_Module55\MyAP2e_55UN01.jpg"/>
          <p:cNvPicPr/>
          <p:nvPr/>
        </p:nvPicPr>
        <p:blipFill>
          <a:blip r:embed="rId2"/>
          <a:stretch/>
        </p:blipFill>
        <p:spPr>
          <a:xfrm>
            <a:off x="5334120" y="2589120"/>
            <a:ext cx="287316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Tw Cen MT Condensed"/>
                <a:ea typeface="Arial"/>
              </a:rPr>
              <a:t>PSYCHOANALYTIC THEORY’S CORE IDEAS</a:t>
            </a:r>
            <a:br>
              <a:rPr sz="4800"/>
            </a:br>
            <a:r>
              <a:rPr b="0" lang="en-US" sz="4800" spc="-1" strike="noStrike">
                <a:solidFill>
                  <a:srgbClr val="0d0d0d"/>
                </a:solidFill>
                <a:latin typeface="Tw Cen MT Condensed"/>
                <a:ea typeface="Arial"/>
              </a:rPr>
              <a:t>PERSONALITY DEVELOPMENT</a:t>
            </a:r>
            <a:endParaRPr b="0" lang="en-US" sz="4800" spc="-1" strike="noStrike">
              <a:solidFill>
                <a:srgbClr val="0d0d0d"/>
              </a:solidFill>
              <a:latin typeface="Tw Cen MT Condensed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-12600" y="1981080"/>
            <a:ext cx="915660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Tw Cen MT Condensed"/>
                <a:ea typeface="Arial"/>
              </a:rPr>
              <a:t>PSYCHOANALYTIC THEORY’S CORE IDEAS</a:t>
            </a:r>
            <a:br>
              <a:rPr sz="4800"/>
            </a:br>
            <a:r>
              <a:rPr b="0" lang="en-US" sz="4800" spc="-1" strike="noStrike">
                <a:solidFill>
                  <a:srgbClr val="0d0d0d"/>
                </a:solidFill>
                <a:latin typeface="Tw Cen MT Condensed"/>
                <a:ea typeface="Arial"/>
              </a:rPr>
              <a:t>PERSONALITY DEVELOPMENT</a:t>
            </a:r>
            <a:endParaRPr b="0" lang="en-US" sz="48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9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Erogenous z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b9f25"/>
                </a:solidFill>
                <a:uFillTx/>
                <a:latin typeface="Tw Cen MT"/>
                <a:ea typeface="Arial"/>
                <a:hlinkClick r:id="rId1" action="ppaction://hlinksldjump"/>
              </a:rPr>
              <a:t>Oedipus compl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Electra compl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b9f25"/>
                </a:solidFill>
                <a:uFillTx/>
                <a:latin typeface="Tw Cen MT"/>
                <a:ea typeface="Arial"/>
                <a:hlinkClick r:id="rId2" action="ppaction://hlinksldjump"/>
              </a:rPr>
              <a:t>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Gender ident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b9f25"/>
                </a:solidFill>
                <a:uFillTx/>
                <a:latin typeface="Tw Cen MT"/>
                <a:ea typeface="Arial"/>
                <a:hlinkClick r:id="rId3" action="ppaction://hlinksldjump"/>
              </a:rPr>
              <a:t>Fix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4"/>
          <a:stretch/>
        </p:blipFill>
        <p:spPr>
          <a:xfrm>
            <a:off x="5557680" y="1752480"/>
            <a:ext cx="3124440" cy="48769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"/>
          <p:cNvPicPr/>
          <p:nvPr/>
        </p:nvPicPr>
        <p:blipFill>
          <a:blip r:embed="rId5"/>
          <a:stretch/>
        </p:blipFill>
        <p:spPr>
          <a:xfrm>
            <a:off x="8682120" y="3048120"/>
            <a:ext cx="3142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3:22:39Z</dcterms:created>
  <dc:creator>GSD</dc:creator>
  <dc:description/>
  <dc:language>en-US</dc:language>
  <cp:lastModifiedBy>Debes John</cp:lastModifiedBy>
  <dcterms:modified xsi:type="dcterms:W3CDTF">2016-02-29T11:23:56Z</dcterms:modified>
  <cp:revision>252</cp:revision>
  <dc:subject/>
  <dc:title>Slide 1</dc:title>
</cp:coreProperties>
</file>