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9F6-48D5-4A59-9F04-8E6A6BFA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2A7-0115-4B49-B7EB-C330F30E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606-2264-4B46-98DD-4DBCA36B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D15-EC89-4056-922D-1B2CCAEE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DEA9-AD4B-4AF5-8C7B-3BCDDC4C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110E-AE08-4C40-A160-AA1D7E43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74D3-F53F-4625-99B5-4A9E7151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F37A-AC18-474F-86F8-4FEBE2E4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A370-67EF-4D8B-B7AC-76726FA4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9737-1056-495C-990E-945C6473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172C-E53A-4355-B521-959FAB07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527-5A90-4F7F-AF8F-5C6382B8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D50D-7F84-4A3C-A05D-A3D0B576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7797-E94C-4382-A888-23EB8613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495E-1602-44DE-BD11-A3DF819C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140F-1109-4F52-A5CD-F05BDD73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D653-7227-44B7-B6B7-A444395B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3A576-9CE5-468A-AE09-CABA973C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326D-0E87-4E80-94EC-E7C482A2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2FF02-5D6D-4486-935A-43853AF5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5B13-7A01-41F9-B761-E1BADAF1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3D48D-DBEB-4808-9F66-F0D9D830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EA4-A973-4EC8-A423-019F6E6E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5F781-3B8C-4BC8-B568-AF4E083F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32DC9-8A95-4CB8-B51E-1389C3B6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3AEC8-404E-49B9-B4CF-8B832ECE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B58E3-13F6-49F4-84EB-5EF0F972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2E03-4F73-476C-BA7E-9A672B84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C7207-56FE-403C-AFA0-9E394162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1290-6CAE-4A3A-B964-0F163D6C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0EF10-28FF-4A32-B7F1-970E18AA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8007B-B1DB-4EEA-B5D3-A709F9F7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5E1A7-769C-481E-B203-F87C7F80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D95-3FBC-4B23-B0DC-A3DF2AE4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3AA0F-E42F-4FA1-A055-CE464697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BF34D-73E5-4135-AD07-C873F2F9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5D69D-6C41-4DBD-AC80-A2BF5331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EEE34-1FB8-4F3D-90E6-F97F19AC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095B8-6348-481B-84CB-008B5273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9B0CB-B215-4CA0-A74E-BDAE5ADC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03395-409D-45E4-82CD-EE0944C7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72CD5-06EC-48B8-AB47-DDB7AD58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31B0E-9E01-4618-AB33-8EB613E4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7543F-A1B2-44A1-AB49-2EE84BDB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EE3-C6A9-446D-8406-3DCC758B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584EA-062E-4DC7-8A0C-45C1A616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BCCF5-9C50-48B0-8BBE-B47676D1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9E9A9-E2C1-48F3-A46D-276CA5B8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400D5-661F-417C-88AA-35176D82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A9867-D70A-47CD-82D7-4054AB64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730BC-C10B-4650-990A-EA0C010C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B563A-8BFD-4238-A231-D2225176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EF288-770A-4715-B499-C9F027A6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9D95E-9BB5-453A-AA40-0FD47299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1CE69-1599-4DA8-8582-D911F83B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867-5A51-48FF-9AEE-F02A6650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78539-B909-4BB5-AD15-11BE7687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DC975-8A3F-45A8-913D-17FFE9E0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85E77-0FA6-4E18-B956-09A6C036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7F16B-CA02-4A9A-B742-FE31E2E3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552B2-F908-4F5E-942B-622CCFE7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77E1F-F5DA-457F-A3F9-9F317F5E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74379-D767-4BB3-97AE-D6055865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791BB-4288-4180-8A83-F0E64319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D14DA-0FEC-490E-9F67-C3BD2AD1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1A635-EE32-4975-8533-0F43AF3F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C18-6CFB-48C0-A88C-80C065CF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F7A02-7C53-490B-929A-1D8C2EBD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3930F-A179-461A-AE1F-11C80D72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3A789-01D8-4792-AF18-4A2834B4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121-C66E-48F2-AF9E-89E6D995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861-5A8A-407F-A050-B4384E3E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6BCC-2696-49A6-9ABC-7091CA5F1885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1658-0344-4460-80BD-2341AC66B156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8FDE-75E9-4CEA-81AC-09214A51CF3F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E02F-AB17-4EB3-8209-74441D0FBD91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6CD9-1252-4E58-84B1-E1C4B414CA7F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EC5E-4D2D-4641-9125-1045F54B8796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8.xml"/><Relationship Id="rId2" Type="http://schemas.openxmlformats.org/officeDocument/2006/relationships/slide" Target="slide159.xm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0.xml"/><Relationship Id="rId2" Type="http://schemas.openxmlformats.org/officeDocument/2006/relationships/slide" Target="slide161.xm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slide" Target="slide148.xml"/><Relationship Id="rId3" Type="http://schemas.openxmlformats.org/officeDocument/2006/relationships/slide" Target="slide149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1.xml"/><Relationship Id="rId2" Type="http://schemas.openxmlformats.org/officeDocument/2006/relationships/slide" Target="slide152.xml"/><Relationship Id="rId3" Type="http://schemas.openxmlformats.org/officeDocument/2006/relationships/slide" Target="slide15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5.xml"/><Relationship Id="rId2" Type="http://schemas.openxmlformats.org/officeDocument/2006/relationships/slide" Target="slide156.xml"/><Relationship Id="rId3" Type="http://schemas.openxmlformats.org/officeDocument/2006/relationships/slide" Target="slide157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UNIT 10</a:t>
            </a:r>
            <a:br>
              <a:rPr sz="4400"/>
            </a:b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ERSONALITY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DEFENSE MECHANISM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3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Defens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2" action="ppaction://hlinksldjump"/>
              </a:rPr>
              <a:t>Re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Reg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Reaction 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Proj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Rationa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Dis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Subli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Den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MyAP1e_10UN05.jpg"/>
          <p:cNvPicPr/>
          <p:nvPr/>
        </p:nvPicPr>
        <p:blipFill>
          <a:blip r:embed="rId3"/>
          <a:stretch/>
        </p:blipFill>
        <p:spPr>
          <a:xfrm>
            <a:off x="5100480" y="2301840"/>
            <a:ext cx="3891240" cy="4479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4"/>
          <a:stretch/>
        </p:blipFill>
        <p:spPr>
          <a:xfrm>
            <a:off x="4919760" y="2651040"/>
            <a:ext cx="3618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THE NEO-FREUDIAN AND PSYCHODYNAMIC THEORIST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7" name="Content Placeholder 2"/>
          <p:cNvSpPr/>
          <p:nvPr/>
        </p:nvSpPr>
        <p:spPr>
          <a:xfrm>
            <a:off x="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Psychodynamic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Neo-Freudians- Those who disagreed with Freud’s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Adler’s inferiority 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Horney’s sense of                 helples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Jung’s </a:t>
            </a: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2" action="ppaction://hlinksldjump"/>
              </a:rPr>
              <a:t>collective unconsc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Users\KKorek\Documents\ABCFiles\2013 Myers AP 2e\Images\ImageJPGs_Module56\ImageJPGs_Module56\MyAP2e_56UN01.jpg"/>
          <p:cNvPicPr/>
          <p:nvPr/>
        </p:nvPicPr>
        <p:blipFill>
          <a:blip r:embed="rId3"/>
          <a:stretch/>
        </p:blipFill>
        <p:spPr>
          <a:xfrm>
            <a:off x="7491240" y="533520"/>
            <a:ext cx="1251000" cy="1600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Users\KKorek\Documents\ABCFiles\2013 Myers AP 2e\Images\ImageJPGs_Module56\ImageJPGs_Module56\MyAP2e_56UN02.jpg"/>
          <p:cNvPicPr/>
          <p:nvPr/>
        </p:nvPicPr>
        <p:blipFill>
          <a:blip r:embed="rId4"/>
          <a:stretch/>
        </p:blipFill>
        <p:spPr>
          <a:xfrm>
            <a:off x="7491240" y="3260880"/>
            <a:ext cx="1251000" cy="1652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:\Users\KKorek\Documents\ABCFiles\2013 Myers AP 2e\Images\ImageJPGs_Module56\ImageJPGs_Module56\MyAP2e_56UN03.jpg"/>
          <p:cNvPicPr/>
          <p:nvPr/>
        </p:nvPicPr>
        <p:blipFill>
          <a:blip r:embed="rId5"/>
          <a:stretch/>
        </p:blipFill>
        <p:spPr>
          <a:xfrm>
            <a:off x="7461360" y="5160960"/>
            <a:ext cx="12510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609480" y="762120"/>
            <a:ext cx="792504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-29-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tudents will be able to understand the Big Five Factors about personal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DD Question: What are the five stages of Freud’s Psychosexual Stag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609480" y="762120"/>
            <a:ext cx="7925040" cy="57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-29-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tudents will be able to understand the Big Five Factors about personal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DD Question: What are the five stages of Freud’s Psychosexual Stag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DD Answer: Oral(0-18 months), Anal(18-36 months), Phallic(3-6 years), Latency(6-puberty), Genital(puberty 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ASSESSING UNCONSCIOUS PROCESSE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4" name="Content Placeholder 2"/>
          <p:cNvSpPr/>
          <p:nvPr/>
        </p:nvSpPr>
        <p:spPr>
          <a:xfrm>
            <a:off x="4111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Projective Test- test that explore the unconscious 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Thematic Apperception Test (TA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Rorschach Inkblot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From these test, the takers of the test will construct a story. In return a test giver will  be able to detect the persons state of mi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THE MODERN UNCONSCIOUS MIND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6" name="Content Placeholder 2"/>
          <p:cNvSpPr/>
          <p:nvPr/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False consensus effect- overestimation of the extent that others view beliefs or behavio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Terror management theory- Death related anx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ABRAHAM MASLOW’S SELF-ACTUALIZING PERSON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8" name="Content Placeholder 2"/>
          <p:cNvSpPr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Abraham Mas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Self-actu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Self-transc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Peak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C:\Users\KKorek\Documents\ABCFiles\2013 Myers AP 2e\Images\ImageJPGs_Module57\ImageJPGs_Module57\MyAP2e_57UN01.jpg"/>
          <p:cNvPicPr/>
          <p:nvPr/>
        </p:nvPicPr>
        <p:blipFill>
          <a:blip r:embed="rId1"/>
          <a:stretch/>
        </p:blipFill>
        <p:spPr>
          <a:xfrm>
            <a:off x="5410080" y="1905120"/>
            <a:ext cx="3476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CARL ROGERS’ PERSON-CENTERED PERSPECTIVE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1" name="Content Placeholder 2"/>
          <p:cNvSpPr/>
          <p:nvPr/>
        </p:nvSpPr>
        <p:spPr>
          <a:xfrm>
            <a:off x="2286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Carl Ro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Growth promoting cli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Genuin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Accep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mpa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Unconditional                        positive reg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Self-con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C:\Users\KKorek\Documents\ABCFiles\2013 Myers AP 2e\Images\Total Images\MyAP2e_70UN05.jpg"/>
          <p:cNvPicPr/>
          <p:nvPr/>
        </p:nvPicPr>
        <p:blipFill>
          <a:blip r:embed="rId1"/>
          <a:stretch/>
        </p:blipFill>
        <p:spPr>
          <a:xfrm>
            <a:off x="4349880" y="4114800"/>
            <a:ext cx="44892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  <a:ea typeface="Arial"/>
              </a:rPr>
              <a:t>EXPLORING TRAIT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4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Trait- Characteristic pattern of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Describing rather than expl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Myers-Briggs Type                   Indicator (MBT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EXPLORING TRAIT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FACTOR ANALYSI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6" name="Content Placeholder 2"/>
          <p:cNvSpPr/>
          <p:nvPr/>
        </p:nvSpPr>
        <p:spPr>
          <a:xfrm>
            <a:off x="38088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Eysenck and Eysen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xtroversion versus intro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motional stability versus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ysenck Personality Question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C:\Users\KKorek\Documents\ABCFiles\2013 Myers AP 2e\Images\ImageJPGs_Module58\ImageJPGs_Module58\MyAP2e_fig_58_01b.jpg"/>
          <p:cNvPicPr/>
          <p:nvPr/>
        </p:nvPicPr>
        <p:blipFill>
          <a:blip r:embed="rId1"/>
          <a:stretch/>
        </p:blipFill>
        <p:spPr>
          <a:xfrm>
            <a:off x="152280" y="4678200"/>
            <a:ext cx="2028960" cy="2103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C:\Users\KKorek\Documents\ABCFiles\2013 Myers AP 2e\Images\ImageJPGs_Module58\ImageJPGs_Module58\MyAP2e_fig_58_01c.jpg"/>
          <p:cNvPicPr/>
          <p:nvPr/>
        </p:nvPicPr>
        <p:blipFill>
          <a:blip r:embed="rId2"/>
          <a:stretch/>
        </p:blipFill>
        <p:spPr>
          <a:xfrm>
            <a:off x="6934320" y="4678200"/>
            <a:ext cx="2041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533520" y="533520"/>
            <a:ext cx="830556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-26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Students will be able to understand personality development and know who the Neo-Freudians w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D Question: What is person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523880" y="-6480"/>
            <a:ext cx="6801120" cy="68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EXPLORING TRAIT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BIOLOGY AND PERSONALITY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1" name="Content Placeholder 2"/>
          <p:cNvSpPr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Brain sc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Brain arou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Autonomic nervous system re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ASSESSING TRAIT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3" name="Content Placeholder 2"/>
          <p:cNvSpPr/>
          <p:nvPr/>
        </p:nvSpPr>
        <p:spPr>
          <a:xfrm>
            <a:off x="1522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Personality inven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Minnesota Multiphasic Personality Inventory (MMP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mpirically derive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Objec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Li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THE BIG FIVE FACTOR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5" name="Content Placeholder 2"/>
          <p:cNvSpPr/>
          <p:nvPr/>
        </p:nvSpPr>
        <p:spPr>
          <a:xfrm>
            <a:off x="1522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The Big F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Conscientiou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Agreeabl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Neuro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motional stability                                    vs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Open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Extra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C:\Users\KKorek\Documents\ABCFiles\2013 Myers AP 2e\Images\Total Images\MyAP2e_1UN01a.jpg"/>
          <p:cNvPicPr/>
          <p:nvPr/>
        </p:nvPicPr>
        <p:blipFill>
          <a:blip r:embed="rId1"/>
          <a:stretch/>
        </p:blipFill>
        <p:spPr>
          <a:xfrm>
            <a:off x="4937040" y="1523880"/>
            <a:ext cx="4025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SOCIAL-COGNITIVE THEORIE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RECIPROCAL INFLUENCE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9" name="Content Placeholder 2"/>
          <p:cNvSpPr/>
          <p:nvPr/>
        </p:nvSpPr>
        <p:spPr>
          <a:xfrm>
            <a:off x="45720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Ways individuals and the environment inter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Different people choose different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Out personalities shape how we interpret and react to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Our personality help create situations to which we re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rcRect l="40368" t="0" r="0" b="0"/>
          <a:stretch/>
        </p:blipFill>
        <p:spPr>
          <a:xfrm>
            <a:off x="65160" y="304920"/>
            <a:ext cx="90788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SOCIAL-COGNITIVE THEORIE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OPTIMISM VERSUS PESSIMISM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3" name="Content Placeholder 2"/>
          <p:cNvSpPr/>
          <p:nvPr/>
        </p:nvSpPr>
        <p:spPr>
          <a:xfrm>
            <a:off x="76320" y="1600200"/>
            <a:ext cx="9296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  <a:ea typeface="Arial"/>
              </a:rPr>
              <a:t>Optimism and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  <a:ea typeface="Arial"/>
              </a:rPr>
              <a:t>Excessive Optim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  <a:ea typeface="Arial"/>
              </a:rPr>
              <a:t>Blindness to one’s                                own incompe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  <a:ea typeface="Arial"/>
              </a:rPr>
              <a:t>Positive psych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5054760" y="2430360"/>
            <a:ext cx="3657600" cy="4275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8675640" y="2430360"/>
            <a:ext cx="46836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EXPLORING THE SELF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SELF-SERVING BIA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7" name="Content Placeholder 2"/>
          <p:cNvSpPr/>
          <p:nvPr/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Self-serving 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People accept more responsibility for good deeds than for bad, successes than fail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Most  people see themselves as better than ave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Defensive self-este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Narciss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533520" y="533520"/>
            <a:ext cx="830556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-26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Students will be able to understand personality development and know who the Neo-Freudians w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D Question: What is person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D Answer: combinations of characteristics and qualities that form an individual’s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Content Placeholder 2"/>
          <p:cNvSpPr/>
          <p:nvPr/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Parts of the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Conscious- Information that we are awa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Preconscious- Become aware to us when we try to retriev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Unconscious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-information processing of which we are una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2" action="ppaction://hlinksldjump"/>
              </a:rPr>
              <a:t>Free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3" action="ppaction://hlinksldjump"/>
              </a:rPr>
              <a:t>Psycho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R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866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PERSONALITY STRUCTURE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2" name="Content Placeholder 2"/>
          <p:cNvSpPr/>
          <p:nvPr/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28880" indent="-57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Id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- Energy that strives to satisfy basic dr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Pleasure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2" action="ppaction://hlinksldjump"/>
              </a:rPr>
              <a:t>Ego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- Satisfies the Id to bring pleasure rather than 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Reality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3" action="ppaction://hlinksldjump"/>
              </a:rPr>
              <a:t>Superego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- Provides standard jud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con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PERSONALITY DEVELOPMENT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Psychosexual s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A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Phal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Lat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Gen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C:\Users\KKorek\Documents\ABCFiles\2013 Myers AP 2e\Images\ImageJPGs_Module55\ImageJPGs_Module55\MyAP2e_55UN01.jpg"/>
          <p:cNvPicPr/>
          <p:nvPr/>
        </p:nvPicPr>
        <p:blipFill>
          <a:blip r:embed="rId2"/>
          <a:stretch/>
        </p:blipFill>
        <p:spPr>
          <a:xfrm>
            <a:off x="5334120" y="2589120"/>
            <a:ext cx="287316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PERSONALITY DEVELOPMENT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-12600" y="1981080"/>
            <a:ext cx="91566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PERSONALITY DEVELOPMENT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9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Erogenous z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Oedipus 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Electra 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2" action="ppaction://hlinksldjump"/>
              </a:rPr>
              <a:t>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Gender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3" action="ppaction://hlinksldjump"/>
              </a:rPr>
              <a:t>Fix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4"/>
          <a:stretch/>
        </p:blipFill>
        <p:spPr>
          <a:xfrm>
            <a:off x="5557680" y="1752480"/>
            <a:ext cx="3124440" cy="4876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5"/>
          <a:stretch/>
        </p:blipFill>
        <p:spPr>
          <a:xfrm>
            <a:off x="8682120" y="3048120"/>
            <a:ext cx="314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2-29T11:23:56Z</dcterms:modified>
  <cp:revision>252</cp:revision>
  <dc:subject/>
  <dc:title>Slide 1</dc:title>
</cp:coreProperties>
</file>