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5649-1F80-45B2-A7F1-506623B0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87C-D4E6-4AD8-A29D-FFF00C29F5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702-0CBE-48F8-8BE9-D779327708C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2494-9279-4468-B504-1F18127454D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ttentional/Change Blindness: http://www.simonslab.com/video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6BF-E314-403D-A457-50F8795BEAF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BEFA-12AA-42B8-8DA6-911E857E906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Threshold: http://garyfisk.com/anim/threshold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3B75-D429-458F-8783-9184D826E57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. Error: False Positive “Mi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. Error: False Negative “False Alar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5D2-F594-44D8-94D1-C1148196C5C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A69-6E83-4C5C-AEA1-4A9FB79D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793-78AA-4CB3-9844-35E3B85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D53-DC81-4747-9C7B-B6E93789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62B-146C-471F-98A5-2A4D0AD5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25B-6B5C-4B59-BB8D-DAA2D493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4E8-FC04-4A6A-8659-A9C6EB64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12D0-37B6-4495-9605-4B2A64B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C541-4395-4CA5-A9D0-EC49F51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9E02-E0F3-4E09-A6F3-A184FFA2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3DD9-62AB-4468-A25F-F372808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C21-73A0-446C-9ECA-003CF25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964-0A4E-41B2-9A61-4A35B007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4A13-A633-4ABC-951C-76872AA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3560-7769-4125-953B-3F8A52C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4A04-D6B5-4698-AA8A-B9627DA7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4BED-FB0C-453A-BBAC-9BFA7496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0CC2-31B1-42AC-9EF1-CFD59DDF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CF7-673F-4C4D-BEB3-323D23D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83C-90E5-4F64-82BC-EF053EA8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B40-F0CB-4A2E-B932-4DF4DF0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175-14F0-49C6-A30D-24D411A4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AC4-429A-4A4A-AE1C-DF38383D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97F-F4B2-4475-8984-5D31249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509-E504-49CE-B7EA-DF24D71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5A1-3E1C-4D92-BA77-D1E31B31FC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6331-36D5-47A1-8DC4-E57CE1210DA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nit 4</a:t>
            </a:r>
            <a:br>
              <a:rPr sz="5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modules 16/17):</a:t>
            </a:r>
            <a:br>
              <a:rPr sz="3200"/>
            </a:b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Sensation, Perception, and Atten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P. Psych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. Deb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3080" y="2057400"/>
            <a:ext cx="89917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Think about how you learned your                      alphabet as a child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1600200" y="4095720"/>
            <a:ext cx="1438200" cy="2554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5781600" y="4095720"/>
            <a:ext cx="1365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at is this a picture 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657440" cy="20588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5413320" y="4095720"/>
            <a:ext cx="2584440" cy="25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685800" y="4000680"/>
            <a:ext cx="2584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Organisms are equipped with sensory and perceptual abilities based upon their individual nee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Organisms are equipped with sensory and perceptual abilities based upon their individual need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frog, which feeds on flying insects, has eyes with receptor cells that fire only in response to small, dark, moving objects.  A frog could starve to death knee-deep in motionless flies.  But let one zoom by and the frog’s “bug detector” cells snap awa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A male silkworm moth has receptors so sensitive to the female sex-attractant odor that a single female need release only a billionth of an ounce per second to attract every male silkworm moth within a mile.  That is why there continue to be silkworm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Humans are similarly equipped to detect the important features of our environment.  Our ears are more sensitive to sound frequencies that include human voice consonants and a baby’s cr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lective Atten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senses take in 11,000,000 bits of information per second; however, people consciously process 40 bit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ocktail party effect-ability to attend to only one voice among many, while also being 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ion &amp; Selective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lective Atten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ocusing of conscious awareness on a particular stimul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The fiv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senses take in 11,000,000 bits of information per second;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however, people </a:t>
            </a:r>
            <a:r>
              <a:rPr b="0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consciously process 40 bits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Cocktail party effect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-ability to attend to only one voice among many, while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lso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being </a:t>
            </a:r>
            <a:r>
              <a:rPr b="0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able to detect your own name in an unattended voi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nge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by which our sensory receptors and nervous system receive and represent stimulus energies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cess of organizing and interpreting sensory information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attentional Blind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ing to see visible objects when our attention is directed elsewh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Chabr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hange Blindness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ilure to notice changes in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ons and L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1680" y="0"/>
            <a:ext cx="9145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nsduc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formation of stimulus energies, such as sights, sounds, and smells into neural impulses the brain can interpr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598760"/>
            <a:ext cx="9067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ransduc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version of one form of energy into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ransformation of stimulus energies, such as sights, sounds, and smells into neural impulses the brain can interpret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-specifically for psychology/sens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eive sensory sim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form stimuli into neural impul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liver the neural information to our bra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bsolut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ublimin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low one’s absolute threshold for conscious awareness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detect this stimulus less than 50% 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fference Threshol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2680" y="12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Absolut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stimulation needed to detect a particular stimulus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ublimina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elow one’s absolute threshold for conscious awarenes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(you will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detect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this stimulus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less than 50%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of the tim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Difference Threshold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nimum difference between two stimuli required for detection 50% of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Just Noticeable Difference (J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ignal Detection Theor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s how and when we detect the presence of a faint stimulus (signal) amid background stimulation 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there is no single absolute thresho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3480" y="1294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ignal Detection Theory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edicts how and when we detect the presence of a faint stimulu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signal)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mid background stimulatio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noi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ssumes there is no single absolute threshold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umes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etection depends partly on a person’s experience, expectations, motivation, and aler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al Detection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2" descr="http://www-psych.stanford.edu/~lera/psych115s/notes/signal/sdbox.jpg"/>
          <p:cNvPicPr/>
          <p:nvPr/>
        </p:nvPicPr>
        <p:blipFill>
          <a:blip r:embed="rId1"/>
          <a:stretch/>
        </p:blipFill>
        <p:spPr>
          <a:xfrm>
            <a:off x="927000" y="15033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er’s Law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to be perceived as different, two stimuli must differ by a constant percentage 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sho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24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Weber’s Law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inciple that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o be perceived as different, two stimuli must differ by a constant percentag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rather than a constant amou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intensity by 8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ight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by 2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ound: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 in frequency by 0.3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ation and Perce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by which our sensory receptors and nervous system receive and represent stimulus energ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rom our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 of organizing and interpreting sensory inform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enabling us to recognize meaningful objects and ev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ttom-Up” and “Top-Dow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nsory Adapt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efit: allows our brain to focus on informative changes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dap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Sensory Adaptatio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minished sensitivity as a consequence of constant stim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nefit: allows our brain to focus on informative chang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n our environ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erceptual S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Perceptual Se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ntal predisposition to perceive one thing or an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type of Top-down processing-ou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periences leads our brain to expect certain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9155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ntext in which a stimuli is experienced can also influence our 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ttom-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that begins with the sensory receptors and works up to the brain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Top-dow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processing guided by higher-level mental processes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4676760" y="172548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67676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ceptual 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14155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Contex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e context in which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timuli is experienced c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lso influence o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er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692600" y="1771560"/>
            <a:ext cx="44672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-28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6480" y="99072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bottom-up processing &amp; Top-down process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selective attention is, and why it is necessar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ransduction is, and what the 3 steps of this process ar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the difference between absolute and different threshold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the function of sensory adaption in humans is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Explain what perceptual set mean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2189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Bottom-up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alys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hat begins with the sensory receptors and works up to the br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s integration of sensory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tarting from scratch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op-dow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cessing guided by higher-level mental proce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s when we construct perceptions drawing on our experience and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pplying what we have learned/experien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perception of that stimulus is based on your 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ttom-up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73080" y="1905120"/>
            <a:ext cx="8991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ody reacts/emotional respon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is based on 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physical &amp; emotional reac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brain uses prior experiences and expectations to construct your perception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op-down Proc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73080" y="2057400"/>
            <a:ext cx="8991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sensory receptors receive a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Your </a:t>
            </a:r>
            <a:r>
              <a:rPr b="1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rain uses prior experiences and expectations to construct your perception</a:t>
            </a:r>
            <a:r>
              <a:rPr b="1" lang="en-US" sz="3000" spc="-1" strike="noStrike">
                <a:solidFill>
                  <a:srgbClr val="f8f8f8"/>
                </a:solidFill>
                <a:latin typeface="Arial"/>
              </a:rPr>
              <a:t> of that stimulu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20T11:58:33Z</dcterms:modified>
  <cp:revision>79</cp:revision>
  <dc:subject/>
  <dc:title>Chapter 8: Sensation and Perception</dc:title>
</cp:coreProperties>
</file>