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605-AA9C-4D88-851C-C1884E48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7701-0FE5-4F14-8E70-BB4267F5FB8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22DC-0EE9-44F5-B4FC-135CCB82F06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. Error: False Positive “Mi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. Error: False Negative “False Alar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97C7-8671-4397-83E0-359F35D125B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AAB-1955-4E50-A096-46140362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764-2B1E-4A03-B718-8A409309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27B-556A-4FCF-909E-7D97A5CF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9C2-68E4-47EF-AD8B-FF9F9EFA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BE06-D01D-4DC4-BC05-1041378A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0B6F-C6FC-47FA-A2DD-2CC51192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551-E166-4095-A5CF-91C4ABB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A1A6-6602-4392-BC67-1514C93D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E239-E60D-4C0B-AB47-98B58A4D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F004-63AB-4D3C-BC09-12FAE6D3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014A-1BCC-4F44-AA5E-C780A6E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D40-B649-4973-96F5-F002CAC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C0D-80D2-4BCF-BCB6-F90F200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2F3E-6172-42CD-8B33-3484E25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28E4-69B5-4D50-A6E2-7CEF1102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C168-96FE-43CA-AF0D-6811C2C8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27BC-5C49-4D2A-9890-4013AA64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B9B-2810-4E88-B40A-132C0B2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DC6-044D-4E75-8F76-B6ED3B4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36B-FE55-4DA9-A6B4-0008853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034-7C27-4AE4-8B4F-9E0F9D4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A02-8CD0-499B-B035-1D421EA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F3D-DEE1-44B0-8FBD-D362BA2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8B3-5A8A-4AB8-ADE4-484948EA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33F5-BB1E-4FFA-86B3-DB29C7B7C8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92F9-42E1-4EDB-8ACB-207CA2EC459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monslab.com/videos.html" TargetMode="External"/><Relationship Id="rId2" Type="http://schemas.openxmlformats.org/officeDocument/2006/relationships/hyperlink" Target="https://www.youtube.com/watch?v=FWSxSQsspiQ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nit 4(A):</a:t>
            </a:r>
            <a:br>
              <a:rPr sz="5400"/>
            </a:b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Sensation, Perception, and Atten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P. Psych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nge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nsduc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formation of stimulus energies, such as sights, sounds, and smells into neural impulses the brain can interpr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bsolut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ublimin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low one’s absolute threshold for conscious awareness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detect this stimulus less than 50% 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fferenc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ignal Detection Theor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s how and when we detect the presence of a faint stimulus (signal) amid background stimulation 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there is no single absolute thresho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al Detection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2" descr="http://www-psych.stanford.edu/~lera/psych115s/notes/signal/sdbox.jpg"/>
          <p:cNvPicPr/>
          <p:nvPr/>
        </p:nvPicPr>
        <p:blipFill>
          <a:blip r:embed="rId1"/>
          <a:stretch/>
        </p:blipFill>
        <p:spPr>
          <a:xfrm>
            <a:off x="927000" y="15033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er’s Law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to be perceived as different, two stimuli must differ by a constant percentage 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ory Adapt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nefit: allows our brain to focus on informative changes in our enviro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by which our sensory receptors and nervous system receive and represent stimulus energies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of organizing and interpreting sensory information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p-down processing-our experiences leads our brain to expect certain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76760" y="172548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67676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69260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-28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648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bottom-up processing &amp; Top-down process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selective attention is, and why it is necessar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ransduction is, and what the 3 steps of this process ar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absolute and different threshold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he function of sensory adaption in humans is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perceptual set mean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ttom-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that begins with the sensory receptors and works up to the brain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tarting from scratch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op-dow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processing guided by higher-level mental processes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pplying what we have learned/experien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600200" y="4095720"/>
            <a:ext cx="1438200" cy="255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5781600" y="4095720"/>
            <a:ext cx="1365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3" descr=""/>
          <p:cNvPicPr/>
          <p:nvPr/>
        </p:nvPicPr>
        <p:blipFill>
          <a:blip r:embed="rId2"/>
          <a:stretch/>
        </p:blipFill>
        <p:spPr>
          <a:xfrm>
            <a:off x="5413320" y="4095720"/>
            <a:ext cx="2584440" cy="2554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685800" y="4000680"/>
            <a:ext cx="2584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perception of that stimulus is based on your 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rain uses prior experiences and expectations to construct your perception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Organisms are equipped with sensory and perceptual abilities based upon their individual need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lective Atten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senses take in 11,000,000 bits of information per second; however, people consciously process 40 bit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ocktail party effect-ability to attend to only one voice among many, while also being 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18T12:30:19Z</dcterms:modified>
  <cp:revision>72</cp:revision>
  <dc:subject/>
  <dc:title>Chapter 8: Sensation and Perception</dc:title>
</cp:coreProperties>
</file>