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27FC-C0E5-4615-9E8C-211E1C1CA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ttentional/Change Blindness: http://www.simonslab.com/video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A5B6-5F33-426E-89F9-4D24501631C6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Threshold: http://garyfisk.com/anim/threshold.sw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E504-D9E2-40E1-AB51-73248ED69F89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. Error: False Positive “Mis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I. Error: False Negative “False Alarm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739E-69C2-46B5-A173-D4239701B148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94B6-1660-4386-A09B-CBF09CD3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6A14-E2B7-415C-8BA7-AC7C1F2F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DA3-560E-451E-8DA0-34FA9C9E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8ACE-FA67-46A5-83E1-09DF8B10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B63D-4888-4FBB-851D-5700AD9C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5CD3-106B-4673-A2F5-AE28D0B6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AF80-73CD-414F-A20E-CB474DF6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45C2-AFDF-44FA-9C04-4A8EC50B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72B9-475A-44D7-AA0B-6762EA07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1E58-BAFC-4A60-B4C9-EBA137AC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F48F-BE88-4A6A-ADEF-D10C8966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71A-9FA4-4EAA-8A84-D47690D4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0879-27C1-42B8-965A-1E6A96B1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1069-EF0F-41A2-8749-70DE68E6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D623-752E-4847-BD66-8B160AB1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983F-7312-44AF-8454-E87D3CE6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BC24-ACE8-490A-8754-511848DB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C11B-A824-4290-94A3-559C2CED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3D80-2AEB-440F-B2E3-7938380A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7FE1-B4FF-4D92-BC21-F8729FF3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E123-3D27-42AC-9F5A-2BFCA027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CB3D-CE19-4904-9E62-894D3F04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FD9-76B6-40DA-8FB3-26A852C9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071F-00AB-4514-9D17-58E5C875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4F10-F11E-4D92-8005-A6B15A1A93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ABD5-4583-45D1-A2ED-4EC39489371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imonslab.com/videos.html" TargetMode="External"/><Relationship Id="rId2" Type="http://schemas.openxmlformats.org/officeDocument/2006/relationships/hyperlink" Target="https://www.youtube.com/watch?v=FWSxSQsspiQ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Unit 4(A):</a:t>
            </a:r>
            <a:br>
              <a:rPr sz="5400"/>
            </a:br>
            <a:r>
              <a:rPr b="0" lang="en-US" sz="5400" spc="-1" strike="noStrike">
                <a:solidFill>
                  <a:srgbClr val="ff9900"/>
                </a:solidFill>
                <a:latin typeface="Arial"/>
              </a:rPr>
              <a:t>Sensation, Perception, and Atten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P. Psycholog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Inattentional Blindnes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iling to see visible objects when our attention is directed elsewhe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Simons and Chabr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hange Blindnes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ilure to notice changes in the enviro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Simons and Levi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3"/>
          <a:stretch/>
        </p:blipFill>
        <p:spPr>
          <a:xfrm>
            <a:off x="31680" y="0"/>
            <a:ext cx="9145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ns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1598760"/>
            <a:ext cx="90676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ransduc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version of one form of energy into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ransformation of stimulus energies, such as sights, sounds, and smells into neural impulses the brain can interpre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ceive sensory simul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nsform stimuli into neural impul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liver the neural information to our brai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72680" y="12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resho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990720"/>
            <a:ext cx="9144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Absolute Threshold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inimum stimulation needed to detect a particular stimulus 50% of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ubliminal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low one’s absolute threshold for conscious awareness 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(you will detect this stimulus less than 50% of the time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Difference Threshold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inimum difference between two stimuli required for detection 50% of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Just Noticeable Difference (JN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resho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3480" y="12949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ignal Detection Theory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dicts how and when we detect the presence of a faint stimulus (signal) amid background stimulation (noi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umes there is no single absolute threshol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umes detection depends partly on a person’s experience, expectations, motivation, and alertne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gnal Detection The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2" descr="http://www-psych.stanford.edu/~lera/psych115s/notes/signal/sdbox.jpg"/>
          <p:cNvPicPr/>
          <p:nvPr/>
        </p:nvPicPr>
        <p:blipFill>
          <a:blip r:embed="rId1"/>
          <a:stretch/>
        </p:blipFill>
        <p:spPr>
          <a:xfrm>
            <a:off x="927000" y="1503360"/>
            <a:ext cx="730260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resho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24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Weber’s Law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principle that, to be perceived as different, two stimuli must differ by a constant percentage (rather than a constant amount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Light: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 in intensity by 8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Weight: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 by 2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Sound: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 in frequency by 0.3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sory Adap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ensory Adapta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minished sensitivity as a consequence of constant stim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nefit: allows our brain to focus on informative changes in our environment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erceptual S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p-down processing-our experiences leads our brain to expect certain resul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erceptual S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p-down processing-our experiences leads our brain to expect certain resul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0" y="3809880"/>
            <a:ext cx="91551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erceptual S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p-down processing-our experiences leads our brain to expect certain resul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0" y="3809880"/>
            <a:ext cx="91551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sation and Percep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ensa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process by which our sensory receptors and nervous system receive and represent stimulus energies from our enviro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ercep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process of organizing and interpreting sensory information, enabling us to recognize meaningful objects and ev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ottom-Up” and “Top-Down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erceptual S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p-down processing-our experiences leads our brain to expect certain resul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0" y="3809880"/>
            <a:ext cx="91551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erceptual S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p-down processing-our experiences leads our brain to expect certain resul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0" y="3809880"/>
            <a:ext cx="91551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ontex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context in which a stimuli is experienced can also influence our per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ontex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context in which 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imuli is experienced c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so influence ou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4676760" y="1725480"/>
            <a:ext cx="446724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ontex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context in which 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imuli is experienced c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so influence ou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4676760" y="1771560"/>
            <a:ext cx="446724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ontex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context in which 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imuli is experienced c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so influence ou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4692600" y="1771560"/>
            <a:ext cx="446724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-288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6480" y="990720"/>
            <a:ext cx="9144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the difference between bottom-up processing &amp; Top-down process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what selective attention is, and why it is necessary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what Transduction is, and what the 3 steps of this process ar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the difference between absolute and different thresholds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what the function of sensory adaption in humans is 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what perceptual set means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Bottom-up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alysis that begins with the sensory receptors and works up to the brain’s integration of sensory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Starting from scratch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op-dow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ormation processing guided by higher-level mental processes, as when we construct perceptions drawing on our experience and expecta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Applying what we have learned/experienc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What is this a picture of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3581280" y="4343400"/>
            <a:ext cx="1657440" cy="2058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1600200" y="4095720"/>
            <a:ext cx="1438200" cy="2554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3"/>
          <a:stretch/>
        </p:blipFill>
        <p:spPr>
          <a:xfrm>
            <a:off x="5781600" y="4095720"/>
            <a:ext cx="13654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What is this a picture of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3581280" y="4343400"/>
            <a:ext cx="1657440" cy="2058840"/>
          </a:xfrm>
          <a:prstGeom prst="rect">
            <a:avLst/>
          </a:prstGeom>
          <a:ln w="0">
            <a:noFill/>
          </a:ln>
        </p:spPr>
      </p:pic>
      <p:pic>
        <p:nvPicPr>
          <p:cNvPr id="233" name="Rectangle 3" descr=""/>
          <p:cNvPicPr/>
          <p:nvPr/>
        </p:nvPicPr>
        <p:blipFill>
          <a:blip r:embed="rId2"/>
          <a:stretch/>
        </p:blipFill>
        <p:spPr>
          <a:xfrm>
            <a:off x="5413320" y="4095720"/>
            <a:ext cx="2584440" cy="2554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"/>
          <p:cNvPicPr/>
          <p:nvPr/>
        </p:nvPicPr>
        <p:blipFill>
          <a:blip r:embed="rId3"/>
          <a:stretch/>
        </p:blipFill>
        <p:spPr>
          <a:xfrm>
            <a:off x="685800" y="4000680"/>
            <a:ext cx="258444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ottom-up 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73080" y="1905120"/>
            <a:ext cx="899172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sensory receptors receive a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body reacts/emotional response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perception of that stimulus is based on your physical &amp; emotional reaction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p-down 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73080" y="2057400"/>
            <a:ext cx="89917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sensory receptors receive a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brain uses prior experiences and expectations to construct your perception of that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nsation and Percep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Organisms are equipped with sensory and perceptual abilities based upon their individual need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A frog, which feeds on flying insects, has eyes with receptor cells that fire only in response to small, dark, moving objects.  A frog could starve to death knee-deep in motionless flies.  But let one zoom by and the frog’s “bug detector” cells snap awak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A male silkworm moth has receptors so sensitive to the female sex-attractant odor that a single female need release only a billionth of an ounce per second to attract every male silkworm moth within a mile.  That is why there continue to be silkworm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Humans are similarly equipped to detect the important features of our environment.  Our ears are more sensitive to sound frequencies that include human voice consonants and a baby’s cry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ion &amp; Selective Atten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1598760"/>
            <a:ext cx="9144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elective Atten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focusing of conscious awareness on a particular stimul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8f8f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The five senses take in 11,000,000 bits of information per second; however, people consciously process 40 bits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8f8f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Cocktail party effect-ability to attend to only one voice among many, while also being able to detect your own name in an unattended voic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5-11-18T12:30:19Z</dcterms:modified>
  <cp:revision>72</cp:revision>
  <dc:subject/>
  <dc:title>Chapter 8: Sensation and Perception</dc:title>
</cp:coreProperties>
</file>