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6142-E802-4645-BAF5-76C4E363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CA0E-F034-46E2-A9F2-F99F49E7B45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2DBB-0DE8-44CB-BCAD-1434358FCA7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1DC3-C81B-451C-A552-93203AE7C76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A24D-0AF8-4610-90F8-C5BD9F9A3CD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Threshold: http://garyfisk.com/anim/threshold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94C8-2621-42FF-9532-80A82E1C222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Threshold: http://garyfisk.com/anim/threshold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D0E6-B4BD-4721-9D2D-012C785FFE6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. Error: False Positive “Mis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I. Error: False Negative “False Alar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3DDF-75FE-4565-A174-CBDA6D4688A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BE0-2976-47F4-9FF1-C4231774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2F4-0B68-4706-B82A-A80CAF4A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312-7271-40D7-B41A-43661E63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1AC-2421-472D-AE73-DC0F17C1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1009-48FF-4EB5-8E7F-FDEAAE74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052E-741E-40AD-84E6-B76A109F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FF60-3DFD-4045-9FC3-8A320F21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535C-4DF0-43C0-A900-DE7F8414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5196-24DE-4F03-86CA-F6052597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9C82-B151-4957-B7C4-FC90B612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BD67-94D6-4860-9A27-4D48DA33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935-3449-4D62-A304-853C6D3B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BA35-0115-4326-B3AD-052406ED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9C1E-FAD3-4F59-BF6F-F94E367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BDF6-F0B5-4E99-995E-6BE341D2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A14F-63AC-4439-AC2B-B0AD2506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D5E6-B284-4A64-9CD3-6E278867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6DC-2A78-45B9-8AC2-F490C525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70C-002F-40ED-91C0-5F558B91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384-B54B-40BD-AE9C-508FA4AA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BA7-525A-4C5B-94F9-1A7021BC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C53-CF96-4627-A048-DB7520ED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8B7-44D1-4731-BE3B-1FF4577B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687-DA1D-46D2-BBB4-4F8ECABB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1DEE-1D4A-4D0E-B3D1-7D17B6AC4A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627D-8CBF-4B30-9D9A-33417F47C0A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nit 4</a:t>
            </a:r>
            <a:br>
              <a:rPr sz="5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modules 16/17):</a:t>
            </a:r>
            <a:br>
              <a:rPr sz="3200"/>
            </a:b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Sensation, Perception, and Atten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P. Psych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r. Deb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73080" y="2057400"/>
            <a:ext cx="899172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rain uses prior experiences and expectations to construct your perception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Think about how you learned your                      alphabet as a child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1600200" y="4095720"/>
            <a:ext cx="1438200" cy="2554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3"/>
          <a:stretch/>
        </p:blipFill>
        <p:spPr>
          <a:xfrm>
            <a:off x="5781600" y="4095720"/>
            <a:ext cx="13654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" descr=""/>
          <p:cNvPicPr/>
          <p:nvPr/>
        </p:nvPicPr>
        <p:blipFill>
          <a:blip r:embed="rId2"/>
          <a:stretch/>
        </p:blipFill>
        <p:spPr>
          <a:xfrm>
            <a:off x="5413320" y="4095720"/>
            <a:ext cx="2584440" cy="2554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685800" y="4000680"/>
            <a:ext cx="25844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Organisms are equipped with sensory and perceptual abilities based upon their individual nee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frog, which feeds on flying insects, has eyes with receptor cells that fire only in response to small, dark, moving objects.  A frog could starve to death knee-deep in motionless flies.  But let one zoom by and the frog’s “bug detector” cells snap awak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male silkworm moth has receptors so sensitive to the female sex-attractant odor that a single female need release only a billionth of an ounce per second to attract every male silkworm moth within a mile.  That is why there continue to be silkworm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Humans are similarly equipped to detect the important features of our environment.  Our ears are more sensitive to sound frequencies that include human voice consonants and a baby’s cr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Organisms are equipped with sensory and perceptual abilities based upon their individual needs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frog, which feeds on flying insects, has eyes with receptor cells that fire only in response to small, dark, moving objects.  A frog could starve to death knee-deep in motionless flies.  But let one zoom by and the frog’s “bug detector” cells snap awak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male silkworm moth has receptors so sensitive to the female sex-attractant odor that a single female need release only a billionth of an ounce per second to attract every male silkworm moth within a mile.  That is why there continue to be silkworm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Humans are similarly equipped to detect the important features of our environment.  Our ears are more sensitive to sound frequencies that include human voice consonants and a baby’s cr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ion &amp; Selective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159876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lective Atten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focusing of conscious awareness on a particular stimul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The five senses take in 11,000,000 bits of information per second; however, people consciously process 40 bit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Cocktail party effect-ability to attend to only one voice among many, while also being able to detect your own name in an unattended voi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ion &amp; Selective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59876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elective Atten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ocusing of conscious awareness on a particular stimul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The five </a:t>
            </a:r>
            <a:r>
              <a:rPr b="0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senses take in 11,000,000 bits of information per second;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however, people </a:t>
            </a:r>
            <a:r>
              <a:rPr b="0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consciously process 40 bits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Cocktail party effect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-ability to attend to only one voice among many, while </a:t>
            </a:r>
            <a:r>
              <a:rPr b="0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also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 being </a:t>
            </a:r>
            <a:r>
              <a:rPr b="0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able to detect your own name in an unattended voi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ange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ure to notice changes in the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Lev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by which our sensory receptors and nervous system receive and represent stimulus energies from our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of organizing and interpreting sensory information, enabling us to recognize meaningful objects and ev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ottom-Up” and “Top-Dow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hange Blindness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ure to notice changes in the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Lev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598760"/>
            <a:ext cx="9067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nsduc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version of one form of energy into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nsformation of stimulus energies, such as sights, sounds, and smells into neural impulses the brain can interpr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eive sensory simul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form stimuli into neural impul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liver the neural information to our bra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598760"/>
            <a:ext cx="9067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Transduc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Conversion of one form of energy into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ransformation of stimulus energies, such as sights, sounds, and smells into neural impulses the brain can interpret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-specifically for psychology/sens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eive sensory simul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form stimuli into neural impul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liver the neural information to our bra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2680" y="12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bsolut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stimulation needed to detect a particular stimulus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ublimin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low one’s absolute threshold for conscious awareness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(you will detect this stimulus less than 50% of the tim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fferenc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difference between two stimuli required for detection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Just Noticeable Difference (J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72680" y="12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Absolute Threshold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nimum stimulation needed to detect a particular stimulus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ubliminal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elow one’s absolute threshold for conscious awarenes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(you will </a:t>
            </a: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detect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 this stimulus </a:t>
            </a: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less than 50%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of the tim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Difference Threshold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nimum difference between two stimuli required for detection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Just Noticeable Difference (J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3480" y="12949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ignal Detection Theor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dicts how and when we detect the presence of a faint stimulus (signal) amid background stimulation (noi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there is no single absolute threshol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detection depends partly on a person’s experience, expectations, motivation, and alert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3480" y="12949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ignal Detection Theory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edicts how and when we detect the presence of a faint stimulu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signal)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mid background stimulation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noi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ssumes there is no single absolute threshold 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etection depends partly on a person’s experience, expectations, motivation, and alert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gnal Detection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Picture 2" descr="http://www-psych.stanford.edu/~lera/psych115s/notes/signal/sdbox.jpg"/>
          <p:cNvPicPr/>
          <p:nvPr/>
        </p:nvPicPr>
        <p:blipFill>
          <a:blip r:embed="rId1"/>
          <a:stretch/>
        </p:blipFill>
        <p:spPr>
          <a:xfrm>
            <a:off x="927000" y="1503360"/>
            <a:ext cx="73026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24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Weber’s Law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inciple that, to be perceived as different, two stimuli must differ by a constant percentage (rather than a constant amou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intensity by 8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by 2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ound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frequency by 0.3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24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Weber’s Law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inciple that,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o be perceived as different, two stimuli must differ by a constant percentage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rather than a constant amou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intensity by 8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by 2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ound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frequency by 0.3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ensa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cess by which our sensory receptors and nervous system receive and represent stimulus energ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rom our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cess of organizing and interpreting sensory inform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enabling us to recognize meaningful objects and ev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ottom-Up” and “Top-Dow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ory Adap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ory Adapt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minished sensitivity as a consequence of constant stim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efit: allows our brain to focus on informative changes in our environmen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ory Adap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ensory Adapta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iminished sensitivity as a consequence of constant stim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enefit: allows our brain to focus on informative chang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in our environmen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stimuli is experienced can also influence our 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context in which a stimuli is experienced can also influence our 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Bottom-up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alysis that begins with the sensory receptors and works up to the brain’s integration of sensory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Top-dow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processing guided by higher-level mental processes, as when we construct perceptions drawing on our experience and expec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4676760" y="172548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467676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469260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-288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648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bottom-up processing &amp; Top-down process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selective attention is, and why it is necessar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ransduction is, and what the 3 steps of this process ar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absolute and different threshold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he function of sensory adaption in humans is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perceptual set mean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Bottom-up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alysi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at begins with the sensory receptors and works up to the br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’s integration of sensory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Starting from scratch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op-dow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cessing guided by higher-level mental proce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s when we construct perceptions drawing on our experience and expec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pplying what we have learned/experienc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ottom-up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73080" y="1905120"/>
            <a:ext cx="8991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ody reacts/emotional respons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perception of that stimulus is based on your physical &amp; emotional reactio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Bottom-up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73080" y="1905120"/>
            <a:ext cx="8991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ody reacts/emotional respons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perception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 of that stimulus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is based on 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physical &amp; emotional reactio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3080" y="2057400"/>
            <a:ext cx="89917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rain uses prior experiences and expectations to construct your perception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73080" y="2057400"/>
            <a:ext cx="89917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rain uses prior experiences and expectations to construct your perception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7-10-20T11:58:33Z</dcterms:modified>
  <cp:revision>79</cp:revision>
  <dc:subject/>
  <dc:title>Chapter 8: Sensation and Perception</dc:title>
</cp:coreProperties>
</file>