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AE6-8898-4D92-ADA5-D1C6A9B6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D99-AD96-4DE1-A6FB-8FA58704860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CFB6-86F5-4154-9277-D9F6FC32335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9CD-70B3-4EF3-95CF-0D96FC46806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BD7-C87F-486F-9590-470F5941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CB1-6FB4-4B41-8932-462EB664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7E1-39CF-493B-A7A9-5417A75E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CD7-579F-4847-9184-70C84603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FDC7-C35D-42FC-A30B-FAE17639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CD1-AC61-4039-8DB8-A32A918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7C94-E69C-42EF-911B-647B9E4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5B66-AD62-433D-B372-89E2C1A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725F-300E-48EC-990A-9C1B385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768-AA1F-480F-BBBA-A62D1809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06C6-C74A-4506-A1BB-7D3A1434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CDD-6C0D-4ECC-B0D3-2BE6F3CD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8BAC-2308-4836-AA1A-D544CBFD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C533-0689-4289-82E9-BE5FEB3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333-6B79-412E-8037-AAA2755E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E348-10B6-42E9-93E2-C788D627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4BE-47AF-499D-A738-40211CF7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F0E-7B74-483F-8D3C-75F91C16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7BD-2719-441D-B41D-FE7A9E9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BA1-E2D0-437D-84C0-3DCFC2E0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EE-91C0-4E79-9821-FBEB80F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822-2E62-48F0-827C-53213825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46-34C3-42B1-B5EF-63548C8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C20-5EE7-4BB2-A73E-FBBD54A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B2E-A56E-482B-8FBA-9BB4F1E039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479-C0A8-44FB-BC09-A798119154F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monslab.com/videos.html" TargetMode="External"/><Relationship Id="rId2" Type="http://schemas.openxmlformats.org/officeDocument/2006/relationships/hyperlink" Target="https://www.youtube.com/watch?v=FWSxSQsspiQ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(A):</a:t>
            </a:r>
            <a:br>
              <a:rPr sz="54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8T12:30:19Z</dcterms:modified>
  <cp:revision>72</cp:revision>
  <dc:subject/>
  <dc:title>Chapter 8: Sensation and Perception</dc:title>
</cp:coreProperties>
</file>