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974-779B-4511-9DCC-45A6B3EC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E9B-CEB8-4EF4-BFD6-B314B31A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439A-0EDD-4632-A714-0CB60423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AF68-435B-4612-99CC-5D19CEC2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2: What is the link between emotional arousal and the autonomic nervous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585E-54AF-461B-85FF-89B06753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5ABD-E4A7-42AF-83DD-69AA5F43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3: Do different emotions activate different physiological and brain-pattern respon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1C1-AD37-4E09-B240-149755CD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C05-E4AF-4C8A-AA12-06C0B519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5: How do we communicate nonverba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87E-B5FC-4ABE-AA2A-2139DB66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A95-4752-4492-820A-44F247C9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430-0F26-4F3A-8193-18DB5859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1: What is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F26-3781-41F7-A11E-77272B3FF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B1A-C747-4A3D-9BF9-F3010BCE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F4B-F07B-4329-B582-A3FEA385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93C1-6FF3-40D8-BB70-9B40562D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6B4-D22F-42A6-A65E-FA42F012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3: Why are some of us more prone than others to coronary heart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E13-5696-4474-B4BA-C6D82D76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973-3C78-434B-A8B8-6602B945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956-B544-48C5-A029-BEAE3FE2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ew Question 14: How does stress make us more vulnerable to dise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D774-C50A-49A1-95E0-F7A20363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29F-4921-4867-9534-B0B652AB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0CE-3014-4DB4-8A02-0E6988E5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42C-344F-4934-91D9-8A428A6D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B577-6500-4E51-BBA0-E7A1CEAF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ames-Lange Theory of Emo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We feel emotion because of biological changes caused by stress.  The body changes and our mind recognizes the fee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721-42C3-48D9-9DA1-56D49C04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non-Bard Theory: similar physiological changes correspond with drastically different emotional states, so the physiological change and cognitive awareness must occur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4110-626B-482F-95A5-3E1A5981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994-BE22-464F-BE4B-ACF83BE0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229-0208-46FB-83C9-E85F409E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FC7-9092-4835-9F98-1ED832C0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012-C603-44F7-A251-8D536F2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675-F809-4555-BD17-6EACA2F1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2BE-FFD2-4A54-8E2A-E360B05C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C94-A114-4C6A-A0FA-79A16412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18F-60FE-44DB-8310-56175FB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AEC-98DD-43E9-8BE1-C857890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23A-63CB-47B8-94B1-A774A3C5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175-ED61-4C2A-85A1-1AB9D4F9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36D-1FBB-4DC7-B159-0324FA1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AE8-2E91-4D06-9A0D-B09525A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F5B-CF93-4CA6-A8C0-A234F5F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F75D-424C-45B3-A670-36033523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760" y="12952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otions, Stress, &amp; Heal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&gt;Two Routes to Emotion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edy, low road &amp; the thinking, high road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Zajonc and (Joseph) LeDoux emphasize that some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s are immediate, without consciou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praisa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gt;(Richard)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zarus,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achter, &amp;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ger emphasize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at appraisal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so determines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me emotions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673_MyersPsy8e_fig"/>
          <p:cNvPicPr/>
          <p:nvPr/>
        </p:nvPicPr>
        <p:blipFill>
          <a:blip r:embed="rId1"/>
          <a:stretch/>
        </p:blipFill>
        <p:spPr>
          <a:xfrm>
            <a:off x="3809880" y="312408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104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, </a:t>
            </a:r>
            <a:r>
              <a:rPr b="0" i="1" lang="en-US" sz="4200" spc="-1" strike="noStrike">
                <a:solidFill>
                  <a:srgbClr val="000099"/>
                </a:solidFill>
                <a:latin typeface="Palatino Linotype"/>
              </a:rPr>
              <a:t>co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bodi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40" y="761760"/>
            <a:ext cx="9113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l emotions involve bodily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responses are very notice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terflies in our stomach when fear a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thers are more difficult to dis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urons activated in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19320" y="3800520"/>
            <a:ext cx="3057480" cy="30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Palatino Linotype"/>
              </a:rPr>
              <a:t>Emotions and the Autonomic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23760" y="609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an emotional experience, our autonomic nervous system mobilizes energy in the body that arouse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2673_MyersPsy8e_fig"/>
          <p:cNvPicPr/>
          <p:nvPr/>
        </p:nvPicPr>
        <p:blipFill>
          <a:blip r:embed="rId1"/>
          <a:stretch/>
        </p:blipFill>
        <p:spPr>
          <a:xfrm>
            <a:off x="-23760" y="2133720"/>
            <a:ext cx="916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rousal and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" y="838080"/>
            <a:ext cx="9132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rousal in short spurts can be ada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e perform better under moderate arousal, but optimal performance varies with task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Yerkes-Dodso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igure-38-02"/>
          <p:cNvPicPr/>
          <p:nvPr/>
        </p:nvPicPr>
        <p:blipFill>
          <a:blip r:embed="rId1"/>
          <a:srcRect l="0" t="2914" r="1582" b="-325"/>
          <a:stretch/>
        </p:blipFill>
        <p:spPr>
          <a:xfrm>
            <a:off x="647640" y="29718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Similarities of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hysiological responses related to the emotions of fear, anger, love, and boredom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673_MyersPsy8e_13UN01"/>
          <p:cNvPicPr/>
          <p:nvPr/>
        </p:nvPicPr>
        <p:blipFill>
          <a:blip r:embed="rId1"/>
          <a:stretch/>
        </p:blipFill>
        <p:spPr>
          <a:xfrm>
            <a:off x="5087880" y="2395440"/>
            <a:ext cx="4035600" cy="2838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810320" y="5267160"/>
            <a:ext cx="45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xcitement and fear involve a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hysiological aro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Palatino Linotype"/>
              </a:rPr>
              <a:t>Physiological Differences in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60" y="1052280"/>
            <a:ext cx="913464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me physical responses are different for different emo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nger temperature and movement of facial muscles, change during fear, rage, and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left frontal lobe when happy; in the right frontal lo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depres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tivity in the amygdala allows us to distinguish between anger and rag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xpressed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2356_HCD2e_12UN01"/>
          <p:cNvPicPr/>
          <p:nvPr/>
        </p:nvPicPr>
        <p:blipFill>
          <a:blip r:embed="rId1"/>
          <a:stretch/>
        </p:blipFill>
        <p:spPr>
          <a:xfrm>
            <a:off x="596880" y="3200400"/>
            <a:ext cx="3670200" cy="262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356_HCD2e_8UN05"/>
          <p:cNvPicPr/>
          <p:nvPr/>
        </p:nvPicPr>
        <p:blipFill>
          <a:blip r:embed="rId2"/>
          <a:stretch/>
        </p:blipFill>
        <p:spPr>
          <a:xfrm>
            <a:off x="4724280" y="3200400"/>
            <a:ext cx="3733920" cy="264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7621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expressed on the face, by the body, and by the intonation of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emotional expression is fairly constant, regardles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Facial &amp; Behavior Feedback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duced to make a frowning expression reported feeling a little angry; those induced to smile felt happier and found cartoons fun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ur body as we would when experiencing some emotion, we are likely to feel that emotion to som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mplify our emotions by activating muscles associated with specific states, and the muscles signal the body to respond as though we were experiencing thos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iopsychosocial approach to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2673_MyersPsy8e_fig"/>
          <p:cNvPicPr/>
          <p:nvPr/>
        </p:nvPicPr>
        <p:blipFill>
          <a:blip r:embed="rId1"/>
          <a:stretch/>
        </p:blipFill>
        <p:spPr>
          <a:xfrm>
            <a:off x="655560" y="1614600"/>
            <a:ext cx="79819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(s) between the James-Lange, Cannon-Bard, &amp; Two-factor theories of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&amp; explain the two brain’s 2 pathways (roads) for e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that facial feedback theory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266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" y="841320"/>
            <a:ext cx="9131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are our body’s adaptive response of the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olve physiological arousal, expressive behaviors, and conscious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2356_HCD2e_3UN01"/>
          <p:cNvPicPr/>
          <p:nvPr/>
        </p:nvPicPr>
        <p:blipFill>
          <a:blip r:embed="rId1"/>
          <a:stretch/>
        </p:blipFill>
        <p:spPr>
          <a:xfrm>
            <a:off x="2209680" y="3305160"/>
            <a:ext cx="4840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Heal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0784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logical states can cause phys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is any circumstance (real or perceived) that threatens a person’s well-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yersPsy8e_14UN02"/>
          <p:cNvPicPr/>
          <p:nvPr/>
        </p:nvPicPr>
        <p:blipFill>
          <a:blip r:embed="rId1"/>
          <a:stretch/>
        </p:blipFill>
        <p:spPr>
          <a:xfrm>
            <a:off x="2554200" y="2857680"/>
            <a:ext cx="40356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14440" y="5776920"/>
            <a:ext cx="8076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 rot="5400000">
            <a:off x="6125040" y="507600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e Stone/ Cor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 is a process by which we appraise and cope with environmental threats and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ors are what causes a person to experienc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short-lived or taken as a challenge, stressors may have positive effects. However, if stress is threatening or prolonged, it can be harm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tressor"/>
          <p:cNvPicPr/>
          <p:nvPr/>
        </p:nvPicPr>
        <p:blipFill>
          <a:blip r:embed="rId1"/>
          <a:srcRect l="0" t="0" r="1015" b="-4269"/>
          <a:stretch/>
        </p:blipFill>
        <p:spPr>
          <a:xfrm>
            <a:off x="0" y="315108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ypes of Stress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ree main types of str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tastro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Unpredictable, large-scal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lmost universally regarded as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amage to emotional &amp; physical health can be signific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gnificant lif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an be positive or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Negative crises (especially if they are clustered together) can lead to health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aily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Relatively insignificant, individ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rolonged stress can have physical &amp; physiological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tress Response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yersPsy8e_fig"/>
          <p:cNvPicPr/>
          <p:nvPr/>
        </p:nvPicPr>
        <p:blipFill>
          <a:blip r:embed="rId1"/>
          <a:stretch/>
        </p:blipFill>
        <p:spPr>
          <a:xfrm>
            <a:off x="4746600" y="871560"/>
            <a:ext cx="4397400" cy="5986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83808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initial stress response is a fight-or-flight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pinephrine and norepinephrine from the  inner adrenal gl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reasing heart and respiration 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gar and fat mob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38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pain killer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General Adaptation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8380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ording to Hans Selye, a stress response to any kind of stimulation is similar. The stressed individual goes through three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ha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yersPsy8e_fig"/>
          <p:cNvPicPr/>
          <p:nvPr/>
        </p:nvPicPr>
        <p:blipFill>
          <a:blip r:embed="rId1"/>
          <a:stretch/>
        </p:blipFill>
        <p:spPr>
          <a:xfrm>
            <a:off x="-4343400" y="3300480"/>
            <a:ext cx="1348740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the He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2960" y="990360"/>
            <a:ext cx="9156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ress that leads to prolonged elevated blood pressure may result in coronary heart disease, a clogging of the vessels that nourish the heart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ratmic"/>
          <p:cNvPicPr/>
          <p:nvPr/>
        </p:nvPicPr>
        <p:blipFill>
          <a:blip r:embed="rId1"/>
          <a:stretch/>
        </p:blipFill>
        <p:spPr>
          <a:xfrm>
            <a:off x="2514600" y="3843360"/>
            <a:ext cx="4272120" cy="2914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38680" y="530064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laqu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oronary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2000160" y="5638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291800" y="4800600"/>
            <a:ext cx="10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o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6095880" y="5105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rsonality 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A is a term used for competitive, hard-driving, impatient, verbally aggressive, and anger-pron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ype B refers to easygoing, relax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Type A personalities are more likely to develop coronary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essimism and Heart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search shows that pessimistic adult men are twice as likely to develop heart disease over a 10-year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yersPsy8e_fig"/>
          <p:cNvPicPr/>
          <p:nvPr/>
        </p:nvPicPr>
        <p:blipFill>
          <a:blip r:embed="rId1"/>
          <a:stretch/>
        </p:blipFill>
        <p:spPr>
          <a:xfrm>
            <a:off x="623880" y="2590920"/>
            <a:ext cx="7910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&amp; Susceptibility to Dise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physiologic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y stress-related physical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yperten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ome headac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sychoneuroimmunology (PN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eveloping field in which the health effects of psychological, neural, and endocrine processes on the immune system are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-thoughts/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uro-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mune-disease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logy-stud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Psychoneuroimmunolo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mmune system uses 4 types of cells to fight off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 lymphocytes fight bacteri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 lymphocytes attack cancer cells and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crophages ingest foreign substances &amp; worn-ou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K (natural killer) cells-pursue diseased cells (such as those infected by viruses, cancer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uring stress, energy is mobilized away from the immune system making i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longed stress, therefore, can make individuals more susceptible to disease, both major &amp;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xpression of Emotions is Ada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speculated that our ancestors communicated with facial expressions in the absence of language.  Nonverbal facial expressions led to our ancestors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e widens our eyes, enabling us to take in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gust wrinkles the nose, closing it to foul odo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63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Stress and Col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eople with the highest life stress scores were also the most vulnerable when exposed to an experimental cold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yersPsy8e_fig"/>
          <p:cNvPicPr/>
          <p:nvPr/>
        </p:nvPicPr>
        <p:blipFill>
          <a:blip r:embed="rId1"/>
          <a:stretch/>
        </p:blipFill>
        <p:spPr>
          <a:xfrm>
            <a:off x="671400" y="2525760"/>
            <a:ext cx="755820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477120" y="2819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Behavioral Medic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terdisciplinary field that integrates behavioral knowledge with med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ind and body interact; everything psychological is simultaneously physiolog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3 main categories of str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explain the role of the 4 types of cells our immune system uses to figh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es stress play on those cells (from #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Palatino Linotype"/>
              </a:rPr>
              <a:t>Commonsense view of emo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rst comes conscious awareness, then comes physiologica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you become happy, your heart starts beating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2356_HCD2e_3UN08"/>
          <p:cNvPicPr/>
          <p:nvPr/>
        </p:nvPicPr>
        <p:blipFill>
          <a:blip r:embed="rId1"/>
          <a:stretch/>
        </p:blipFill>
        <p:spPr>
          <a:xfrm>
            <a:off x="1752480" y="3075120"/>
            <a:ext cx="5639040" cy="3760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5400000">
            <a:off x="6196680" y="581904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b Sa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James-Lange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5884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illiam James &amp; Carl L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the physiological activity precedes the emo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become aware of our physiological response, THEN we experience the 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ure-37-01-1"/>
          <p:cNvPicPr/>
          <p:nvPr/>
        </p:nvPicPr>
        <p:blipFill>
          <a:blip r:embed="rId1"/>
          <a:stretch/>
        </p:blipFill>
        <p:spPr>
          <a:xfrm>
            <a:off x="4952880" y="1720800"/>
            <a:ext cx="419112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annon-Bard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80" y="1050480"/>
            <a:ext cx="6080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alter Cannon &amp; Phillip 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an emotion-triggering stimulus and the body's arousal take place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ither the physiological response NOR the emotion cause (or are caused by)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-37-01-2"/>
          <p:cNvPicPr/>
          <p:nvPr/>
        </p:nvPicPr>
        <p:blipFill>
          <a:blip r:embed="rId1"/>
          <a:stretch/>
        </p:blipFill>
        <p:spPr>
          <a:xfrm>
            <a:off x="5353200" y="2268360"/>
            <a:ext cx="379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wo-Factor The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934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tanley Schachter &amp; Jerome S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oposed that our                                                      physiology &amp; cognition                cre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motions have two                           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cal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apprai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ysiological response to,                          &amp; our cognitive analysis                      of, the stimulus causes                             th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igure-37-01-3"/>
          <p:cNvPicPr/>
          <p:nvPr/>
        </p:nvPicPr>
        <p:blipFill>
          <a:blip r:embed="rId1"/>
          <a:stretch/>
        </p:blipFill>
        <p:spPr>
          <a:xfrm>
            <a:off x="4944960" y="1630440"/>
            <a:ext cx="419904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The Spillover Eff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0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cognitive appraisal of our physiological response to stimuli can impact the emotion(s) w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physiological response to one event spills over into our response to the next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2673_MyersPsy8e_13UN03a"/>
          <p:cNvPicPr/>
          <p:nvPr/>
        </p:nvPicPr>
        <p:blipFill>
          <a:blip r:embed="rId1"/>
          <a:stretch/>
        </p:blipFill>
        <p:spPr>
          <a:xfrm>
            <a:off x="444600" y="3943440"/>
            <a:ext cx="36306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-592200" y="6392880"/>
            <a:ext cx="1032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Arousal from a soccer match can fuel anger, which may lead to rio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2673_MyersPsy8e_13UN03b"/>
          <p:cNvPicPr/>
          <p:nvPr/>
        </p:nvPicPr>
        <p:blipFill>
          <a:blip r:embed="rId2"/>
          <a:stretch/>
        </p:blipFill>
        <p:spPr>
          <a:xfrm>
            <a:off x="4809960" y="3909960"/>
            <a:ext cx="326880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 rot="5400000">
            <a:off x="3717000" y="4358880"/>
            <a:ext cx="134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 Photo/ Nati Harn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 rot="5400000">
            <a:off x="7543080" y="45727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uters/ Corb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Cognition </a:t>
            </a:r>
            <a:r>
              <a:rPr b="1" i="1" lang="en-US" sz="4200" spc="-1" strike="noStrike">
                <a:solidFill>
                  <a:srgbClr val="000099"/>
                </a:solidFill>
                <a:latin typeface="Palatino Linotype"/>
              </a:rPr>
              <a:t>Does Not </a:t>
            </a:r>
            <a:r>
              <a:rPr b="1" lang="en-US" sz="4200" spc="-1" strike="noStrike">
                <a:solidFill>
                  <a:srgbClr val="000099"/>
                </a:solidFill>
                <a:latin typeface="Palatino Linotype"/>
              </a:rPr>
              <a:t>Always Precede Emo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obert Zajonc suggested that we experience emotions separate from (even before) our cognitive interpretation of a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-25560" y="6446880"/>
            <a:ext cx="93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Emotions are felt directly through the amygdala (a) or through the corte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f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yers9e_fig_12_06"/>
          <p:cNvPicPr/>
          <p:nvPr/>
        </p:nvPicPr>
        <p:blipFill>
          <a:blip r:embed="rId1"/>
          <a:stretch/>
        </p:blipFill>
        <p:spPr>
          <a:xfrm>
            <a:off x="0" y="2701800"/>
            <a:ext cx="6427800" cy="3775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629400" y="3048120"/>
            <a:ext cx="2209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mygdala sends more neural projections up to the cortex than it receives back, leading our feelings to often hijack our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3:42:41Z</dcterms:created>
  <dc:creator>Drew</dc:creator>
  <dc:description/>
  <dc:language>en-US</dc:language>
  <cp:lastModifiedBy>Debes John</cp:lastModifiedBy>
  <dcterms:modified xsi:type="dcterms:W3CDTF">2016-01-25T16:39:48Z</dcterms:modified>
  <cp:revision>22</cp:revision>
  <dc:subject/>
  <dc:title>Slide 1</dc:title>
</cp:coreProperties>
</file>