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00E-C88E-4B7E-923D-3EF048AB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283-C524-462F-91D9-5E40F049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8A2-AECC-4ED8-9954-2AB679F7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4D2-A30A-4F6F-83C5-F6753A93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2: What is the link between emotional arousal and the autonomic nervous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4CE9-4030-4372-8542-5BA9B8D2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8AD-0011-412A-A80F-C7DA18C3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3: Do different emotions activate different physiological and brain-pattern respon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ACC-F191-4B24-AC63-0C8F2EF4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284-8F24-42EB-8EA9-E47F6B00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5: How do we communicate nonverba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423-F2AC-44CA-A005-49202D83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E0FC-C503-4728-916D-C2BAFB87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5464-AA11-4ED5-A664-0786765D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1: What is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BAC2-B93B-46CF-8B1A-B31FE0A0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190-E66C-44E3-8DE1-14142C8C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DC8D-31AB-44DB-956E-A83F51F1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89A3-BF40-4FDC-A3B3-C83C65E5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487-B82A-4981-95B1-9BBE138F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3: Why are some of us more prone than others to coronary heart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529-B3B6-4D23-9F93-C86C1540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6A0-45F8-46EF-98A2-5109EE7A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4B7C-9F86-4936-B267-CD6776565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4: How does stress make us more vulnerable to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AD9-1128-40D1-8A84-74F502C9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64B-2F3F-448C-9AC9-A5E251F0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3FC0-7BFE-4342-B202-4C6C4277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19D-EC8A-4BE9-8CA5-58D399BE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2F22-78C0-42DA-965D-CCF60B7F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ames-Lange Theory of Emo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We feel emotion because of biological changes caused by stress.  The body changes and our mind recognizes the fee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DD41-D301-4C1F-BF82-6059B6B7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non-Bard Theory: similar physiological changes correspond with drastically different emotional states, so the physiological change and cognitive awareness must occur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FDBE-0851-4F48-B94E-6F13527B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1A58-1BF8-4EE7-9D9A-CA9AB56B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2242-0508-42BB-B6FF-0C77C3BA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19B-2F0C-4775-B3D7-41388513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A80-E32F-4CC9-822D-05D0B86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966-92C1-41DB-9B03-C7FE8180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06B-4B5B-4D23-9E61-4664CD1F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CE0-10AE-41A0-8965-90A33F3C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623-BF77-4E7C-B884-94CF96F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018-6AD8-4822-B8E2-1017947A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C59-7185-4C46-9FE1-B97C572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2EB-FCE5-472E-ABC1-C5B914D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345-843B-49CB-B4BB-7E32FBE6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539-A110-4C35-86A1-C1D871E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ECE-EEBB-4DA1-934F-A0675C9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0462-BA97-4E5C-BC66-2DA099DC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760" y="12952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otions, Stress, &amp; Heal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&gt;Two Routes to Emotion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edy, low road &amp; the thinking, high road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Zajonc and (Joseph) LeDoux emphasize that some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s are immediate, without consciou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praisa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(Richard)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zarus,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achter, &amp;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ger emphasize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at appraisal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so determines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me emotions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673_MyersPsy8e_fig"/>
          <p:cNvPicPr/>
          <p:nvPr/>
        </p:nvPicPr>
        <p:blipFill>
          <a:blip r:embed="rId1"/>
          <a:stretch/>
        </p:blipFill>
        <p:spPr>
          <a:xfrm>
            <a:off x="3809880" y="312408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104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, </a:t>
            </a:r>
            <a:r>
              <a:rPr b="0" i="1" lang="en-US" sz="4200" spc="-1" strike="noStrike">
                <a:solidFill>
                  <a:srgbClr val="000099"/>
                </a:solidFill>
                <a:latin typeface="Palatino Linotype"/>
              </a:rPr>
              <a:t>co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bodi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40" y="761760"/>
            <a:ext cx="9113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l emotions involve bodily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responses are very notice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terflies in our stomach when fear a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thers are more difficult to dis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urons activated in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19320" y="3800520"/>
            <a:ext cx="3057480" cy="30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Palatino Linotype"/>
              </a:rPr>
              <a:t>Emotions and the Autonomic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23760" y="609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an emotional experience, our autonomic nervous system mobilizes energy in the body that arouse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2673_MyersPsy8e_fig"/>
          <p:cNvPicPr/>
          <p:nvPr/>
        </p:nvPicPr>
        <p:blipFill>
          <a:blip r:embed="rId1"/>
          <a:stretch/>
        </p:blipFill>
        <p:spPr>
          <a:xfrm>
            <a:off x="-23760" y="2133720"/>
            <a:ext cx="916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rousal and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" y="838080"/>
            <a:ext cx="9132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rousal in short spurts can be ada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e perform better under moderate arousal, but optimal performance varies with task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Yerkes-Dodso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igure-38-02"/>
          <p:cNvPicPr/>
          <p:nvPr/>
        </p:nvPicPr>
        <p:blipFill>
          <a:blip r:embed="rId1"/>
          <a:srcRect l="0" t="2914" r="1582" b="-325"/>
          <a:stretch/>
        </p:blipFill>
        <p:spPr>
          <a:xfrm>
            <a:off x="647640" y="29718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Similarities of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hysiological responses related to the emotions of fear, anger, love, and boredom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673_MyersPsy8e_13UN01"/>
          <p:cNvPicPr/>
          <p:nvPr/>
        </p:nvPicPr>
        <p:blipFill>
          <a:blip r:embed="rId1"/>
          <a:stretch/>
        </p:blipFill>
        <p:spPr>
          <a:xfrm>
            <a:off x="5087880" y="2395440"/>
            <a:ext cx="4035600" cy="2838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810320" y="5267160"/>
            <a:ext cx="45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xcitement and fear involve a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hysiological aro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Differences in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60" y="1052280"/>
            <a:ext cx="913464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physical responses are different for different emo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nger temperature and movement of facial muscles, change during fear, rage, and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left frontal lobe when happy; in the right frontal lo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depres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amygdala allows us to distinguish between anger and rag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xpress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2356_HCD2e_12UN01"/>
          <p:cNvPicPr/>
          <p:nvPr/>
        </p:nvPicPr>
        <p:blipFill>
          <a:blip r:embed="rId1"/>
          <a:stretch/>
        </p:blipFill>
        <p:spPr>
          <a:xfrm>
            <a:off x="596880" y="3200400"/>
            <a:ext cx="3670200" cy="262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356_HCD2e_8UN05"/>
          <p:cNvPicPr/>
          <p:nvPr/>
        </p:nvPicPr>
        <p:blipFill>
          <a:blip r:embed="rId2"/>
          <a:stretch/>
        </p:blipFill>
        <p:spPr>
          <a:xfrm>
            <a:off x="4724280" y="3200400"/>
            <a:ext cx="3733920" cy="264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7621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expressed on the face, by the body, and by the intonation of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emotional expression is fairly constant, regardles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Facial &amp; Behavior Feedback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duced to make a frowning expression reported feeling a little angry; those induced to smile felt happier and found cartoons fun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ur body as we would when experiencing some emotion, we are likely to feel that emotion to som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mplify our emotions by activating muscles associated with specific states, and the muscles signal the body to respond as though we were experiencing thos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iopsychosocial approach to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2673_MyersPsy8e_fig"/>
          <p:cNvPicPr/>
          <p:nvPr/>
        </p:nvPicPr>
        <p:blipFill>
          <a:blip r:embed="rId1"/>
          <a:stretch/>
        </p:blipFill>
        <p:spPr>
          <a:xfrm>
            <a:off x="655560" y="1614600"/>
            <a:ext cx="79819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(s) between the James-Lange, Cannon-Bard, &amp; Two-factor theories of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&amp; explain the two brain’s 2 pathways (roads) for e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that facial feedback theory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266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" y="841320"/>
            <a:ext cx="9131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our body’s adaptive response of the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olve physiological arousal, expressive behaviors, and conscious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2356_HCD2e_3UN01"/>
          <p:cNvPicPr/>
          <p:nvPr/>
        </p:nvPicPr>
        <p:blipFill>
          <a:blip r:embed="rId1"/>
          <a:stretch/>
        </p:blipFill>
        <p:spPr>
          <a:xfrm>
            <a:off x="2209680" y="3305160"/>
            <a:ext cx="4840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Heal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0784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logical states can cause phys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is any circumstance (real or perceived) that threatens a person’s well-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yersPsy8e_14UN02"/>
          <p:cNvPicPr/>
          <p:nvPr/>
        </p:nvPicPr>
        <p:blipFill>
          <a:blip r:embed="rId1"/>
          <a:stretch/>
        </p:blipFill>
        <p:spPr>
          <a:xfrm>
            <a:off x="2554200" y="2857680"/>
            <a:ext cx="40356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14440" y="5776920"/>
            <a:ext cx="8076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 rot="5400000">
            <a:off x="6125040" y="507600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e Stone/ Cor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 is a process by which we appraise and cope with environmental threats and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ors are what causes a person to experienc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short-lived or taken as a challenge, stressors may have positive effects. However, if stress is threatening or prolonged, it can be harm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tressor"/>
          <p:cNvPicPr/>
          <p:nvPr/>
        </p:nvPicPr>
        <p:blipFill>
          <a:blip r:embed="rId1"/>
          <a:srcRect l="0" t="0" r="1015" b="-4269"/>
          <a:stretch/>
        </p:blipFill>
        <p:spPr>
          <a:xfrm>
            <a:off x="0" y="315108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ypes of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ree main types of str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tastro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Unpredictable, large-scal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lmost universally regarded as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amage to emotional &amp; physical health can be signific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gnificant lif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an be positive or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Negative crises (especially if they are clustered together) can lead to health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aily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Relatively insignificant, individ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rolonged stress can have physical &amp; physiological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tress Response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yersPsy8e_fig"/>
          <p:cNvPicPr/>
          <p:nvPr/>
        </p:nvPicPr>
        <p:blipFill>
          <a:blip r:embed="rId1"/>
          <a:stretch/>
        </p:blipFill>
        <p:spPr>
          <a:xfrm>
            <a:off x="4746600" y="871560"/>
            <a:ext cx="4397400" cy="5986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83808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initial stress response is a fight-or-flight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pinephrine and norepinephrine from the  inner adrenal gl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reasing heart and respiration 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gar and fat mob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pain killer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General Adaptation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8380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ording to Hans Selye, a stress response to any kind of stimulation is similar. The stressed individual goes through three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ha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yersPsy8e_fig"/>
          <p:cNvPicPr/>
          <p:nvPr/>
        </p:nvPicPr>
        <p:blipFill>
          <a:blip r:embed="rId1"/>
          <a:stretch/>
        </p:blipFill>
        <p:spPr>
          <a:xfrm>
            <a:off x="-4343400" y="3300480"/>
            <a:ext cx="1348740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the He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2960" y="990360"/>
            <a:ext cx="9156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that leads to prolonged elevated blood pressure may result in coronary heart disease, a clogging of the vessels that nourish the heart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ratmic"/>
          <p:cNvPicPr/>
          <p:nvPr/>
        </p:nvPicPr>
        <p:blipFill>
          <a:blip r:embed="rId1"/>
          <a:stretch/>
        </p:blipFill>
        <p:spPr>
          <a:xfrm>
            <a:off x="2514600" y="3843360"/>
            <a:ext cx="4272120" cy="2914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38680" y="530064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laqu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oronary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2000160" y="5638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291800" y="4800600"/>
            <a:ext cx="10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o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6095880" y="5105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rsonality 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A is a term used for competitive, hard-driving, impatient, verbally aggressive, and anger-pron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B refers to easygoing, relax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Type A personalities are more likely to develop coronary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ssimism and Heart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pessimistic adult men are twice as likely to develop heart disease over a 10-year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yersPsy8e_fig"/>
          <p:cNvPicPr/>
          <p:nvPr/>
        </p:nvPicPr>
        <p:blipFill>
          <a:blip r:embed="rId1"/>
          <a:stretch/>
        </p:blipFill>
        <p:spPr>
          <a:xfrm>
            <a:off x="623880" y="2590920"/>
            <a:ext cx="7910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&amp; Susceptibility to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physiolog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y stress-related physical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yperten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ome headac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neuroimmunology (PN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eveloping field in which the health effects of psychological, neural, and endocrine processes on the immune system are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-thoughts/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uro-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mune-disease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logy-stud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sychoneuroimmunolo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mmune system uses 4 types of cells to fight off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 lymphocytes fight bacteri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 lymphocytes attack cancer cells and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crophages ingest foreign substances &amp; worn-ou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K (natural killer) cells-pursue diseased cells (such as those infected by viruses, cancer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stress, energy is mobilized away from the immune system making i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longed stress, therefore, can make individuals more susceptible to disease, both major &amp;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xpression of Emotions is Ada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speculated that our ancestors communicated with facial expressions in the absence of language.  Nonverbal facial expressions led to our ancestors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e widens our eyes, enabling us to take in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gust wrinkles the nose, closing it to foul odo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63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Col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eople with the highest life stress scores were also the most vulnerable when exposed to an experimental cold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yersPsy8e_fig"/>
          <p:cNvPicPr/>
          <p:nvPr/>
        </p:nvPicPr>
        <p:blipFill>
          <a:blip r:embed="rId1"/>
          <a:stretch/>
        </p:blipFill>
        <p:spPr>
          <a:xfrm>
            <a:off x="671400" y="2525760"/>
            <a:ext cx="755820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477120" y="2819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ehavioral Medic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terdisciplinary field that integrates behavioral knowledge with med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ind and body interact; everything psychological is simultaneously physiolog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3 main categories of str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explain the role of the 4 types of cells our immune system uses to figh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es stress play on those cells (from #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Palatino Linotype"/>
              </a:rPr>
              <a:t>Commonsense view of emo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rst comes conscious awareness, then comes physiologica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you become happy, your heart starts beating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2356_HCD2e_3UN08"/>
          <p:cNvPicPr/>
          <p:nvPr/>
        </p:nvPicPr>
        <p:blipFill>
          <a:blip r:embed="rId1"/>
          <a:stretch/>
        </p:blipFill>
        <p:spPr>
          <a:xfrm>
            <a:off x="1752480" y="3075120"/>
            <a:ext cx="5639040" cy="3760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5400000">
            <a:off x="6196680" y="581904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b Sa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James-Lange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5884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illiam James &amp; Carl L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the physiological activity precedes the emo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become aware of our physiological response, THEN we experience the 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ure-37-01-1"/>
          <p:cNvPicPr/>
          <p:nvPr/>
        </p:nvPicPr>
        <p:blipFill>
          <a:blip r:embed="rId1"/>
          <a:stretch/>
        </p:blipFill>
        <p:spPr>
          <a:xfrm>
            <a:off x="4952880" y="1720800"/>
            <a:ext cx="419112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annon-Bard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80" y="1050480"/>
            <a:ext cx="6080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alter Cannon &amp; Phillip 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an emotion-triggering stimulus and the body's arousal take place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ither the physiological response NOR the emotion cause (or are caused by)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-37-01-2"/>
          <p:cNvPicPr/>
          <p:nvPr/>
        </p:nvPicPr>
        <p:blipFill>
          <a:blip r:embed="rId1"/>
          <a:stretch/>
        </p:blipFill>
        <p:spPr>
          <a:xfrm>
            <a:off x="5353200" y="2268360"/>
            <a:ext cx="379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wo-Factor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934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anley Schachter &amp; Jerome S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our                                                      physiology &amp; cognition                cre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have two                           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cal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apprai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ological response to,                          &amp; our cognitive analysis                      of, the stimulus causes                             th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igure-37-01-3"/>
          <p:cNvPicPr/>
          <p:nvPr/>
        </p:nvPicPr>
        <p:blipFill>
          <a:blip r:embed="rId1"/>
          <a:stretch/>
        </p:blipFill>
        <p:spPr>
          <a:xfrm>
            <a:off x="4944960" y="1630440"/>
            <a:ext cx="419904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pillover Eff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0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cognitive appraisal of our physiological response to stimuli can impact the emotion(s) w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physiological response to one event spills over into our response to the next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2673_MyersPsy8e_13UN03a"/>
          <p:cNvPicPr/>
          <p:nvPr/>
        </p:nvPicPr>
        <p:blipFill>
          <a:blip r:embed="rId1"/>
          <a:stretch/>
        </p:blipFill>
        <p:spPr>
          <a:xfrm>
            <a:off x="444600" y="3943440"/>
            <a:ext cx="36306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-592200" y="6392880"/>
            <a:ext cx="1032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Arousal from a soccer match can fuel anger, which may lead to rio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2673_MyersPsy8e_13UN03b"/>
          <p:cNvPicPr/>
          <p:nvPr/>
        </p:nvPicPr>
        <p:blipFill>
          <a:blip r:embed="rId2"/>
          <a:stretch/>
        </p:blipFill>
        <p:spPr>
          <a:xfrm>
            <a:off x="4809960" y="3909960"/>
            <a:ext cx="326880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 rot="5400000">
            <a:off x="3717000" y="4358880"/>
            <a:ext cx="134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 Photo/ Nati Harn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 rot="5400000">
            <a:off x="7543080" y="45727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uters/ Corb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obert Zajonc suggested that we experience emotions separate from (even before) our cognitive interpretation of a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-25560" y="6446880"/>
            <a:ext cx="93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motions are felt directly through the amygdala (a) or through the corte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f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yers9e_fig_12_06"/>
          <p:cNvPicPr/>
          <p:nvPr/>
        </p:nvPicPr>
        <p:blipFill>
          <a:blip r:embed="rId1"/>
          <a:stretch/>
        </p:blipFill>
        <p:spPr>
          <a:xfrm>
            <a:off x="0" y="2701800"/>
            <a:ext cx="6427800" cy="3775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629400" y="3048120"/>
            <a:ext cx="2209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mygdala sends more neural projections up to the cortex than it receives back, leading our feelings to often hijack our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3:42:41Z</dcterms:created>
  <dc:creator>Drew</dc:creator>
  <dc:description/>
  <dc:language>en-US</dc:language>
  <cp:lastModifiedBy>Debes John</cp:lastModifiedBy>
  <dcterms:modified xsi:type="dcterms:W3CDTF">2016-01-25T16:39:48Z</dcterms:modified>
  <cp:revision>22</cp:revision>
  <dc:subject/>
  <dc:title>Slide 1</dc:title>
</cp:coreProperties>
</file>