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5145088"/>
  <p:notesSz cx="6858000" cy="9144000"/>
</p:presentation>
</file>

<file path=ppt/commentAuthors.xml><?xml version="1.0" encoding="utf-8"?>
<p:cmAuthorLst xmlns:p="http://schemas.openxmlformats.org/presentationml/2006/main">
  <p:cmAuthor id="1" name="Margot R" initials="MR" lastIdx="1" clrIdx="1"/>
  <p:cmAuthor id="0" name="Camilia Dunbar" initials="C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00-00-00T00:00:00.000000000" idx="1"><p:pos x="6000" y="0"/><p:text>Hey guys!! So i tried to finish up the sections i did which were 5,9, & 14 . Let me know if you think there is anything missing. And is there any handouts that we are going to print for the class ?</p:text></p:cm><p:cm authorId="1" dt="00-00-00T00:00:00.000000000" idx="1"><p:pos x="6000" y="100"/><p:text>The slides I made are just to help us organize who's doing what. Obviously add/combine them for your section!</p:text></p:cm>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ntion telome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idt-we feel disgust when we see a child being mis-treated, and we automatically interpret those actions as morally wr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8"/>
          <p:cNvSpPr/>
          <p:nvPr/>
        </p:nvSpPr>
        <p:spPr>
          <a:xfrm flipH="1" rot="10800000">
            <a:off x="0" y="2984400"/>
            <a:ext cx="9144000" cy="21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9"/>
          <p:cNvSpPr/>
          <p:nvPr/>
        </p:nvSpPr>
        <p:spPr>
          <a:xfrm>
            <a:off x="0" y="2394000"/>
            <a:ext cx="4618080" cy="58896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0"/>
          <p:cNvSpPr/>
          <p:nvPr/>
        </p:nvSpPr>
        <p:spPr>
          <a:xfrm flipH="1" rot="10800000">
            <a:off x="0" y="2984040"/>
            <a:ext cx="4618080" cy="56988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Wv9jrk-gXc" TargetMode="Externa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s0E69krO_Q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4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Developmental Psych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304452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182b"/>
                </a:solidFill>
                <a:latin typeface="Georgia"/>
              </a:rPr>
              <a:t>Unit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411480" indent="-37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rikson’s stages of psychosoci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olescence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ntity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s role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ntity-“sense of sel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&gt;consistent &amp; comfortable sense of who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ole confusion-no/unclear sense of 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&gt;confusing behavior: rebellious/defiant towards adults at times,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compliant/respectful at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cial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25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&gt;the “we” aspect of our identity; answers “Who am I?” in terms of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group memb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5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ci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113184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602280" indent="-42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past, adolescence ended shortly after sexual maturity, often celebrated with a “rite of pass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Independence occurs later today (especially in western cul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Delayed until after HS graduation, often until after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Research shows that college students will often change their initial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major, further delaying full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At the same time, sexual maturity is occurring soo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Puberty (as marked by menarche in women) is occurring several years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s led to a new phase of lif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emerging adulthoo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period between adolescence &amp; the full independence of 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ci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Adult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Shape 270" descr=""/>
          <p:cNvPicPr/>
          <p:nvPr/>
        </p:nvPicPr>
        <p:blipFill>
          <a:blip r:embed="rId1"/>
          <a:stretch/>
        </p:blipFill>
        <p:spPr>
          <a:xfrm>
            <a:off x="2027160" y="1201680"/>
            <a:ext cx="52722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123560"/>
            <a:ext cx="9220320" cy="4140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22222"/>
                </a:solidFill>
                <a:latin typeface="Georgia"/>
                <a:ea typeface="Georgia"/>
              </a:rPr>
              <a:t>Middl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Aging: gradual decline in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15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Females go through menopause</a:t>
            </a:r>
            <a:r>
              <a:rPr b="1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 </a:t>
            </a: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around age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natural end of menstr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Georgia"/>
                <a:ea typeface="Georgia"/>
              </a:rPr>
              <a:t>c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an take an emotional toll on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5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sperm count dec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spcBef>
                <a:spcPts val="476"/>
              </a:spcBef>
              <a:buClr>
                <a:srgbClr val="222222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testosterone level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spcBef>
                <a:spcPts val="476"/>
              </a:spcBef>
              <a:buClr>
                <a:srgbClr val="222222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ejaculation/erection frequency and speed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1123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22222"/>
                </a:solidFill>
                <a:latin typeface="Georgia"/>
                <a:ea typeface="Georgia"/>
              </a:rPr>
              <a:t>Lat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222222"/>
                </a:solidFill>
                <a:latin typeface="Georgia"/>
                <a:ea typeface="Georgia"/>
              </a:rPr>
              <a:t>&gt;L</a:t>
            </a: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ife expectancy is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&gt;Spirit and gender affects length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-Women live, on average, 5-10 years longer than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-Exercise helps extend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-Enhances bones &amp; muscles, helps prevent obesity &amp; 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heart disease &amp; stimulates brain cell development &amp; 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neur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-Chronic anger and depression increase our risk of ill health 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and premature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-108000" y="1047600"/>
            <a:ext cx="9252000" cy="36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7000"/>
          </a:bodyPr>
          <a:p>
            <a:pPr marL="397440" indent="-320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Immune system weakens and is more effective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&gt;more susceptible to fighting off life-threatening ailments, but (due to a 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lifetime accumulation of antibodies) suffer fewer short-term sicknesses 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like the flu/common c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-32040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brain neurons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&gt;memory areas dec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&gt;frontal lobes dec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-320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Sensory abilities dim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&gt;vision: pupil shrinks, lens becomes less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Georgia"/>
                <a:ea typeface="Georgia"/>
              </a:rPr>
              <a:t>&gt;senses of smell &amp; hearing also dim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1063440"/>
            <a:ext cx="9144000" cy="3943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marL="315360" indent="-140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Georgia"/>
              </a:rPr>
              <a:t>Deme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Georgia"/>
              </a:rPr>
              <a:t>     </a:t>
            </a:r>
            <a:r>
              <a:rPr b="0" lang="en-US" sz="2600" spc="-1" strike="noStrike">
                <a:solidFill>
                  <a:srgbClr val="222222"/>
                </a:solidFill>
                <a:latin typeface="Georgia"/>
              </a:rPr>
              <a:t>&gt;A series of smalls strokes, a brain tumor or alcohol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Georgia"/>
              </a:rPr>
              <a:t>     </a:t>
            </a:r>
            <a:r>
              <a:rPr b="0" lang="en-US" sz="2600" spc="-1" strike="noStrike">
                <a:solidFill>
                  <a:srgbClr val="222222"/>
                </a:solidFill>
                <a:latin typeface="Georgia"/>
              </a:rPr>
              <a:t>dependence can damage the brain &amp; cause mental </a:t>
            </a:r>
            <a:r>
              <a:rPr b="0" lang="en-US" sz="2400" spc="-1" strike="noStrike">
                <a:solidFill>
                  <a:srgbClr val="222222"/>
                </a:solidFill>
                <a:latin typeface="Georgia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222222"/>
                </a:solidFill>
                <a:latin typeface="Georgia"/>
              </a:rPr>
              <a:t>&gt;dementia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ain diseases that cause a long term &amp; ofte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dual decrease in the ability to think and remember th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ffects a person's daily functi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requires a change from a person's usual mental functioning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amp; a greater decline than one would expect due to 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Georgia"/>
              </a:rPr>
              <a:t>&gt;</a:t>
            </a:r>
            <a:r>
              <a:rPr b="0" lang="en-US" sz="1800" spc="-1" strike="noStrike" u="sng">
                <a:solidFill>
                  <a:srgbClr val="511e3e"/>
                </a:solidFill>
                <a:uFillTx/>
                <a:latin typeface="Georgia"/>
                <a:hlinkClick r:id="rId1"/>
              </a:rPr>
              <a:t>Alzheimer's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28600"/>
            <a:ext cx="9144000" cy="3926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Georgia"/>
                <a:ea typeface="Georgia"/>
              </a:rPr>
              <a:t>as age increases, some changes in our memory, and ability to recall information, is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&gt;Recalling names become increasingly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&gt;Recognition memory does not decline with age 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&gt;Meaningful material that is recalled better than 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eaningless mate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moti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128600"/>
            <a:ext cx="9144000" cy="3926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8000"/>
          </a:bodyPr>
          <a:p>
            <a:pPr marL="447840" indent="-33552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Georgia"/>
                <a:ea typeface="Georgia"/>
              </a:rPr>
              <a:t>Many presume that happiness declines later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&gt;The opposite is actually true, according to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Older adults more often use words that convey positive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Older adults experience less intense anger, stress &amp; wo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Brain scans of older adults show that the amygdala responds less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actively to negative events, and for shorter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**older adults tend to experience negative moods with less intensity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&amp; they don’t last as long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280" y="1199880"/>
            <a:ext cx="883944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xplain the pruning pro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riefly explain Haidt’s social intuitionist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at has led to the development of the “new life phase,” emerging adultho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3520" y="217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Adolescenc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Shape 183" descr=""/>
          <p:cNvPicPr/>
          <p:nvPr/>
        </p:nvPicPr>
        <p:blipFill>
          <a:blip r:embed="rId1"/>
          <a:stretch/>
        </p:blipFill>
        <p:spPr>
          <a:xfrm>
            <a:off x="2598840" y="1452600"/>
            <a:ext cx="3449520" cy="34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Georgia"/>
                <a:ea typeface="Georgia"/>
              </a:rPr>
              <a:t>The transition period from childhood to adulthood,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Georgia"/>
                <a:ea typeface="Georgia"/>
              </a:rPr>
              <a:t>extending from puberty to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&gt;Pub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eriod of sexual maturation, during which a person becomes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capable of reprodu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228600" y="932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063440"/>
            <a:ext cx="5315040" cy="3966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6000"/>
          </a:bodyPr>
          <a:p>
            <a:pPr marL="438840" indent="-328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rimary sex                              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body structures that make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sexual reproduction possible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&gt;include reproductive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organs &amp; external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gene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</a:t>
            </a: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Girls: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ovaries, vagina,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s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</a:t>
            </a: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Boys: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testes, penis,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204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228600" y="932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63440"/>
            <a:ext cx="5315040" cy="3966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condary sex    characteristics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                          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non-reproductive  sexual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</a:t>
            </a: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Girls: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breasts, wide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</a:t>
            </a:r>
            <a:r>
              <a:rPr b="1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Boys: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facial hair,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eepened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Shape 204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228600" y="932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063440"/>
            <a:ext cx="5315040" cy="3966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andmarks of Puberty: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Spermarche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First eja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usually by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Men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First menstrual period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usually within a year            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f 12 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Shape 204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-360" y="1199880"/>
            <a:ext cx="84582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44316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 teens mature, frontal lobes continue to grow &amp;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Improved ju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Impuls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Ability to plan for long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8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316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Frontal lobe maturation lags behind                                                 the emotional limb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Compul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Risky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Shape 211" descr=""/>
          <p:cNvPicPr/>
          <p:nvPr/>
        </p:nvPicPr>
        <p:blipFill>
          <a:blip r:embed="rId1"/>
          <a:stretch/>
        </p:blipFill>
        <p:spPr>
          <a:xfrm>
            <a:off x="5595840" y="2584440"/>
            <a:ext cx="3519720" cy="23414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-228600" y="932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a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Neural network/pathwa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uring infancy &amp; childhood, rapid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growth of neural networks/pathways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ental abilities surge as these                                                   networks/pathways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Experiences trigger a “pruning proc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Pathways used more often grow stronger; under-used pathways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aken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**use-it-or-lose-it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-lacking exposure to any language before adolescence, a person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will never master ANY language because the pathway will be pru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-228600" y="932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a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5638680" y="120024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9000"/>
          </a:bodyPr>
          <a:p>
            <a:pPr marL="406800" indent="-37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ing a sense of mo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338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iaget: cognitive stag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formal operational stage allows one to make abstract, moral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d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338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ohlberg: moral development stag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moral reasoning develops in stages; this reasoning guides our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ral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338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onathan Haidt: social intuitionis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quick &amp; automatic moral reasoning based on “gut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2000" spc="-1" strike="noStrike" u="sng">
                <a:solidFill>
                  <a:srgbClr val="511e3e"/>
                </a:solidFill>
                <a:uFillTx/>
                <a:latin typeface="Georgia"/>
                <a:hlinkClick r:id="rId1"/>
              </a:rPr>
              <a:t>moral paradox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nds support to this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dcterms:modified xsi:type="dcterms:W3CDTF">2016-02-08T11:40:33Z</dcterms:modified>
  <cp:revision>34</cp:revision>
  <dc:subject/>
  <dc:title>Developmental Psychology</dc:title>
</cp:coreProperties>
</file>