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7CBDF-FF7E-40C1-B6B4-242FFA110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6493F-6342-4628-80AB-30AF66173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6680" cy="34318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0BFE8-B3D7-4C91-A5B3-B8879BBE3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6680" cy="34318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77A99-5717-4EA0-8738-1807BD323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6680" cy="34318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view Question 2: What is the link between emotional arousal and the autonomic nervous syst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AD411-E018-4DF0-AC7F-7D0F145D6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6680" cy="34318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F3F99-75B0-4ED9-B414-F42E89A40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6680" cy="34318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view Question 3: Do different emotions activate different physiological and brain-pattern respons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27139-4ACF-4174-B286-CC3B6C0B8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6680" cy="34318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E72E1-B7C3-4CFA-9979-1755D24E9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6680" cy="34318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view Question 5: How do we communicate nonverbal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D75FC-21BE-4B8A-96B5-4F4F76CFF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6680" cy="34318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7A392-27E3-4FB7-BFF5-AD067EB45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6680" cy="34318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D185D-DB06-4B5F-86F8-55BBAA8DC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6680" cy="34318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view Question 11: What is stre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E1969-A9AA-4CB6-BD30-4CA5EAA0D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6680" cy="34318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24250-39B1-448D-B4E7-02D71B9DC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6680" cy="34318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33EC5-033B-4B23-B230-2D3A1486F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6680" cy="34318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389A-A479-414F-8EE6-4C55181EA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6680" cy="34318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E628E-9F86-45B4-8AEC-A092555C9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6680" cy="34318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view Question 13: Why are some of us more prone than others to coronary heart disea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B6028-D092-474A-9C6D-0CD0B2415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6680" cy="34318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58FC1-D69A-4F94-B0E6-F7B9CC8C1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6680" cy="34318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CDA63-04AF-4AAE-B637-C0DE4162F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6680" cy="34318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view Question 14: How does stress make us more vulnerable to disea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928C7-FAAC-4312-BA1A-8AF9656C9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6680" cy="34318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35110-877E-4223-B66A-2E62F3DE8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6680" cy="34318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A6659-8123-4EDE-B670-45946CC82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6680" cy="34318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16E97-5A67-4C04-B28F-DFDD043EB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6680" cy="34318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20D99-6441-408C-9308-F2668175D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6680" cy="34318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James-Lange Theory of Emotion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We feel emotion because of biological changes caused by stress.  The body changes and our mind recognizes the feel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3F443-4B18-49DD-928F-62E28D918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6680" cy="34318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nnon-Bard Theory: similar physiological changes correspond with drastically different emotional states, so the physiological change and cognitive awareness must occur simultaneous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7C065-7703-433E-ADDB-8205C1144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6680" cy="34318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4A8F-5924-41CC-8AB0-DEB88F8EB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6680" cy="34318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2E6C6-370C-42BA-947F-C483E14CC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6680" cy="34318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6E1A-594B-4D81-A5A4-A0D03E8B2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94D1-971E-4C7C-A1A1-7F2E9A4F6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FF00-18F9-4DC8-A60D-97611BEBF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FA84-B2EB-461C-A86A-A3963D8A5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0051-8B02-49F2-A633-7969288B7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62B5-27E9-443A-A193-FBBB847CF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62A3-65D4-457B-9517-159F1D1CC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4724-358F-4A9F-967D-4DC00E329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241B-39DF-4A85-8C9F-1203E1778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1601-EBD3-442D-A779-EEECC7D3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9802-FA10-4CD2-B55C-3AE63192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BEBF-9228-47D4-9577-186F4182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78771-9502-4E85-BBF6-6858F5A73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Psych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266760" y="1295280"/>
            <a:ext cx="861048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Emotions, Stress, &amp; Health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3580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&gt;Two Routes to Emotion: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peedy, low road &amp; the thinking, high road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&gt;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Zajonc and (Joseph) LeDoux emphasize that some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emotions are immediate, without conscious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ppraisal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&gt;(Richard)               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Lazarus,            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chachter, &amp;                  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inger emphasize               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at appraisal     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lso determines         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ome emotions.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12673_MyersPsy8e_fig"/>
          <p:cNvPicPr/>
          <p:nvPr/>
        </p:nvPicPr>
        <p:blipFill>
          <a:blip r:embed="rId1"/>
          <a:stretch/>
        </p:blipFill>
        <p:spPr>
          <a:xfrm>
            <a:off x="3809880" y="3124080"/>
            <a:ext cx="5334120" cy="373392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"/>
          <p:cNvSpPr/>
          <p:nvPr/>
        </p:nvSpPr>
        <p:spPr>
          <a:xfrm>
            <a:off x="0" y="10476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Palatino Linotype"/>
              </a:rPr>
              <a:t>Cognition </a:t>
            </a:r>
            <a:r>
              <a:rPr b="1" i="1" lang="en-US" sz="4200" spc="-1" strike="noStrike">
                <a:solidFill>
                  <a:srgbClr val="000099"/>
                </a:solidFill>
                <a:latin typeface="Palatino Linotype"/>
              </a:rPr>
              <a:t>Does Not </a:t>
            </a:r>
            <a:r>
              <a:rPr b="1" lang="en-US" sz="4200" spc="-1" strike="noStrike">
                <a:solidFill>
                  <a:srgbClr val="000099"/>
                </a:solidFill>
                <a:latin typeface="Palatino Linotype"/>
              </a:rPr>
              <a:t>Always Precede Emotion, </a:t>
            </a:r>
            <a:r>
              <a:rPr b="0" i="1" lang="en-US" sz="4200" spc="-1" strike="noStrike">
                <a:solidFill>
                  <a:srgbClr val="000099"/>
                </a:solidFill>
                <a:latin typeface="Palatino Linotype"/>
              </a:rPr>
              <a:t>cont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Palatino Linotype"/>
              </a:rPr>
              <a:t>Embodied Emo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240" y="761760"/>
            <a:ext cx="911376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All emotions involve bodily respo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ome responses are very noticea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butterflies in our stomach when fear ar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Others are more difficult to dis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neurons activated in the b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1219320" y="3800520"/>
            <a:ext cx="3057480" cy="3057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"/>
          <p:cNvPicPr/>
          <p:nvPr/>
        </p:nvPicPr>
        <p:blipFill>
          <a:blip r:embed="rId2"/>
          <a:stretch/>
        </p:blipFill>
        <p:spPr>
          <a:xfrm>
            <a:off x="4495680" y="3809880"/>
            <a:ext cx="35053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0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Palatino Linotype"/>
              </a:rPr>
              <a:t>Emotions and the Autonomic Nervous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-23760" y="60948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During an emotional experience, our autonomic nervous system mobilizes energy in the body that arouses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12673_MyersPsy8e_fig"/>
          <p:cNvPicPr/>
          <p:nvPr/>
        </p:nvPicPr>
        <p:blipFill>
          <a:blip r:embed="rId1"/>
          <a:stretch/>
        </p:blipFill>
        <p:spPr>
          <a:xfrm>
            <a:off x="-23760" y="2133720"/>
            <a:ext cx="91677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47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Palatino Linotype"/>
              </a:rPr>
              <a:t>Arousal and Performan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800" y="838080"/>
            <a:ext cx="913284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Arousal in short spurts can be adapt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We perform better under moderate arousal, but optimal performance varies with task difficul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Yerkes-Dodson La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figure-38-02"/>
          <p:cNvPicPr/>
          <p:nvPr/>
        </p:nvPicPr>
        <p:blipFill>
          <a:blip r:embed="rId1"/>
          <a:srcRect l="0" t="2914" r="1582" b="-325"/>
          <a:stretch/>
        </p:blipFill>
        <p:spPr>
          <a:xfrm>
            <a:off x="647640" y="2971800"/>
            <a:ext cx="777240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Palatino Linotype"/>
              </a:rPr>
              <a:t>Physiological Similarities of emo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Physiological responses related to the emotions of fear, anger, love, and boredom are very simi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12673_MyersPsy8e_13UN01"/>
          <p:cNvPicPr/>
          <p:nvPr/>
        </p:nvPicPr>
        <p:blipFill>
          <a:blip r:embed="rId1"/>
          <a:stretch/>
        </p:blipFill>
        <p:spPr>
          <a:xfrm>
            <a:off x="5087880" y="2395440"/>
            <a:ext cx="4035600" cy="28386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4810320" y="5267160"/>
            <a:ext cx="459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Excitement and fear involve a simi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physiological arous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Palatino Linotype"/>
              </a:rPr>
              <a:t>Physiological Differences in emo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360" y="1052280"/>
            <a:ext cx="9134640" cy="10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marL="185040" indent="-185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ome physical responses are different for different emo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1040" indent="-154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finger temperature and movement of facial muscles, change during fear, rage, and jo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1040" indent="-154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ctivity in the left frontal lobe when happy; in the right frontal lob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when depressed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1040" indent="-154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ctivity in the amygdala allows us to distinguish between anger and rag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1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1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14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Palatino Linotype"/>
              </a:rPr>
              <a:t>Expressed Emo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12356_HCD2e_12UN01"/>
          <p:cNvPicPr/>
          <p:nvPr/>
        </p:nvPicPr>
        <p:blipFill>
          <a:blip r:embed="rId1"/>
          <a:stretch/>
        </p:blipFill>
        <p:spPr>
          <a:xfrm>
            <a:off x="596880" y="3200400"/>
            <a:ext cx="3670200" cy="2627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12356_HCD2e_8UN05"/>
          <p:cNvPicPr/>
          <p:nvPr/>
        </p:nvPicPr>
        <p:blipFill>
          <a:blip r:embed="rId2"/>
          <a:stretch/>
        </p:blipFill>
        <p:spPr>
          <a:xfrm>
            <a:off x="4724280" y="3200400"/>
            <a:ext cx="3733920" cy="26496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5"/>
          <p:cNvSpPr/>
          <p:nvPr/>
        </p:nvSpPr>
        <p:spPr>
          <a:xfrm>
            <a:off x="0" y="762120"/>
            <a:ext cx="9144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83320" indent="-283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Emotions are expressed on the face, by the body, and by the intonation of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3320" indent="-283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Research shows that emotional expression is fairly constant, regardless of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Arial"/>
              </a:rPr>
              <a:t>Facial &amp; Behavior Feedback</a:t>
            </a:r>
            <a:br>
              <a:rPr sz="4000"/>
            </a:b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ial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induced to make a frowning expression reported feeling a little angry; those induced to smile felt happier and found cartoons funn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havior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ng our body as we would when experiencing some emotion, we are likely to feel that emotion to som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ressions amplify our emotions by activating muscles associated with specific states, and the muscles signal the body to respond as though we were experiencing those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75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Palatino Linotype"/>
              </a:rPr>
              <a:t>Biopsychosocial approach to emo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12673_MyersPsy8e_fig"/>
          <p:cNvPicPr/>
          <p:nvPr/>
        </p:nvPicPr>
        <p:blipFill>
          <a:blip r:embed="rId1"/>
          <a:stretch/>
        </p:blipFill>
        <p:spPr>
          <a:xfrm>
            <a:off x="655560" y="1614600"/>
            <a:ext cx="7981920" cy="52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IT TIC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the difference(s) between the James-Lange, Cannon-Bard, &amp; Two-factor theories of emo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&amp; explain the two brain’s 2 pathways (roads) for emo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what that facial feedback theory s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38280" y="26640"/>
            <a:ext cx="7772400" cy="94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Palatino Linotype"/>
              </a:rPr>
              <a:t>Emo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240" y="841320"/>
            <a:ext cx="9131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Emotions are our body’s adaptive response of the whole org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05080" indent="-19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nvolve physiological arousal, expressive behaviors, and conscious experi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12356_HCD2e_3UN01"/>
          <p:cNvPicPr/>
          <p:nvPr/>
        </p:nvPicPr>
        <p:blipFill>
          <a:blip r:embed="rId1"/>
          <a:stretch/>
        </p:blipFill>
        <p:spPr>
          <a:xfrm>
            <a:off x="2209680" y="3305160"/>
            <a:ext cx="484056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714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Palatino Linotype"/>
              </a:rPr>
              <a:t>Stress and Health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807840"/>
            <a:ext cx="91440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Psychological states can cause physical ill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tress is any circumstance (real or perceived) that threatens a person’s well-be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MyersPsy8e_14UN02"/>
          <p:cNvPicPr/>
          <p:nvPr/>
        </p:nvPicPr>
        <p:blipFill>
          <a:blip r:embed="rId1"/>
          <a:stretch/>
        </p:blipFill>
        <p:spPr>
          <a:xfrm>
            <a:off x="2554200" y="2857680"/>
            <a:ext cx="4035600" cy="28875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5"/>
          <p:cNvSpPr/>
          <p:nvPr/>
        </p:nvSpPr>
        <p:spPr>
          <a:xfrm>
            <a:off x="514440" y="5776920"/>
            <a:ext cx="807696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 rot="5400000">
            <a:off x="6125040" y="5076000"/>
            <a:ext cx="109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ee Stone/ Corb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Palatino Linotype"/>
              </a:rPr>
              <a:t>Stress and Stressor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tress is a process by which we appraise and cope with environmental threats and 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tressors are what causes a person to experience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199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If short-lived or taken as a challenge, stressors may have positive effects. However, if stress is threatening or prolonged, it can be harmfu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Stressor"/>
          <p:cNvPicPr/>
          <p:nvPr/>
        </p:nvPicPr>
        <p:blipFill>
          <a:blip r:embed="rId1"/>
          <a:srcRect l="0" t="0" r="1015" b="-4269"/>
          <a:stretch/>
        </p:blipFill>
        <p:spPr>
          <a:xfrm>
            <a:off x="0" y="3151080"/>
            <a:ext cx="9144000" cy="401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Palatino Linotype"/>
              </a:rPr>
              <a:t>Types of Stressor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9000"/>
          </a:bodyPr>
          <a:p>
            <a:pPr marL="99360" indent="-99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ree main types of stress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15280" indent="-8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Catastrop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31200" indent="-662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Unpredictable, large-scale ev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31200" indent="-662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Almost universally regarded as threate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31200" indent="-662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Damage to emotional &amp; physical health can be significa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215280" indent="-8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ignificant life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31200" indent="-662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Can be positive or nega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31200" indent="-662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Negative crises (especially if they are clustered together) can lead to health iss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215280" indent="-8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Daily hass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31200" indent="-662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Relatively insignificant, individual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31200" indent="-662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Prolonged stress can have physical &amp; physiological conseque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Palatino Linotype"/>
              </a:rPr>
              <a:t>The Stress Response System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MyersPsy8e_fig"/>
          <p:cNvPicPr/>
          <p:nvPr/>
        </p:nvPicPr>
        <p:blipFill>
          <a:blip r:embed="rId1"/>
          <a:stretch/>
        </p:blipFill>
        <p:spPr>
          <a:xfrm>
            <a:off x="4746600" y="871560"/>
            <a:ext cx="4397400" cy="598644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4"/>
          <p:cNvSpPr/>
          <p:nvPr/>
        </p:nvSpPr>
        <p:spPr>
          <a:xfrm>
            <a:off x="0" y="838080"/>
            <a:ext cx="46483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8440" indent="-38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Our initial stress response is a fight-or-flight respon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19880" indent="-38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epinephrine and norepinephrine from the  inner adrenal gland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19880" indent="-38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ncreasing heart and respiration rat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19880" indent="-38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ugar and fat mobi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19880" indent="-38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natural pain killers rele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714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Palatino Linotype"/>
              </a:rPr>
              <a:t>General Adaptation Syndrom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0" y="838080"/>
            <a:ext cx="91440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ccording to Hans Selye, a stress response to any kind of stimulation is similar. The stressed individual goes through three ph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Al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Exhau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MyersPsy8e_fig"/>
          <p:cNvPicPr/>
          <p:nvPr/>
        </p:nvPicPr>
        <p:blipFill>
          <a:blip r:embed="rId1"/>
          <a:stretch/>
        </p:blipFill>
        <p:spPr>
          <a:xfrm>
            <a:off x="-4343400" y="3300480"/>
            <a:ext cx="13487400" cy="35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14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Palatino Linotype"/>
              </a:rPr>
              <a:t>Stress and the Hear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-12960" y="990360"/>
            <a:ext cx="9156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tress that leads to prolonged elevated blood pressure may result in coronary heart disease, a clogging of the vessels that nourish the heart mus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coratmic"/>
          <p:cNvPicPr/>
          <p:nvPr/>
        </p:nvPicPr>
        <p:blipFill>
          <a:blip r:embed="rId1"/>
          <a:stretch/>
        </p:blipFill>
        <p:spPr>
          <a:xfrm>
            <a:off x="2514600" y="3843360"/>
            <a:ext cx="4272120" cy="29145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238680" y="5300640"/>
            <a:ext cx="210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Plaque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coronary art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6"/>
          <p:cNvSpPr/>
          <p:nvPr/>
        </p:nvSpPr>
        <p:spPr>
          <a:xfrm>
            <a:off x="2000160" y="5638680"/>
            <a:ext cx="1371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7291800" y="4800600"/>
            <a:ext cx="109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Art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clog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8"/>
          <p:cNvSpPr/>
          <p:nvPr/>
        </p:nvSpPr>
        <p:spPr>
          <a:xfrm flipH="1">
            <a:off x="6095880" y="51055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71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Palatino Linotype"/>
              </a:rPr>
              <a:t>Personality Typ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marL="185040" indent="-185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ype A is a term used for competitive, hard-driving, impatient, verbally aggressive, and anger-prone peo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ype B refers to easygoing, relaxed peo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1040" indent="-154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Type A personalities are more likely to develop coronary heart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1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Palatino Linotype"/>
              </a:rPr>
              <a:t>Pessimism and Heart Diseas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Research shows that pessimistic adult men are twice as likely to develop heart disease over a 10-year peri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MyersPsy8e_fig"/>
          <p:cNvPicPr/>
          <p:nvPr/>
        </p:nvPicPr>
        <p:blipFill>
          <a:blip r:embed="rId1"/>
          <a:stretch/>
        </p:blipFill>
        <p:spPr>
          <a:xfrm>
            <a:off x="623880" y="2590920"/>
            <a:ext cx="791064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Palatino Linotype"/>
              </a:rPr>
              <a:t>Stress &amp; Susceptibility to Diseas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Psychophysiological ill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ny stress-related physical ill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hypertens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some headach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Psychoneuroimmunology (PNI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 developing field in which the health effects of psychological, neural, and endocrine processes on the immune system are stud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Psycho-thoughts/feel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Neuro-the b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Immune-disease figh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Ology-study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9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Palatino Linotype"/>
              </a:rPr>
              <a:t>Psychoneuroimmunolog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-174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Immune system uses 4 types of cells to fight off disea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78720" indent="-145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B lymphocytes fight bacterial inf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78720" indent="-145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 lymphocytes attack cancer cells and vir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78720" indent="-145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Macrophages ingest foreign substances &amp; worn-out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78720" indent="-145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NK (natural killer) cells-pursue diseased cells (such as those infected by viruses, cancer,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During stress, energy is mobilized away from the immune system making it vulne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78720" indent="-145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rolonged stress, therefore, can make individuals more susceptible to disease, both major &amp; min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Expression of Emotions is Adap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8584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rwin speculated that our ancestors communicated with facial expressions in the absence of language.  Nonverbal facial expressions led to our ancestors surviv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prise widens our eyes, enabling us to take in mor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gust wrinkles the nose, closing it to foul odor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36367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714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Palatino Linotype"/>
              </a:rPr>
              <a:t>Stress and Col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People with the highest life stress scores were also the most vulnerable when exposed to an experimental cold vi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MyersPsy8e_fig"/>
          <p:cNvPicPr/>
          <p:nvPr/>
        </p:nvPicPr>
        <p:blipFill>
          <a:blip r:embed="rId1"/>
          <a:stretch/>
        </p:blipFill>
        <p:spPr>
          <a:xfrm>
            <a:off x="671400" y="2525760"/>
            <a:ext cx="7558200" cy="433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6477120" y="281952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Palatino Linotype"/>
              </a:rPr>
              <a:t>Behavioral Medici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0" y="1371600"/>
            <a:ext cx="91440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Interdisciplinary field that integrates behavioral knowledge with medical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Mind and body interact; everything psychological is simultaneously physiologic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IT TIC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3 main categories of stress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AND explain the role of the 4 types of cells our immune system uses to fight dis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role does stress play on those cells (from #2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0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Palatino Linotype"/>
              </a:rPr>
              <a:t>Commonsense view of emo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rst comes conscious awareness, then comes physiological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When you become happy, your heart starts beating fa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12356_HCD2e_3UN08"/>
          <p:cNvPicPr/>
          <p:nvPr/>
        </p:nvPicPr>
        <p:blipFill>
          <a:blip r:embed="rId1"/>
          <a:stretch/>
        </p:blipFill>
        <p:spPr>
          <a:xfrm>
            <a:off x="1752480" y="3075120"/>
            <a:ext cx="5639040" cy="37605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 rot="5400000">
            <a:off x="6196680" y="5819040"/>
            <a:ext cx="80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Bob Sac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1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Palatino Linotype"/>
              </a:rPr>
              <a:t>James-Lange Theor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360" y="1158840"/>
            <a:ext cx="5715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William James &amp; Carl Lan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proposed that the physiological activity precedes the emotional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We become aware of our physiological response, THEN we experience the  e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figure-37-01-1"/>
          <p:cNvPicPr/>
          <p:nvPr/>
        </p:nvPicPr>
        <p:blipFill>
          <a:blip r:embed="rId1"/>
          <a:stretch/>
        </p:blipFill>
        <p:spPr>
          <a:xfrm>
            <a:off x="4952880" y="1720800"/>
            <a:ext cx="4191120" cy="492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Palatino Linotype"/>
              </a:rPr>
              <a:t>Cannon-Bard Theor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480" y="1050480"/>
            <a:ext cx="6080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Walter Cannon &amp; Phillip B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proposed that an emotion-triggering stimulus and the body's arousal take place simultaneous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Neither the physiological response NOR the emotion cause (or are caused by) the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figure-37-01-2"/>
          <p:cNvPicPr/>
          <p:nvPr/>
        </p:nvPicPr>
        <p:blipFill>
          <a:blip r:embed="rId1"/>
          <a:stretch/>
        </p:blipFill>
        <p:spPr>
          <a:xfrm>
            <a:off x="5353200" y="2268360"/>
            <a:ext cx="37908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71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Palatino Linotype"/>
              </a:rPr>
              <a:t>Two-Factor Theor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6934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tanley Schachter &amp; Jerome Si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proposed that our                                                      physiology &amp; cognition                create emo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Emotions have two                           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hysical arou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cognitive apprai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hysiological response to,                          &amp; our cognitive analysis                      of, the stimulus causes                             the e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figure-37-01-3"/>
          <p:cNvPicPr/>
          <p:nvPr/>
        </p:nvPicPr>
        <p:blipFill>
          <a:blip r:embed="rId1"/>
          <a:stretch/>
        </p:blipFill>
        <p:spPr>
          <a:xfrm>
            <a:off x="4944960" y="1630440"/>
            <a:ext cx="4199040" cy="522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714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Palatino Linotype"/>
              </a:rPr>
              <a:t>The Spillover Effec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6904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3000"/>
          </a:bodyPr>
          <a:p>
            <a:pPr marL="181800" indent="-181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Our cognitive appraisal of our physiological response to stimuli can impact the emotion(s) we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A physiological response to one event spills over into our response to the next ev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42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12673_MyersPsy8e_13UN03a"/>
          <p:cNvPicPr/>
          <p:nvPr/>
        </p:nvPicPr>
        <p:blipFill>
          <a:blip r:embed="rId1"/>
          <a:stretch/>
        </p:blipFill>
        <p:spPr>
          <a:xfrm>
            <a:off x="444600" y="3943440"/>
            <a:ext cx="3630600" cy="25146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-592200" y="6392880"/>
            <a:ext cx="10328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2743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Palatino Linotype"/>
              </a:rPr>
              <a:t>Arousal from a soccer match can fuel anger, which may lead to riot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12673_MyersPsy8e_13UN03b"/>
          <p:cNvPicPr/>
          <p:nvPr/>
        </p:nvPicPr>
        <p:blipFill>
          <a:blip r:embed="rId2"/>
          <a:stretch/>
        </p:blipFill>
        <p:spPr>
          <a:xfrm>
            <a:off x="4809960" y="3909960"/>
            <a:ext cx="3268800" cy="25146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7"/>
          <p:cNvSpPr/>
          <p:nvPr/>
        </p:nvSpPr>
        <p:spPr>
          <a:xfrm rot="5400000">
            <a:off x="3717000" y="4358880"/>
            <a:ext cx="134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P Photo/ Nati Harni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 rot="5400000">
            <a:off x="7543080" y="4572720"/>
            <a:ext cx="10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uters/ Corbi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Palatino Linotype"/>
              </a:rPr>
              <a:t>Cognition </a:t>
            </a:r>
            <a:r>
              <a:rPr b="1" i="1" lang="en-US" sz="4200" spc="-1" strike="noStrike">
                <a:solidFill>
                  <a:srgbClr val="000099"/>
                </a:solidFill>
                <a:latin typeface="Palatino Linotype"/>
              </a:rPr>
              <a:t>Does Not </a:t>
            </a:r>
            <a:r>
              <a:rPr b="1" lang="en-US" sz="4200" spc="-1" strike="noStrike">
                <a:solidFill>
                  <a:srgbClr val="000099"/>
                </a:solidFill>
                <a:latin typeface="Palatino Linotype"/>
              </a:rPr>
              <a:t>Always Precede Emo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12212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Robert Zajonc suggested that we experience emotions separate from (even before) our cognitive interpretation of a stimu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-25560" y="6446880"/>
            <a:ext cx="939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Emotions are felt directly through the amygdala (a) or through the cortex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b)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 for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Myers9e_fig_12_06"/>
          <p:cNvPicPr/>
          <p:nvPr/>
        </p:nvPicPr>
        <p:blipFill>
          <a:blip r:embed="rId1"/>
          <a:stretch/>
        </p:blipFill>
        <p:spPr>
          <a:xfrm>
            <a:off x="0" y="2701800"/>
            <a:ext cx="6427800" cy="37753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6629400" y="3048120"/>
            <a:ext cx="22096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amygdala sends more neural projections up to the cortex than it receives back, leading our feelings to often hijack our thi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3T23:42:41Z</dcterms:created>
  <dc:creator>Drew</dc:creator>
  <dc:description/>
  <dc:language>en-US</dc:language>
  <cp:lastModifiedBy>Debes John</cp:lastModifiedBy>
  <dcterms:modified xsi:type="dcterms:W3CDTF">2016-01-25T16:39:48Z</dcterms:modified>
  <cp:revision>22</cp:revision>
  <dc:subject/>
  <dc:title>Slide 1</dc:title>
</cp:coreProperties>
</file>