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BAC-2990-4E97-9D60-19ED4EA05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phobia-dislike of unfamiliar things; adaptive taste preferences: societies where milk production is typical shows survival patterns favor those with lactose tolerance &amp; hot climates like India use more spices in foods (spices inhibit the growth of bacte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al influences: we tend to eat more at parties, social gatherings, etc.  We also see food in terms of units; a sandwich is a sandwich, even if 1 is a small sandwich on 2 regular slices of bread, and one is an 18” hoagie.  When presented with a variety of food (buffet), we eat more-adaptive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C66C-7942-4411-A893-FEE4C2273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7B81-B783-4666-93D3-E155C2319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t majority of those who suffer from anorexia nervosa ar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daughter control issues-girls who feel they need to be perfect (for their mothers, typically, although it can be a father-daughter relationship) and that they have failed, use food a coping mechanism to deal with the sadness over the “failur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88D-1FFF-427B-8112-CDDFFADEB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FEE6-9471-40E1-9B43-AA4951ED0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ed to know if hunger pangs were the source of hunger; he swallowed a balloon that measured stomach contractions AND he pressed a key each time he felt hung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0550-0289-48D9-A51F-621521C6C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believe stomach pangs are a sign of hunger, not it’s cause, but some still maintain that stomach pangs are ONE CAUSE of hun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6534-479C-40CB-A42F-A690E95BF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s say set point theory is too rigid; slow sustained changes can “re-set” the set point; since we have access to a wide variety of tasty foods, we tend to overeat; finally, it doesn’t account for psychological factors for eating (or over/undereating)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06D6-5201-4918-B06F-7B0A1CAA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A79-FD6F-436E-9C0B-C31A8BA0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3F9-CC8F-4568-8FB3-CFB9655F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058-831F-4ED5-A97E-EB3A4C7B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BDE-5D1C-43DC-9428-33538355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4372-B5FE-42E6-8728-890DFC95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52FE-322C-4565-82BC-C6AF15BC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BF86-10A1-42B4-961D-ACD166EB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7347-FA3D-47AD-AB7C-5ABE4B9B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76CE-7877-4348-AEA3-3C1C1295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E392-8F7F-4EE4-BCDD-A260F8C4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D2DA-B446-45A4-AE07-EFE0535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F15-E15B-4F28-8740-859D6D0A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8F42-336F-492E-9882-BF19FD51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8A0A-77E4-47DB-B414-350A4737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A84C-4BFB-459B-BD6A-5A47A254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C365-3609-4CCF-8F8D-64C28311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0D11-7073-484F-BD58-39A3B353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E17-A9DC-4ACA-9302-8B380EF5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5C9-F25A-4D6C-BE53-CD3D639A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17D-D89C-43A2-8CB4-A824E6A6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8CF-6DA2-45CB-B768-E0BB6241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9C0-1161-4688-9315-F25DAAC6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72C-3B88-4840-9607-2DBB180B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70C-9063-445E-AC71-67782C2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45a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88FA-DAFC-43E4-83CA-FC26E4306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45a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5A4-3CF3-4219-891B-B4707C931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WdhdjXBSKk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unger Motiv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7200" y="1523880"/>
            <a:ext cx="7654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Hun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727200" y="1143000"/>
            <a:ext cx="7654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052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Hung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te Preferences: Biology and Cul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85680" y="1371600"/>
            <a:ext cx="9067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ste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y sweet and/or salty carbs boost serotonin levels-calming                                                  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aptive taste                                                        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ituational influences on e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eat in soci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od va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KKorek\Documents\ABCFiles\2013 Myers AP 2e\Images\ImageJPGs_Module38\ImageJPGs_Module38\MyAP2e_38UN03.jpg"/>
          <p:cNvPicPr/>
          <p:nvPr/>
        </p:nvPicPr>
        <p:blipFill>
          <a:blip r:embed="rId1"/>
          <a:stretch/>
        </p:blipFill>
        <p:spPr>
          <a:xfrm>
            <a:off x="3505320" y="2362320"/>
            <a:ext cx="5410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7999-1D39-4A41-A0F3-85E3065A6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370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orexia Nervo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tarvation, low body weight, frequent exercise, usually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limia Nervo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eating                                           binges, followed by vomiting                                                                         or lax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heories state social                                                          influences (media, peers,                                                                           sexual abus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heories state low levels                                                      of serotonin =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tle 4"/>
          <p:cNvSpPr/>
          <p:nvPr/>
        </p:nvSpPr>
        <p:spPr>
          <a:xfrm>
            <a:off x="9360" y="-763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Hunger: Eating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bad-mirr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43828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 Causes of Bulimia and Anorex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men dissatisfied with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orted view of themsel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orted message from me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orted body images-celebrities/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DC440F12-06_women_compared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913280" y="830160"/>
            <a:ext cx="46483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ect daughter contro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me, guilt, self contempt, 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eatment of Eating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dical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havioral Couns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f monitoring of food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inction training (to end the learned behavior) must learn new behavior, instead of trying to “ignore” the stimulus that brought on the old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nge the thinking patterns &amp; belief system about weight and body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ually people need outside support and urging from 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you been effected recently by environmental hunger fact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r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 time where you ate when you were clearly not hungry. What was your motiv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177-11F6-4ECF-A34B-8484421CC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24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xual Motiv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71400" y="1523880"/>
            <a:ext cx="7863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24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xual Motivation</a:t>
            </a:r>
            <a:br>
              <a:rPr sz="4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71400" y="1523880"/>
            <a:ext cx="7863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Sexual Response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xual respons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ur stages of sexual responding described by Masters and John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ite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lutio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racto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sting period after orgasm, during which a man cannot achieve another org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xual Dysfunctions and Paraphil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ontent Placeholder 2"/>
          <p:cNvSpPr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xual Dys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lem that consistently impairs sexual arousal OR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rectile dis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mature ejac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emale orgasmic dis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aphili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perience of intense sexual arousal to atypical objects, situations, or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hibitionism, fetishism, pedophilia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unger Motiva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27200" y="1325520"/>
            <a:ext cx="76546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8440" y="-2210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Sex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rmones and Sexual Behavi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-11160" y="1143000"/>
            <a:ext cx="912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x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sexual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vate sexual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x hormones (secreted in greater amount by females than males) contributing to female sex characterist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most important of the male sex hormon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oth males and females have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dditional testosterone in males stimulates the growth of the male sex organs in the fetus and the development of the male sex characteristics during pub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71400" y="1219320"/>
            <a:ext cx="78631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ternal stimu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agined stimu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xual fantas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KKorek\Documents\ABCFiles\2013 Myers AP 2e\Images\Total Images\MyAP2e_39UN04.jpg"/>
          <p:cNvPicPr/>
          <p:nvPr/>
        </p:nvPicPr>
        <p:blipFill>
          <a:blip r:embed="rId1"/>
          <a:stretch/>
        </p:blipFill>
        <p:spPr>
          <a:xfrm>
            <a:off x="4876920" y="19810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6133-DC98-4080-93FF-83B7AC0C4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sychology of Sex: Rep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30240" y="2332080"/>
            <a:ext cx="332244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5380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earch shows a difference between genders on choosing a partner for reprodu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352680" y="2025720"/>
            <a:ext cx="5791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em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Optimize reproductive success by being very selective in their m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interested in mating with an individual that can provide adequate resources for a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Optimize reproductive success by mating with many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k young, healthy, and fertile 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&amp; briefly describe the four stages of the sexual respons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e sex hormones estrogen &amp; testosterone are different in males &amp; fem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F9A9-1CC9-4009-9078-3FCB412C9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tractions of the stom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shburn study-confirmed stomach contractions coincided with hu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yAP1e_fig_8a_03.jpg"/>
          <p:cNvPicPr/>
          <p:nvPr/>
        </p:nvPicPr>
        <p:blipFill>
          <a:blip r:embed="rId1"/>
          <a:stretch/>
        </p:blipFill>
        <p:spPr>
          <a:xfrm>
            <a:off x="1066680" y="3048120"/>
            <a:ext cx="70106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usation or corre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s who had their stomachs removed continued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cer patients who                                               have had their                                                           stomachs removed                                                  also continue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nger is not                                              not caused by stomach                                         pa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least, not exclu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usercontent1.hubimg.com/2838230_f520.jpg"/>
          <p:cNvPicPr/>
          <p:nvPr/>
        </p:nvPicPr>
        <p:blipFill>
          <a:blip r:embed="rId1"/>
          <a:stretch/>
        </p:blipFill>
        <p:spPr>
          <a:xfrm>
            <a:off x="4191120" y="2209680"/>
            <a:ext cx="4952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840" y="1211400"/>
            <a:ext cx="91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unger does NOT                                   come from our                                        stoma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omes from our                                        b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ypothala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le 4"/>
          <p:cNvSpPr/>
          <p:nvPr/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KKorek\Documents\ABCFiles\2013 Myers AP 2e\Images\ImageJPGs_Module38\ImageJPGs_Module38\MyAP2e_fig_38_02.jpg"/>
          <p:cNvPicPr/>
          <p:nvPr/>
        </p:nvPicPr>
        <p:blipFill>
          <a:blip r:embed="rId1"/>
          <a:stretch/>
        </p:blipFill>
        <p:spPr>
          <a:xfrm>
            <a:off x="4800600" y="1371600"/>
            <a:ext cx="46116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3754080"/>
            <a:ext cx="3886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teral Hypothala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9800" y="4394160"/>
            <a:ext cx="41306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stimulated it makes you hung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lesioned, you will never be hungry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23000" y="3754080"/>
            <a:ext cx="3870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ntromedial Hypothala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05520" y="4381560"/>
            <a:ext cx="35049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stimulated you feel fu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lesioned you will never feel full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arbl.cvmbs.colostate.edu/hbooks/pathphys/digestion/pregastric/hypocenters.gif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2941920"/>
          </a:xfrm>
          <a:prstGeom prst="rect">
            <a:avLst/>
          </a:prstGeom>
          <a:ln w="0">
            <a:noFill/>
          </a:ln>
        </p:spPr>
      </p:pic>
      <p:sp>
        <p:nvSpPr>
          <p:cNvPr id="107" name="Title 4"/>
          <p:cNvSpPr/>
          <p:nvPr/>
        </p:nvSpPr>
        <p:spPr>
          <a:xfrm>
            <a:off x="0" y="-5335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: Hypothalam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2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: Appetite Hormon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-20520" y="914400"/>
            <a:ext cx="9185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ypothalamus monitors/responds to levels of  appetite hormones i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sul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secreted by pancreas;                                                      controls blood gluco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hrel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secreted by empty                               stomach; signals brain “I’m                                 hungr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ex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secreted by                                  hypothalamus; triggers hun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Y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digestive tract hormone;                                 signals brain “I’m not hungr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pt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secreted by fat cells; causes brain to increase metabolism &amp; decrease hun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657600" cy="4496040"/>
          </a:xfrm>
          <a:prstGeom prst="rect">
            <a:avLst/>
          </a:prstGeom>
          <a:ln w="0">
            <a:noFill/>
          </a:ln>
        </p:spPr>
      </p:pic>
      <p:sp>
        <p:nvSpPr>
          <p:cNvPr id="111" name="Straight Connector 2"/>
          <p:cNvSpPr/>
          <p:nvPr/>
        </p:nvSpPr>
        <p:spPr>
          <a:xfrm>
            <a:off x="8077320" y="4419720"/>
            <a:ext cx="325440" cy="0"/>
          </a:xfrm>
          <a:prstGeom prst="line">
            <a:avLst/>
          </a:prstGeom>
          <a:ln cap="rnd" w="27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le 4"/>
          <p:cNvSpPr/>
          <p:nvPr/>
        </p:nvSpPr>
        <p:spPr>
          <a:xfrm>
            <a:off x="0" y="-2286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ody Chemis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38160" y="1219320"/>
            <a:ext cx="9067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rm of sugar that circulates in th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the major source of energy for body tissu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its level is low, we feel hungry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gly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its level is too high, we can experience increased fatigue &amp; have difficulty concentrating (among other iss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glycemia (diabe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the result of our pancreas not metabolizing carbohyd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hysiology of Hung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dy Chemistry and the Br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poi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thalamus acts as a “thermostat” for body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“weight thermostat” is supposedly pre-set at a specific weigh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ventromedial hypothalamus is activated when you rise over this set point-your brain tells your body you don’t need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lateral hypothalamus is activated when you drop below this set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crease in hunger and a lowered basal metabolic rate may act to restore the lost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1-24T19:02:16Z</dcterms:modified>
  <cp:revision>267</cp:revision>
  <dc:subject/>
  <dc:title>Slide 1</dc:title>
</cp:coreProperties>
</file>