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16F-D5F2-46E4-AE8A-31D54CA0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phobia-dislike of unfamiliar things; adaptive taste preferences: societies where milk production is typical shows survival patterns favor those with lactose tolerance &amp; hot climates like India use more spices in foods (spices inhibit the growth of bacte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al influences: we tend to eat more at parties, social gatherings, etc.  We also see food in terms of units; a sandwich is a sandwich, even if 1 is a small sandwich on 2 regular slices of bread, and one is an 18” hoagie.  When presented with a variety of food (buffet), we eat more-adaptive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15C-6C3F-4078-BC0D-68D9E5CB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C70-615B-4636-822D-A9554D2C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t majority of those who suffer from anorexia nervosa ar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daughter control issues-girls who feel they need to be perfect (for their mothers, typically, although it can be a father-daughter relationship) and that they have failed, use food a coping mechanism to deal with the sadness over the “failur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489-86BC-49E3-BF16-7510A90E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546-8189-4078-9C84-883A63DC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ed to know if hunger pangs were the source of hunger; he swallowed a balloon that measured stomach contractions AND he pressed a key each time he felt hung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E175-99E5-4983-B36F-725A7CEB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believe stomach pangs are a sign of hunger, not it’s cause, but some still maintain that stomach pangs are ONE CAUSE of hu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4B1-4127-4836-9FF4-3C0D31C8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s say set point theory is too rigid; slow sustained changes can “re-set” the set point; since we have access to a wide variety of tasty foods, we tend to overeat; finally, it doesn’t account for psychological factors for eating (or over/undereating)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7A99-E3B9-491A-A8D9-EFCC9E66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90C-9433-462F-80CC-BDBA7269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576-8EBE-4A5F-A4F0-784B62DB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7F4-5CC3-4A45-8B07-DF036F12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959-E78F-490B-83B6-9A198B16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763B-1C0E-4A36-983B-D9F5BB5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F61C-A257-4580-9C52-D81388E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00B8-2121-4F05-90EE-898D90D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C24-A1BA-409B-8473-6893077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8804-C2AA-4833-B58C-5C9F0889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C962-4DA7-4E31-BB69-DCBF033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E7BB-EB30-42B2-88A8-43F318E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B84-EA3D-4DC5-A936-0FE50BA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301-65D7-44D7-B7C2-1853476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CD6B-731C-4F14-A4E0-408B563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CB50-EA51-4CA5-9567-D7A1DE1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53D-1557-4E46-8DB1-8FD39BC6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623-6B68-4DB5-BD56-7D0CD29A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17A-BF6A-49CF-B792-8C1765B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60B-70B9-44FA-9CAF-E9B6F377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51C-DDC5-41DE-8875-9AEF451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F22-1BF1-4C80-847A-F9C7D01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284-40BB-441E-8420-8316D15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C7C-CC84-4941-8C50-8E8F2AF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F3F-673E-47FA-A05E-16223A5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DF5-2FA3-4D3D-9D22-9CE100649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EBC-1A68-4BBA-BF0F-557F7478D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WdhdjXBSKk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152388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27200" y="114300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052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: Biology and Cul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85680" y="137160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sweet and/or salty carbs boost serotonin levels-calming      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aptive taste                                                        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tuational influences on 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eat in soci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od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KKorek\Documents\ABCFiles\2013 Myers AP 2e\Images\ImageJPGs_Module38\ImageJPGs_Module38\MyAP2e_38UN03.jpg"/>
          <p:cNvPicPr/>
          <p:nvPr/>
        </p:nvPicPr>
        <p:blipFill>
          <a:blip r:embed="rId1"/>
          <a:stretch/>
        </p:blipFill>
        <p:spPr>
          <a:xfrm>
            <a:off x="3505320" y="2362320"/>
            <a:ext cx="5410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37D-D1B3-4B41-866E-5924ACEFE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orex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tarvation, low body weight, frequent exercise, usually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lim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ating                                           binges, followed by vomiting                                                                         or lax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social                                                          influences (media, peers,                                                                           sexual abus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low levels                                                      of serotonin =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tle 4"/>
          <p:cNvSpPr/>
          <p:nvPr/>
        </p:nvSpPr>
        <p:spPr>
          <a:xfrm>
            <a:off x="9360" y="-763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: Eating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bad-mirr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4382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Causes of Bulimia and Anorex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men dissatisfied with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view of themsel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message from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body images-celebrities/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DC440F12-06_women_compared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913280" y="830160"/>
            <a:ext cx="4648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ect daughter contro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me, guilt, self contempt,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atment of Eating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cal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havioral Couns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 monitoring of food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training (to end the learned behavior) must learn new behavior, instead of trying to “ignore” the stimulus that brought on the old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e the thinking patterns &amp; belief system about weight and body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ually people need outside support and urging from 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you been effected recently by environmental hunger fact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 time where you ate when you were clearly not hungry. What was your moti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372-3734-4D24-A3C7-0681FD4CF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exual Respons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respon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ur stages of sexual responding described by Masters and John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ite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u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sting period after orgasm, during which a man cannot achieve another org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 and Paraphil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 that consistently impairs sexual arousal OR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rectile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mature eja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male orgasmic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phil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rience of intense sexual arousal to atypical objects, situations, 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hibitionism, fetishism, pedophili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27200" y="1325520"/>
            <a:ext cx="7654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8440" y="-2210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rmones and Sexual Behavi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-11160" y="1143000"/>
            <a:ext cx="912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ex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e sexual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x hormones (secreted in greater amount by females than males) contributing to female sex characterist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of the male sex hormon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th males and females have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dditional testosterone in males stimulates the growth of the male sex organs in the fetus and the development of the male sex characteristics during pub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71400" y="1219320"/>
            <a:ext cx="7863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ternal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ed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fantas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39UN04.jpg"/>
          <p:cNvPicPr/>
          <p:nvPr/>
        </p:nvPicPr>
        <p:blipFill>
          <a:blip r:embed="rId1"/>
          <a:stretch/>
        </p:blipFill>
        <p:spPr>
          <a:xfrm>
            <a:off x="4876920" y="19810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91F-31E6-48B9-9945-578102D5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: Rep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0240" y="2332080"/>
            <a:ext cx="33224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538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shows a difference between genders on choosing a partner for re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352680" y="202572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being very selective in their m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interested in mating with an individual that can provide adequate resources for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mating with many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k young, healthy, and fertile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&amp; briefly describe the four stages of the sexual respons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e sex hormones estrogen &amp; testosterone are different in males &amp; fem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3B97-D0E9-4BE2-8CEC-31744A310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ractions of the stom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shburn study-confirmed stomach contractions coincided with h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yAP1e_fig_8a_03.jpg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usation or corre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s who had their stomachs removed continued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cer patients who                                               have had their                                                           stomachs removed                                                  also continu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nger is not                                              not caused by stomach                                         pa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, not exclu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usercontent1.hubimg.com/2838230_f520.jpg"/>
          <p:cNvPicPr/>
          <p:nvPr/>
        </p:nvPicPr>
        <p:blipFill>
          <a:blip r:embed="rId1"/>
          <a:stretch/>
        </p:blipFill>
        <p:spPr>
          <a:xfrm>
            <a:off x="4191120" y="2209680"/>
            <a:ext cx="4952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840" y="1211400"/>
            <a:ext cx="91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unger does NOT                                   come from our                                        stoma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omes from our                                       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4"/>
          <p:cNvSpPr/>
          <p:nvPr/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KKorek\Documents\ABCFiles\2013 Myers AP 2e\Images\ImageJPGs_Module38\ImageJPGs_Module38\MyAP2e_fig_38_02.jpg"/>
          <p:cNvPicPr/>
          <p:nvPr/>
        </p:nvPicPr>
        <p:blipFill>
          <a:blip r:embed="rId1"/>
          <a:stretch/>
        </p:blipFill>
        <p:spPr>
          <a:xfrm>
            <a:off x="4800600" y="1371600"/>
            <a:ext cx="4611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375408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er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9800" y="4394160"/>
            <a:ext cx="4130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it makes you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, you will never be hungry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3000" y="3754080"/>
            <a:ext cx="3870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ntromedi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4381560"/>
            <a:ext cx="35049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you feel fu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 you will never feel full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arbl.cvmbs.colostate.edu/hbooks/pathphys/digestion/pregastric/hypocenters.gif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2941920"/>
          </a:xfrm>
          <a:prstGeom prst="rect">
            <a:avLst/>
          </a:prstGeom>
          <a:ln w="0">
            <a:noFill/>
          </a:ln>
        </p:spPr>
      </p:pic>
      <p:sp>
        <p:nvSpPr>
          <p:cNvPr id="107" name="Title 4"/>
          <p:cNvSpPr/>
          <p:nvPr/>
        </p:nvSpPr>
        <p:spPr>
          <a:xfrm>
            <a:off x="0" y="-5335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Hypothalam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Appetite Hormon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-20520" y="914400"/>
            <a:ext cx="9185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alamus monitors/responds to levels of  appetite hormones i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su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pancreas;                                                      controls blood gluc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empty                               stomach; signals brain “I’m                                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ex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                                 hypothalamus; triggers hu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Y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digestive tract hormone;                                 signals brain “I’m not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pt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secreted by fat cells; causes brain to increase metabolism &amp; decrease hu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657600" cy="449604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2"/>
          <p:cNvSpPr/>
          <p:nvPr/>
        </p:nvSpPr>
        <p:spPr>
          <a:xfrm>
            <a:off x="8077320" y="4419720"/>
            <a:ext cx="325440" cy="0"/>
          </a:xfrm>
          <a:prstGeom prst="line">
            <a:avLst/>
          </a:prstGeom>
          <a:ln cap="rnd" w="27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le 4"/>
          <p:cNvSpPr/>
          <p:nvPr/>
        </p:nvSpPr>
        <p:spPr>
          <a:xfrm>
            <a:off x="0" y="-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ody Chemis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8160" y="121932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rm of sugar that circulates in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the major source of energy for body tissu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low, we feel hungry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ly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too high, we can experience increased fatigue &amp; have difficulty concentrating (among other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glycemia (diabe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the result of our pancreas not metabolizing 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dy Chemistry and the Br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poi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alamus acts as a “thermostat” for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“weight thermostat” is supposedly pre-set at a specific we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ventromedial hypothalamus is activated when you rise over this set point-your brain tells your body you don’t need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lateral hypothalamus is activated when you drop below this se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crease in hunger and a lowered basal metabolic rate may act to restore the lost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24T19:02:16Z</dcterms:modified>
  <cp:revision>267</cp:revision>
  <dc:subject/>
  <dc:title>Slide 1</dc:title>
</cp:coreProperties>
</file>