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0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119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119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0DB0-6AFD-4FDE-9F92-E912CED72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053C-968C-48A3-A6B6-4EF7DDA35A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8A8F-72E9-49C0-B5D6-4E505B3D06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E948-4849-4CAB-A07F-291F4DD956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0BD2-BE0F-456B-B8AE-780F7FA65D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3A34-99DA-4548-9F60-46F4FF598C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5CA6-2F18-41F0-9490-22CAE12BD4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42CD-16C3-48BF-90EF-8109D39001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9A59-37D5-45B4-8ACF-0A85F0BE71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DACC-5822-49A1-9479-AC2BB85D02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05F8-1105-4202-B0E2-1BDFA0A6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3AE-FA67-40DD-8D45-97EBE0C4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7B8A-CDE9-4BA6-951E-9C1BFD94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F8F9-0290-4911-81E0-C1B256E8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E1A6-EAB2-4706-A98E-563A9C9B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F5C6-EF58-478D-BA75-5CAAFA50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4569-C023-40D1-865F-68399242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ED24-55C9-47B0-8EAC-39E8F516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B57C-09B6-42C5-8CD1-EDB4DE2E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5511-12D1-4ACA-9F3E-EB70A54D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F435-A507-43E7-AB97-4DF80767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444-4721-4F0C-8323-AFF9F9BB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EB5F-5B8C-4145-8D79-F70D11B1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45B7-6136-419B-BEDC-9642C39A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DDCE-1332-4080-AAE6-BA8A7838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E685-5937-439B-8DAF-2F9E0AC1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C8CF-1E88-43ED-988E-3EC4C393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00C1-2C93-4CF5-86B6-64781C82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3AD3-DB96-4DDA-8643-628F22B1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486D-31DF-4A2F-86C3-5739A548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DFAE-7307-42A0-8C0E-1B545353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D9F-A2A1-415D-B131-EE9E214A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932-6C9F-4095-B0B5-6B4D079F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F077-348D-46D9-9DAA-5AF86B82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1881-151D-4459-9281-7DDDD05DA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29C9-9570-4889-910D-3FC73773AE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6351-9F6B-4E69-8D42-1DB32C9732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Arial"/>
              </a:rPr>
              <a:t>Motivational Theorie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1828800" y="460836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 Psyc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1707-742C-4A65-A965-42A2555E06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slow’s Hierarchy of Need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needs take priority over oth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ysiological needs are lower &amp; must be met fir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when these needs are met are we prompted to move up the pyram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52280" y="1646280"/>
            <a:ext cx="433872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difference(s) between motivation and instin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your motivation to sign up for AP Psychology? (what theory is supported by this decis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AD64-BEAC-426B-8AB3-592DB4B805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967A-450D-4D96-8E78-75F1F77C0E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Do We Begi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tiv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psychological process that directs and maintains your behavior toward a go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ti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the needs, wants, interests, and desires that propel or drive people in certain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5C40-E8A5-4F4E-8310-F5E8146F62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otivation and Instinc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rocess that energizes and directs behavior; typically is                 lear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biological (nature) or social (nurt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n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behavior that is rigidly patterned throughout a species and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lear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7" descr="Brown_bear_rearing"/>
          <p:cNvPicPr/>
          <p:nvPr/>
        </p:nvPicPr>
        <p:blipFill>
          <a:blip r:embed="rId1"/>
          <a:stretch/>
        </p:blipFill>
        <p:spPr>
          <a:xfrm>
            <a:off x="990720" y="1752480"/>
            <a:ext cx="31906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FDC7-4F27-4A45-A48A-CD164533C6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ological and Social Mo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ological Mo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ret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ocial Mo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hie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l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D9BA-7F2E-4EBC-B072-3EC780B29E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396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stinct Theory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417680"/>
            <a:ext cx="8686800" cy="23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rganisms are born with innate biological tendencies that help them surviv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ncts drive all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ncts are goal-directed and innate patterns of behavi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65720" indent="-153000">
              <a:spcBef>
                <a:spcPts val="601"/>
              </a:spcBef>
              <a:buClr>
                <a:srgbClr val="0088e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the result of learning or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**Replaced by evolutionary 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72080" indent="-15300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ed behavior is likely to have developed because it is adap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BD2B-5BFB-4368-B240-298C3FE737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396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rive Reduction Theory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649160"/>
            <a:ext cx="906768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ological needs create dri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are motivated to reduce dr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age in behaviors that reduce/eliminate dr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ive theory contends that the source of motivation lies within the person (not from the environ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457200" y="4648320"/>
            <a:ext cx="8229600" cy="1313640"/>
            <a:chOff x="457200" y="4648320"/>
            <a:chExt cx="8229600" cy="1313640"/>
          </a:xfrm>
        </p:grpSpPr>
        <p:grpSp>
          <p:nvGrpSpPr>
            <p:cNvPr id="241" name="Group 5"/>
            <p:cNvGrpSpPr/>
            <p:nvPr/>
          </p:nvGrpSpPr>
          <p:grpSpPr>
            <a:xfrm>
              <a:off x="6400800" y="4648320"/>
              <a:ext cx="2286000" cy="1313640"/>
              <a:chOff x="6400800" y="4648320"/>
              <a:chExt cx="2286000" cy="1313640"/>
            </a:xfrm>
          </p:grpSpPr>
          <p:sp>
            <p:nvSpPr>
              <p:cNvPr id="242" name="Rectangle 6"/>
              <p:cNvSpPr/>
              <p:nvPr/>
            </p:nvSpPr>
            <p:spPr>
              <a:xfrm>
                <a:off x="6400800" y="4648320"/>
                <a:ext cx="2286000" cy="106668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6426360" y="4648320"/>
                <a:ext cx="2241360" cy="131364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Drive-reducing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ehavior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eating, drinking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4" name="Rectangle 8"/>
            <p:cNvSpPr/>
            <p:nvPr/>
          </p:nvSpPr>
          <p:spPr>
            <a:xfrm>
              <a:off x="609480" y="4800600"/>
              <a:ext cx="18288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Group 9"/>
            <p:cNvGrpSpPr/>
            <p:nvPr/>
          </p:nvGrpSpPr>
          <p:grpSpPr>
            <a:xfrm>
              <a:off x="457200" y="4648320"/>
              <a:ext cx="2286000" cy="1066680"/>
              <a:chOff x="457200" y="4648320"/>
              <a:chExt cx="2286000" cy="1066680"/>
            </a:xfrm>
          </p:grpSpPr>
          <p:sp>
            <p:nvSpPr>
              <p:cNvPr id="246" name="Rectangle 10"/>
              <p:cNvSpPr/>
              <p:nvPr/>
            </p:nvSpPr>
            <p:spPr>
              <a:xfrm>
                <a:off x="457200" y="4648320"/>
                <a:ext cx="2286000" cy="10666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Text Box 11"/>
              <p:cNvSpPr/>
              <p:nvPr/>
            </p:nvSpPr>
            <p:spPr>
              <a:xfrm>
                <a:off x="760680" y="4659480"/>
                <a:ext cx="1623960" cy="1008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Nee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e.g., fo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food, water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2"/>
            <p:cNvGrpSpPr/>
            <p:nvPr/>
          </p:nvGrpSpPr>
          <p:grpSpPr>
            <a:xfrm>
              <a:off x="3422520" y="4648320"/>
              <a:ext cx="2292120" cy="1066680"/>
              <a:chOff x="3422520" y="4648320"/>
              <a:chExt cx="2292120" cy="1066680"/>
            </a:xfrm>
          </p:grpSpPr>
          <p:sp>
            <p:nvSpPr>
              <p:cNvPr id="249" name="Rectangle 13"/>
              <p:cNvSpPr/>
              <p:nvPr/>
            </p:nvSpPr>
            <p:spPr>
              <a:xfrm>
                <a:off x="3428640" y="4648320"/>
                <a:ext cx="2286000" cy="106668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Text Box 14"/>
              <p:cNvSpPr/>
              <p:nvPr/>
            </p:nvSpPr>
            <p:spPr>
              <a:xfrm>
                <a:off x="3422520" y="4800600"/>
                <a:ext cx="2216160" cy="7038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Driv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hunger, thirst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1" name="Line 15"/>
            <p:cNvSpPr/>
            <p:nvPr/>
          </p:nvSpPr>
          <p:spPr>
            <a:xfrm>
              <a:off x="457200" y="464832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>
              <a:off x="6400800" y="464832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>
              <a:off x="3429000" y="464832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AutoShape 18"/>
            <p:cNvSpPr/>
            <p:nvPr/>
          </p:nvSpPr>
          <p:spPr>
            <a:xfrm>
              <a:off x="2895480" y="4876920"/>
              <a:ext cx="381240" cy="485640"/>
            </a:xfrm>
            <a:prstGeom prst="rightArrow">
              <a:avLst>
                <a:gd name="adj1" fmla="val 41833"/>
                <a:gd name="adj2" fmla="val 5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AutoShape 19"/>
            <p:cNvSpPr/>
            <p:nvPr/>
          </p:nvSpPr>
          <p:spPr>
            <a:xfrm>
              <a:off x="5867280" y="4876920"/>
              <a:ext cx="381240" cy="485640"/>
            </a:xfrm>
            <a:prstGeom prst="rightArrow">
              <a:avLst>
                <a:gd name="adj1" fmla="val 41833"/>
                <a:gd name="adj2" fmla="val 5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D2BF-8A15-46AD-991F-61B8879CA5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iv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1400040"/>
            <a:ext cx="890424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rive is an internal state of tension that motivates us to engage in activities that reduce this te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bodies strive to keep a (somewhat) constant state- Homeost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we HAVE to reduce the drive (dying of thirst, hunger, etc.) – we might not have a cho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**different than Incentives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4A37-7B77-4B28-B4C5-55F1751DB3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58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centiv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can lead us to make choices different than what we may normally ma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Money, Power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s are positive OR negative environmental stimuli that have the ability to motivate behav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incentive theory, motivation comes from the environment around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rnal states of tension push people certain direc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External stimuli pull people in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ertain direc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centives can combine with needs to cause us to feel strongly dri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rousal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ople are motivated to maintain their optimal level of arous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 arousal when it is too 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rease arousal when it is too hi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ulation of arou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Yerkes-Dodson Law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performance                                                      at any task varies with arousal. At                                                           low arousal, we become lethargic                                                     and perform badly. As arousal                                                                  increases, performance also                                                            increases-but only to a point, after                                                 which increasing arousal actually                                              decreases perform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4" descr="stress_graph_sm"/>
          <p:cNvPicPr/>
          <p:nvPr/>
        </p:nvPicPr>
        <p:blipFill>
          <a:blip r:embed="rId1"/>
          <a:stretch/>
        </p:blipFill>
        <p:spPr>
          <a:xfrm>
            <a:off x="5181480" y="2666880"/>
            <a:ext cx="36576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1:36:58Z</dcterms:created>
  <dc:creator>Chris Basich</dc:creator>
  <dc:description/>
  <dc:language>en-US</dc:language>
  <cp:lastModifiedBy>Debes John</cp:lastModifiedBy>
  <cp:lastPrinted>2015-01-21T13:19:44Z</cp:lastPrinted>
  <dcterms:modified xsi:type="dcterms:W3CDTF">2017-01-12T12:51:56Z</dcterms:modified>
  <cp:revision>80</cp:revision>
  <dc:subject/>
  <dc:title>Motivation and Emotion</dc:title>
</cp:coreProperties>
</file>