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0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D7A7-A5D1-4536-A317-5E01C533D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0F3C-523E-41C5-A65B-847FC0072C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AD5E-E0D2-4EC5-8831-0D56552897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659A-8DF7-43B0-A328-568E0C80D2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D66D-D1E4-41B7-84C5-4BC8922AD0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5419-B5CB-44C5-AA76-7C442ADEF8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791F-D075-4D4A-A5D1-2F0DCF9610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5104-C801-4CB7-B3F8-76E91C5B79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D414-628A-4DB8-BFED-50A556FD84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BEC6-3AB3-493E-9488-5F56F906EC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418-A1B0-45A6-82C8-0B610D0B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FB4-EE54-4512-BAAF-518FCDAA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F55-CCA7-4CCA-9031-CB0E60FF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07B-604D-4334-84B0-3C336190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1C90-8628-4032-8840-02401116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2D10-9235-47F3-A963-6F78F861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B233-BFBE-4E13-8714-0427F4FB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5786-A2EE-409F-A3E1-19BCF1D3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976E-163F-4C06-90A5-5103710C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6060-583D-4D70-B85F-5872B651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AD4E-708F-4F94-A20D-CE66D52D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3B4-A000-48A3-B46D-D3B36A59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6AF8-9DF2-4311-87DF-08F03385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EE36-21D7-4705-A3AA-CDF2F593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6E5C-9877-4BA0-9FA1-82FD4D7C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5C51-FD5A-43EF-8298-9CB8942B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DE31-0D4E-46AF-A3E3-9387FEBA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182-9F92-4BE5-9691-034BA65A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CF6-DFCD-42E0-86A6-CF971163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119-CC8D-422E-A2B8-8A1FD03E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31E-CA67-4637-983D-8FD23148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D76-B048-4121-9C4C-CCAAE228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6FC-6729-47D0-BCF0-5A300A47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3D0-74BD-4649-AB22-351DD1D3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8CEA-C781-4773-8C02-82CFF0FDD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6FC7-27C7-4E77-ACC8-FEBD7D3B9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5E18-48F5-4529-8C6F-0439885F93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Arial"/>
              </a:rPr>
              <a:t>Motivational Theorie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828800" y="460836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 Psyc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2D12-D072-41D1-B4E2-1454DC334D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slow’s Hierarchy of Need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needs take priority over oth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ysiological needs are lower &amp; must be met fir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when these needs are met are we prompted to move up the pyram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433872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difference(s) between motivation and instin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your motivation to sign up for AP Psychology? (what theory is supported by this deci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D898-3E5F-47FF-A0B0-A6C4B37F74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114F-59F5-4566-839F-A8808FF490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o We Begi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psychological process that directs and maintains your behavior toward a go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 needs, wants, interests, and desires that propel or drive people in certain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875F-5B1A-4633-A028-D1E95EB693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otivation and Instinc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cess that energizes and directs behavior; typically is                 lear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biological (nature) or social (nur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behavior that is rigidly patterned throughout a species and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lea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Brown_bear_rearing"/>
          <p:cNvPicPr/>
          <p:nvPr/>
        </p:nvPicPr>
        <p:blipFill>
          <a:blip r:embed="rId1"/>
          <a:stretch/>
        </p:blipFill>
        <p:spPr>
          <a:xfrm>
            <a:off x="990720" y="1752480"/>
            <a:ext cx="31906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9B2E-9CFA-4D8E-BDDB-DB894591AD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logical and Social Mo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ological Mo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re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ocial Mo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hie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l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7513-51D9-47CA-AA89-F70161A2C0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396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stinct Theory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417680"/>
            <a:ext cx="8686800" cy="23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rganisms are born with innate biological tendencies that help them survi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s drive all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s are goal-directed and innate patterns of behavi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65720" indent="-153000">
              <a:spcBef>
                <a:spcPts val="601"/>
              </a:spcBef>
              <a:buClr>
                <a:srgbClr val="0088e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he result of learning or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**Replaced by evolutionary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72080" indent="-1530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ed behavior is likely to have developed because it is adap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5285-8CD1-442F-B045-CC9D31C0D9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396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ive Reduction Theory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649160"/>
            <a:ext cx="906768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ological needs create dr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are motivated to reduce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age in behaviors that reduce/eliminate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ive theory contends that the source of motivation lies within the person (not from the environ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457200" y="4648320"/>
            <a:ext cx="8229600" cy="1313640"/>
            <a:chOff x="457200" y="4648320"/>
            <a:chExt cx="8229600" cy="1313640"/>
          </a:xfrm>
        </p:grpSpPr>
        <p:grpSp>
          <p:nvGrpSpPr>
            <p:cNvPr id="241" name="Group 5"/>
            <p:cNvGrpSpPr/>
            <p:nvPr/>
          </p:nvGrpSpPr>
          <p:grpSpPr>
            <a:xfrm>
              <a:off x="6400800" y="4648320"/>
              <a:ext cx="2286000" cy="1313640"/>
              <a:chOff x="6400800" y="4648320"/>
              <a:chExt cx="2286000" cy="1313640"/>
            </a:xfrm>
          </p:grpSpPr>
          <p:sp>
            <p:nvSpPr>
              <p:cNvPr id="242" name="Rectangle 6"/>
              <p:cNvSpPr/>
              <p:nvPr/>
            </p:nvSpPr>
            <p:spPr>
              <a:xfrm>
                <a:off x="6400800" y="4648320"/>
                <a:ext cx="2286000" cy="106668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6426360" y="4648320"/>
                <a:ext cx="2241360" cy="131364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Drive-reducin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ehavior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eating, drinking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Rectangle 8"/>
            <p:cNvSpPr/>
            <p:nvPr/>
          </p:nvSpPr>
          <p:spPr>
            <a:xfrm>
              <a:off x="609480" y="4800600"/>
              <a:ext cx="18288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Group 9"/>
            <p:cNvGrpSpPr/>
            <p:nvPr/>
          </p:nvGrpSpPr>
          <p:grpSpPr>
            <a:xfrm>
              <a:off x="457200" y="4648320"/>
              <a:ext cx="2286000" cy="1066680"/>
              <a:chOff x="457200" y="4648320"/>
              <a:chExt cx="2286000" cy="1066680"/>
            </a:xfrm>
          </p:grpSpPr>
          <p:sp>
            <p:nvSpPr>
              <p:cNvPr id="246" name="Rectangle 10"/>
              <p:cNvSpPr/>
              <p:nvPr/>
            </p:nvSpPr>
            <p:spPr>
              <a:xfrm>
                <a:off x="457200" y="4648320"/>
                <a:ext cx="2286000" cy="10666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Text Box 11"/>
              <p:cNvSpPr/>
              <p:nvPr/>
            </p:nvSpPr>
            <p:spPr>
              <a:xfrm>
                <a:off x="760680" y="4659480"/>
                <a:ext cx="1623960" cy="1008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Nee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e.g., fo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food, water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2"/>
            <p:cNvGrpSpPr/>
            <p:nvPr/>
          </p:nvGrpSpPr>
          <p:grpSpPr>
            <a:xfrm>
              <a:off x="3422520" y="4648320"/>
              <a:ext cx="2292120" cy="1066680"/>
              <a:chOff x="3422520" y="4648320"/>
              <a:chExt cx="2292120" cy="1066680"/>
            </a:xfrm>
          </p:grpSpPr>
          <p:sp>
            <p:nvSpPr>
              <p:cNvPr id="249" name="Rectangle 13"/>
              <p:cNvSpPr/>
              <p:nvPr/>
            </p:nvSpPr>
            <p:spPr>
              <a:xfrm>
                <a:off x="3428640" y="4648320"/>
                <a:ext cx="2286000" cy="10666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Text Box 14"/>
              <p:cNvSpPr/>
              <p:nvPr/>
            </p:nvSpPr>
            <p:spPr>
              <a:xfrm>
                <a:off x="3422520" y="4800600"/>
                <a:ext cx="2216160" cy="7038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Driv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hunger, thirst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Line 15"/>
            <p:cNvSpPr/>
            <p:nvPr/>
          </p:nvSpPr>
          <p:spPr>
            <a:xfrm>
              <a:off x="4572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>
              <a:off x="64008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>
              <a:off x="34290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8"/>
            <p:cNvSpPr/>
            <p:nvPr/>
          </p:nvSpPr>
          <p:spPr>
            <a:xfrm>
              <a:off x="2895480" y="487692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19"/>
            <p:cNvSpPr/>
            <p:nvPr/>
          </p:nvSpPr>
          <p:spPr>
            <a:xfrm>
              <a:off x="5867280" y="487692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8F1C-A958-4972-A37C-7250B87EEF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400040"/>
            <a:ext cx="890424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ive is an internal state of tension that motivates us to engage in activities that reduce this te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bodies strive to keep a (somewhat) constant state- Homeos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we HAVE to reduce the drive (dying of thirst, hunger, etc.) – we might not have a cho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**different than Incentives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8DEF-A967-4B08-B0DC-5081AD0718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58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centiv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can lead us to make choices different than what we may normally ma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Money, Power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 are positive OR negative environmental stimuli that have the ability to motivate behav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incentive theory, motivation comes from the environment around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nal states of tension push people certain direc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External stimuli pull people in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ertain direc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entives can combine with needs to cause us to feel strongly dr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rousal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ople are motivated to maintain their optimal level of arous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 arousal when it is too 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ease arousal when it is too 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ulation of arou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Yerkes-Dodson Law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performance                                                      at any task varies with arousal. At                                                           low arousal, we become lethargic                                                     and perform badly. As arousal                                                                  increases, performance also                                                            increases-but only to a point, after                                                 which increasing arousal actually                                              decreases perform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4" descr="stress_graph_sm"/>
          <p:cNvPicPr/>
          <p:nvPr/>
        </p:nvPicPr>
        <p:blipFill>
          <a:blip r:embed="rId1"/>
          <a:stretch/>
        </p:blipFill>
        <p:spPr>
          <a:xfrm>
            <a:off x="5181480" y="2666880"/>
            <a:ext cx="36576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1:36:58Z</dcterms:created>
  <dc:creator>Chris Basich</dc:creator>
  <dc:description/>
  <dc:language>en-US</dc:language>
  <cp:lastModifiedBy>Debes John</cp:lastModifiedBy>
  <cp:lastPrinted>2015-01-21T13:19:44Z</cp:lastPrinted>
  <dcterms:modified xsi:type="dcterms:W3CDTF">2017-01-12T12:51:56Z</dcterms:modified>
  <cp:revision>80</cp:revision>
  <dc:subject/>
  <dc:title>Motivation and Emotion</dc:title>
</cp:coreProperties>
</file>