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CEC8-AC62-4CCB-8014-0F44995D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C032-BAA0-4C09-BE9A-FD3F649C63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DDB9-7FA4-48E0-9329-5DC92EDC3B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FDB-8E47-4CC6-8219-FFC98AC1F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671C-EA83-4397-A4D4-A33AD9E0FE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511-CA2F-4B37-BDFA-1A781D481B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7D24-799C-4E41-AD1B-C0DE4A937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B86-8774-4D54-AF1A-2460554B33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7FDC-161E-4DB5-8669-603CCBA40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09CC-0934-4BF2-B484-A0E7D0AEE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9F5-6D6D-4FA3-8704-1B3E757D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C49-4210-4797-8114-2A1DC84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692-5B06-41B2-8CE7-FB548667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A12-B1A8-47CF-85B1-C83B51EC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D240-B3D4-4F16-AD7B-60331D42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8E13-F303-4B4A-BB60-400D796E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92CD-04AF-41DB-B997-927D26D2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6AA5-23B9-4940-A18E-DFF531D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DE0B-8D5D-4A78-B6D8-61EC324F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9BD0-8BD0-4CBB-BC50-0C61AD89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8C62-8541-4DA8-B949-7AB29BF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F94-058B-4B95-980B-BD39BAF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9D9-D2DA-4ABC-A75A-DD99F38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5C36-7DCA-4FDC-A8F7-3EADBB4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9428-050D-42D0-83EE-5F8818F2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63F4-9AAA-4C78-890B-A2104C8B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252-7F4B-41A9-A291-1B3B69A4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8BC-F6F0-4423-A2B5-9235522B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E05-A69C-4801-A521-185EF2C7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919-EFC0-41B7-AE34-C34E05E6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5D3-010A-4E4F-87CF-99EB43B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5B4-74C3-48A2-A29A-7FB422D9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AA1-091B-45E1-9A62-534F14AF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4A7-2A40-4056-A93C-31FADC3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C19-981B-4468-840C-100407D30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236-DEAE-4FF4-BD69-2920369C7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2C0F-A494-4F21-8C05-18424EA923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Arial"/>
              </a:rPr>
              <a:t>Motivational Theori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828800" y="460836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 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8A65-F9B4-4511-8094-17B7AF3396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slow’s Hierarchy of Need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needs take priority over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ological needs are lower &amp; must be met fi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when these needs are met are we prompted to move up the pyram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43387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(s) between motivation and instin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your motivation to sign up for AP Psychology? (what theory is supported by this dec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6F84-1E3F-4E7E-90B8-3BE43A6779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4EFD-96E9-4671-8B9D-431E74CD5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Beg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psychological process that directs and maintains your behavior toward a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needs, wants, interests, and desires that propel or drive people in certain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03AB-E3BF-482A-AF5D-062AC9018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vation and Instinc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cess that energizes and directs behavior; typically is                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biological (nature) or social (nur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behavior that is rigidly patterned throughout a species and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Brown_bear_rearing"/>
          <p:cNvPicPr/>
          <p:nvPr/>
        </p:nvPicPr>
        <p:blipFill>
          <a:blip r:embed="rId1"/>
          <a:stretch/>
        </p:blipFill>
        <p:spPr>
          <a:xfrm>
            <a:off x="990720" y="1752480"/>
            <a:ext cx="3190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71BC-8254-40A5-B85F-148DE537EA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logical and Social Mo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ologic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re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ci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3AEC-211F-45AA-8262-7432726531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stinct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rganisms are born with innate biological tendencies that help them surv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drive all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are goal-directed and innate patterns of behavi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spcBef>
                <a:spcPts val="601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he result of learning o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*Replaced by evolutionary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behavior is likely to have developed because it is adap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B6F-65E3-4D60-AA23-272AA60364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ive Reduction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49160"/>
            <a:ext cx="90676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ological needs create dr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re motivated to reduc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age in behaviors that reduce/eliminat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 theory contends that the source of motivation lies within the person (not from the environ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457200" y="4648320"/>
            <a:ext cx="8229600" cy="1313640"/>
            <a:chOff x="457200" y="4648320"/>
            <a:chExt cx="8229600" cy="1313640"/>
          </a:xfrm>
        </p:grpSpPr>
        <p:grpSp>
          <p:nvGrpSpPr>
            <p:cNvPr id="241" name="Group 5"/>
            <p:cNvGrpSpPr/>
            <p:nvPr/>
          </p:nvGrpSpPr>
          <p:grpSpPr>
            <a:xfrm>
              <a:off x="6400800" y="4648320"/>
              <a:ext cx="2286000" cy="1313640"/>
              <a:chOff x="6400800" y="4648320"/>
              <a:chExt cx="2286000" cy="1313640"/>
            </a:xfrm>
          </p:grpSpPr>
          <p:sp>
            <p:nvSpPr>
              <p:cNvPr id="242" name="Rectangle 6"/>
              <p:cNvSpPr/>
              <p:nvPr/>
            </p:nvSpPr>
            <p:spPr>
              <a:xfrm>
                <a:off x="6400800" y="464832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6426360" y="464832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Rectangle 8"/>
            <p:cNvSpPr/>
            <p:nvPr/>
          </p:nvSpPr>
          <p:spPr>
            <a:xfrm>
              <a:off x="609480" y="480060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9"/>
            <p:cNvGrpSpPr/>
            <p:nvPr/>
          </p:nvGrpSpPr>
          <p:grpSpPr>
            <a:xfrm>
              <a:off x="457200" y="4648320"/>
              <a:ext cx="2286000" cy="1066680"/>
              <a:chOff x="457200" y="4648320"/>
              <a:chExt cx="2286000" cy="1066680"/>
            </a:xfrm>
          </p:grpSpPr>
          <p:sp>
            <p:nvSpPr>
              <p:cNvPr id="246" name="Rectangle 10"/>
              <p:cNvSpPr/>
              <p:nvPr/>
            </p:nvSpPr>
            <p:spPr>
              <a:xfrm>
                <a:off x="457200" y="464832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 Box 11"/>
              <p:cNvSpPr/>
              <p:nvPr/>
            </p:nvSpPr>
            <p:spPr>
              <a:xfrm>
                <a:off x="760680" y="465948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2"/>
            <p:cNvGrpSpPr/>
            <p:nvPr/>
          </p:nvGrpSpPr>
          <p:grpSpPr>
            <a:xfrm>
              <a:off x="3422520" y="4648320"/>
              <a:ext cx="2292120" cy="1066680"/>
              <a:chOff x="3422520" y="4648320"/>
              <a:chExt cx="2292120" cy="10666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3428640" y="464832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14"/>
              <p:cNvSpPr/>
              <p:nvPr/>
            </p:nvSpPr>
            <p:spPr>
              <a:xfrm>
                <a:off x="3422520" y="480060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15"/>
            <p:cNvSpPr/>
            <p:nvPr/>
          </p:nvSpPr>
          <p:spPr>
            <a:xfrm>
              <a:off x="4572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4008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4290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28954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58672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456-3F36-4842-BE36-28FD5CCC0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14880" y="1600200"/>
            <a:ext cx="58291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ive is an internal state of tension that motivates us to engage in activities that reduce this 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bodies strive to keep a (somewhat) constant state-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HAVE to reduce the drive (dying of thirst, hunger, etc.) – we might not have a ch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an lead us to make choices different than what we may normally m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oney, Pow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money1"/>
          <p:cNvPicPr/>
          <p:nvPr/>
        </p:nvPicPr>
        <p:blipFill>
          <a:blip r:embed="rId1"/>
          <a:stretch/>
        </p:blipFill>
        <p:spPr>
          <a:xfrm>
            <a:off x="457200" y="16002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9F85-F499-4257-A918-0A5EC45D0E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en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are positive OR negative environmental stimuli that have the ability to motivat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incentive theory, motivation comes from the environment aroun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Internal states of ten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 people certain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External stimuli pull people 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can combine with needs to cause us to feel strongly dr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6" descr="pushpop_small"/>
          <p:cNvPicPr/>
          <p:nvPr/>
        </p:nvPicPr>
        <p:blipFill>
          <a:blip r:embed="rId1"/>
          <a:stretch/>
        </p:blipFill>
        <p:spPr>
          <a:xfrm>
            <a:off x="190440" y="1620720"/>
            <a:ext cx="29336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ousal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are motivated to maintain their optimal level of arous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arousal when it is too 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e arousal when it is too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ulation of arou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erkes-Dodson La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performance                                                      at any task varies with arousal. At                                                           low arousal, we become lethargic                                                     and perform badly. As arousal                                                                  increases, performance also                                                            increases-but only to a point, after                                                 which increasing arousal actually                                              decreases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tress_graph_sm"/>
          <p:cNvPicPr/>
          <p:nvPr/>
        </p:nvPicPr>
        <p:blipFill>
          <a:blip r:embed="rId1"/>
          <a:stretch/>
        </p:blipFill>
        <p:spPr>
          <a:xfrm>
            <a:off x="5181480" y="266688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36:58Z</dcterms:created>
  <dc:creator>Chris Basich</dc:creator>
  <dc:description/>
  <dc:language>en-US</dc:language>
  <cp:lastModifiedBy>Debes John</cp:lastModifiedBy>
  <cp:lastPrinted>2015-01-21T13:19:44Z</cp:lastPrinted>
  <dcterms:modified xsi:type="dcterms:W3CDTF">2016-01-25T14:13:39Z</dcterms:modified>
  <cp:revision>79</cp:revision>
  <dc:subject/>
  <dc:title>Motivation and Emotion</dc:title>
</cp:coreProperties>
</file>